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31D6-E394-433E-A27F-E8A8E2447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021F-EE70-49CE-A160-5A6B3795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7E81-10F3-4B98-B4BF-54C73C333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C3EB-20C7-4439-86A2-AEEF8C74E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163E-9472-4A3A-912B-5EA976F4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7142-16F7-4805-B907-4D332212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6968-279C-499E-B5FF-81EC2DA1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781E-EF29-4FF0-935A-04704B3B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2874-EE0E-42BD-973A-CDFF0842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0CB0-3F89-4E7B-8DEB-C98BD0DB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BBCF-9ADB-41D5-AAB4-41BD8812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1C44-1339-44A5-8000-4F01F465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C55A-613B-40EB-B28A-C6217F0DB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7;&#1077;&#1089;&#1085;&#1103;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228600"/>
            <a:ext cx="6781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азветвляющийся алгоритм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 rot="21349200">
            <a:off x="3962520" y="266652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юда пойдешь – клад найдеш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440400">
            <a:off x="3124080" y="228600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юда пойдешь – жену найдеш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310800">
            <a:off x="3885840" y="373392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юда пойдешь – мегабайт найдеш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8058240" y="61498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9" h="21600">
                <a:moveTo>
                  <a:pt x="12413" y="3794"/>
                </a:moveTo>
                <a:lnTo>
                  <a:pt x="26426" y="10800"/>
                </a:lnTo>
                <a:lnTo>
                  <a:pt x="12413" y="17806"/>
                </a:lnTo>
                <a:close/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ff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1295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14200"/>
            <a:ext cx="2390760" cy="6643800"/>
          </a:xfrm>
          <a:prstGeom prst="rect">
            <a:avLst/>
          </a:prstGeom>
          <a:gradFill rotWithShape="0">
            <a:gsLst>
              <a:gs pos="0">
                <a:srgbClr val="3bcdfb"/>
              </a:gs>
              <a:gs pos="100000">
                <a:srgbClr val="3333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09680" y="214200"/>
            <a:ext cx="225432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Первый блок – это всегда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НАЧАЛО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54440" y="270000"/>
            <a:ext cx="2133720" cy="304560"/>
          </a:xfrm>
          <a:prstGeom prst="flowChartTerminator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73680" y="6080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9680" y="714240"/>
            <a:ext cx="19047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ff"/>
                </a:solidFill>
                <a:latin typeface="Comic Sans MS"/>
              </a:rPr>
              <a:t>Стрелки показывают направление перехода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19720" y="914400"/>
            <a:ext cx="2819160" cy="436680"/>
          </a:xfrm>
          <a:prstGeom prst="flowChartInputOutpu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Города, се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809880" y="1806480"/>
            <a:ext cx="991440" cy="839160"/>
            <a:chOff x="3809880" y="1806480"/>
            <a:chExt cx="991440" cy="839160"/>
          </a:xfrm>
        </p:grpSpPr>
        <p:sp>
          <p:nvSpPr>
            <p:cNvPr id="240" name=""/>
            <p:cNvSpPr/>
            <p:nvPr/>
          </p:nvSpPr>
          <p:spPr>
            <a:xfrm flipH="1" flipV="1">
              <a:off x="3809880" y="2111400"/>
              <a:ext cx="866880" cy="53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16586" y="21600"/>
                  </a:lnTo>
                  <a:lnTo>
                    <a:pt x="16586" y="3801"/>
                  </a:lnTo>
                  <a:lnTo>
                    <a:pt x="11572" y="3801"/>
                  </a:lnTo>
                  <a:lnTo>
                    <a:pt x="16586" y="0"/>
                  </a:lnTo>
                  <a:lnTo>
                    <a:pt x="21600" y="3801"/>
                  </a:lnTo>
                  <a:lnTo>
                    <a:pt x="16586" y="3801"/>
                  </a:lnTo>
                  <a:lnTo>
                    <a:pt x="1658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934440" y="1806480"/>
              <a:ext cx="866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Д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791320" y="13510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76760" y="1655640"/>
            <a:ext cx="2228760" cy="914400"/>
          </a:xfrm>
          <a:prstGeom prst="flowChartDecision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Есть зим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6905520" y="1806480"/>
            <a:ext cx="866520" cy="839160"/>
            <a:chOff x="6905520" y="1806480"/>
            <a:chExt cx="866520" cy="839160"/>
          </a:xfrm>
        </p:grpSpPr>
        <p:sp>
          <p:nvSpPr>
            <p:cNvPr id="245" name=""/>
            <p:cNvSpPr/>
            <p:nvPr/>
          </p:nvSpPr>
          <p:spPr>
            <a:xfrm flipV="1">
              <a:off x="6905520" y="2111400"/>
              <a:ext cx="866520" cy="53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16586" y="21600"/>
                  </a:lnTo>
                  <a:lnTo>
                    <a:pt x="16586" y="5007"/>
                  </a:lnTo>
                  <a:lnTo>
                    <a:pt x="11572" y="5007"/>
                  </a:lnTo>
                  <a:lnTo>
                    <a:pt x="16586" y="0"/>
                  </a:lnTo>
                  <a:lnTo>
                    <a:pt x="21600" y="5007"/>
                  </a:lnTo>
                  <a:lnTo>
                    <a:pt x="16586" y="5007"/>
                  </a:lnTo>
                  <a:lnTo>
                    <a:pt x="1658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05520" y="1806480"/>
              <a:ext cx="8665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НЕ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409680" y="1216080"/>
            <a:ext cx="17762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Города и села – это исходные данные!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1676520"/>
            <a:ext cx="177660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mic Sans MS"/>
              </a:rPr>
              <a:t>Проверяем -  там есть зима</a:t>
            </a: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2133720"/>
            <a:ext cx="19126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Comic Sans MS"/>
              </a:rPr>
              <a:t>Если</a:t>
            </a: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 ДА, </a:t>
            </a:r>
            <a:r>
              <a:rPr b="1" lang="en-US" sz="1100" spc="-1" strike="noStrike">
                <a:solidFill>
                  <a:srgbClr val="ff0000"/>
                </a:solidFill>
                <a:latin typeface="Comic Sans MS"/>
              </a:rPr>
              <a:t>то</a:t>
            </a: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: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5486400"/>
            <a:ext cx="17762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НЕ знать нам веселья!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6019920"/>
            <a:ext cx="177660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mic Sans MS"/>
              </a:rPr>
              <a:t>В любом случае </a:t>
            </a: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1" lang="ru-RU" sz="1100" spc="-1" strike="noStrike">
                <a:solidFill>
                  <a:srgbClr val="000000"/>
                </a:solidFill>
                <a:latin typeface="Comic Sans MS"/>
              </a:rPr>
              <a:t>КОНЕЦ!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1280" y="714240"/>
            <a:ext cx="184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1280" y="1144440"/>
            <a:ext cx="184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1676520"/>
            <a:ext cx="184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3962520"/>
            <a:ext cx="184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5791320"/>
            <a:ext cx="184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467560" y="5864400"/>
            <a:ext cx="478080" cy="714240"/>
          </a:xfrm>
          <a:custGeom>
            <a:avLst/>
            <a:gdLst>
              <a:gd name="textAreaLeft" fmla="*/ 30960 w 478080"/>
              <a:gd name="textAreaRight" fmla="*/ 447120 w 478080"/>
              <a:gd name="textAreaTop" fmla="*/ 30960 h 714240"/>
              <a:gd name="textAreaBottom" fmla="*/ 683280 h 714240"/>
            </a:gdLst>
            <a:ahLst/>
            <a:rect l="textAreaLeft" t="textAreaTop" r="textAreaRight" b="textAreaBottom"/>
            <a:pathLst>
              <a:path w="21600" h="32262">
                <a:moveTo>
                  <a:pt x="0" y="0"/>
                </a:moveTo>
                <a:lnTo>
                  <a:pt x="21600" y="0"/>
                </a:lnTo>
                <a:lnTo>
                  <a:pt x="21600" y="32262"/>
                </a:lnTo>
                <a:lnTo>
                  <a:pt x="0" y="32262"/>
                </a:lnTo>
                <a:close/>
              </a:path>
              <a:path fill="lightenLess" w="21600" h="322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262">
                <a:moveTo>
                  <a:pt x="21600" y="0"/>
                </a:moveTo>
                <a:lnTo>
                  <a:pt x="21600" y="32262"/>
                </a:lnTo>
                <a:lnTo>
                  <a:pt x="20200" y="30862"/>
                </a:lnTo>
                <a:lnTo>
                  <a:pt x="20200" y="1400"/>
                </a:lnTo>
                <a:close/>
              </a:path>
              <a:path fill="darkenLess" w="21600" h="32262">
                <a:moveTo>
                  <a:pt x="21600" y="32262"/>
                </a:moveTo>
                <a:lnTo>
                  <a:pt x="0" y="32262"/>
                </a:lnTo>
                <a:lnTo>
                  <a:pt x="1400" y="30862"/>
                </a:lnTo>
                <a:lnTo>
                  <a:pt x="20200" y="30862"/>
                </a:lnTo>
                <a:close/>
              </a:path>
              <a:path fill="lighten" w="21600" h="32262">
                <a:moveTo>
                  <a:pt x="0" y="32262"/>
                </a:moveTo>
                <a:lnTo>
                  <a:pt x="0" y="0"/>
                </a:lnTo>
                <a:lnTo>
                  <a:pt x="1400" y="1400"/>
                </a:lnTo>
                <a:lnTo>
                  <a:pt x="1400" y="30862"/>
                </a:lnTo>
                <a:close/>
              </a:path>
              <a:path fill="darken" w="21600" h="32262">
                <a:moveTo>
                  <a:pt x="10800" y="9168"/>
                </a:moveTo>
                <a:lnTo>
                  <a:pt x="13376" y="11779"/>
                </a:lnTo>
                <a:lnTo>
                  <a:pt x="13376" y="10038"/>
                </a:lnTo>
                <a:lnTo>
                  <a:pt x="15152" y="10038"/>
                </a:lnTo>
                <a:lnTo>
                  <a:pt x="15152" y="13555"/>
                </a:lnTo>
                <a:lnTo>
                  <a:pt x="17763" y="16131"/>
                </a:lnTo>
                <a:lnTo>
                  <a:pt x="16109" y="16131"/>
                </a:lnTo>
                <a:lnTo>
                  <a:pt x="16109" y="23320"/>
                </a:lnTo>
                <a:lnTo>
                  <a:pt x="5491" y="23320"/>
                </a:lnTo>
                <a:lnTo>
                  <a:pt x="5491" y="16131"/>
                </a:lnTo>
                <a:lnTo>
                  <a:pt x="3837" y="16131"/>
                </a:lnTo>
                <a:close/>
              </a:path>
              <a:path fill="darkenLess" w="21600" h="32262">
                <a:moveTo>
                  <a:pt x="13376" y="11779"/>
                </a:moveTo>
                <a:lnTo>
                  <a:pt x="13376" y="10038"/>
                </a:lnTo>
                <a:lnTo>
                  <a:pt x="15152" y="10038"/>
                </a:lnTo>
                <a:lnTo>
                  <a:pt x="15152" y="13555"/>
                </a:lnTo>
                <a:close/>
              </a:path>
              <a:path fill="darkenLess" w="21600" h="32262">
                <a:moveTo>
                  <a:pt x="9877" y="19630"/>
                </a:moveTo>
                <a:lnTo>
                  <a:pt x="11723" y="19630"/>
                </a:lnTo>
                <a:lnTo>
                  <a:pt x="11723" y="23320"/>
                </a:lnTo>
                <a:lnTo>
                  <a:pt x="16109" y="23320"/>
                </a:lnTo>
                <a:lnTo>
                  <a:pt x="16109" y="16131"/>
                </a:lnTo>
                <a:lnTo>
                  <a:pt x="5491" y="16131"/>
                </a:lnTo>
                <a:lnTo>
                  <a:pt x="5491" y="23320"/>
                </a:lnTo>
                <a:lnTo>
                  <a:pt x="9877" y="23320"/>
                </a:lnTo>
                <a:close/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ff66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3352680"/>
            <a:ext cx="19126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- мы знаем веселые дни (это результат!),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4920" y="2362320"/>
            <a:ext cx="19126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- малышня кружит возле снежной бабы,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2895480"/>
            <a:ext cx="19126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- лыжня петляет;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4114800"/>
            <a:ext cx="191268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Comic Sans MS"/>
              </a:rPr>
              <a:t>иначе</a:t>
            </a: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 (стрелка НЕТ)…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4419720"/>
            <a:ext cx="19126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- малышня НЕ кружит возле снежной бабы,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880" y="4952880"/>
            <a:ext cx="19130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- лыжня НЕ петляет;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238560" y="2692440"/>
            <a:ext cx="1485720" cy="965160"/>
            <a:chOff x="3238560" y="2692440"/>
            <a:chExt cx="1485720" cy="965160"/>
          </a:xfrm>
        </p:grpSpPr>
        <p:grpSp>
          <p:nvGrpSpPr>
            <p:cNvPr id="265" name=""/>
            <p:cNvGrpSpPr/>
            <p:nvPr/>
          </p:nvGrpSpPr>
          <p:grpSpPr>
            <a:xfrm>
              <a:off x="3238560" y="2692440"/>
              <a:ext cx="1485720" cy="965160"/>
              <a:chOff x="3238560" y="2692440"/>
              <a:chExt cx="1485720" cy="965160"/>
            </a:xfrm>
          </p:grpSpPr>
          <p:sp>
            <p:nvSpPr>
              <p:cNvPr id="266" name=""/>
              <p:cNvSpPr/>
              <p:nvPr/>
            </p:nvSpPr>
            <p:spPr>
              <a:xfrm>
                <a:off x="3238560" y="2692440"/>
                <a:ext cx="1485720" cy="965160"/>
              </a:xfrm>
              <a:prstGeom prst="flowChartProcess">
                <a:avLst/>
              </a:prstGeom>
              <a:solidFill>
                <a:srgbClr val="ffffff"/>
              </a:solidFill>
              <a:ln w="76320">
                <a:solidFill>
                  <a:srgbClr val="3333cc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450600" y="3235320"/>
                <a:ext cx="203040" cy="193320"/>
              </a:xfrm>
              <a:custGeom>
                <a:avLst/>
                <a:gdLst/>
                <a:ahLst/>
                <a:rect l="l" t="t" r="r" b="b"/>
                <a:pathLst>
                  <a:path w="416" h="460">
                    <a:moveTo>
                      <a:pt x="285" y="104"/>
                    </a:moveTo>
                    <a:lnTo>
                      <a:pt x="319" y="73"/>
                    </a:lnTo>
                    <a:lnTo>
                      <a:pt x="354" y="51"/>
                    </a:lnTo>
                    <a:lnTo>
                      <a:pt x="383" y="41"/>
                    </a:lnTo>
                    <a:lnTo>
                      <a:pt x="381" y="24"/>
                    </a:lnTo>
                    <a:lnTo>
                      <a:pt x="382" y="18"/>
                    </a:lnTo>
                    <a:lnTo>
                      <a:pt x="382" y="13"/>
                    </a:lnTo>
                    <a:lnTo>
                      <a:pt x="383" y="6"/>
                    </a:lnTo>
                    <a:lnTo>
                      <a:pt x="389" y="4"/>
                    </a:lnTo>
                    <a:lnTo>
                      <a:pt x="395" y="0"/>
                    </a:lnTo>
                    <a:lnTo>
                      <a:pt x="399" y="0"/>
                    </a:lnTo>
                    <a:lnTo>
                      <a:pt x="404" y="0"/>
                    </a:lnTo>
                    <a:lnTo>
                      <a:pt x="408" y="6"/>
                    </a:lnTo>
                    <a:lnTo>
                      <a:pt x="414" y="9"/>
                    </a:lnTo>
                    <a:lnTo>
                      <a:pt x="416" y="14"/>
                    </a:lnTo>
                    <a:lnTo>
                      <a:pt x="416" y="20"/>
                    </a:lnTo>
                    <a:lnTo>
                      <a:pt x="416" y="25"/>
                    </a:lnTo>
                    <a:lnTo>
                      <a:pt x="416" y="30"/>
                    </a:lnTo>
                    <a:lnTo>
                      <a:pt x="416" y="34"/>
                    </a:lnTo>
                    <a:lnTo>
                      <a:pt x="412" y="41"/>
                    </a:lnTo>
                    <a:lnTo>
                      <a:pt x="407" y="45"/>
                    </a:lnTo>
                    <a:lnTo>
                      <a:pt x="404" y="49"/>
                    </a:lnTo>
                    <a:lnTo>
                      <a:pt x="393" y="94"/>
                    </a:lnTo>
                    <a:lnTo>
                      <a:pt x="383" y="140"/>
                    </a:lnTo>
                    <a:lnTo>
                      <a:pt x="363" y="174"/>
                    </a:lnTo>
                    <a:lnTo>
                      <a:pt x="340" y="200"/>
                    </a:lnTo>
                    <a:lnTo>
                      <a:pt x="321" y="214"/>
                    </a:lnTo>
                    <a:lnTo>
                      <a:pt x="311" y="238"/>
                    </a:lnTo>
                    <a:lnTo>
                      <a:pt x="299" y="276"/>
                    </a:lnTo>
                    <a:lnTo>
                      <a:pt x="289" y="296"/>
                    </a:lnTo>
                    <a:lnTo>
                      <a:pt x="266" y="313"/>
                    </a:lnTo>
                    <a:lnTo>
                      <a:pt x="285" y="405"/>
                    </a:lnTo>
                    <a:lnTo>
                      <a:pt x="289" y="407"/>
                    </a:lnTo>
                    <a:lnTo>
                      <a:pt x="296" y="408"/>
                    </a:lnTo>
                    <a:lnTo>
                      <a:pt x="303" y="411"/>
                    </a:lnTo>
                    <a:lnTo>
                      <a:pt x="308" y="414"/>
                    </a:lnTo>
                    <a:lnTo>
                      <a:pt x="311" y="419"/>
                    </a:lnTo>
                    <a:lnTo>
                      <a:pt x="313" y="426"/>
                    </a:lnTo>
                    <a:lnTo>
                      <a:pt x="317" y="430"/>
                    </a:lnTo>
                    <a:lnTo>
                      <a:pt x="317" y="435"/>
                    </a:lnTo>
                    <a:lnTo>
                      <a:pt x="315" y="440"/>
                    </a:lnTo>
                    <a:lnTo>
                      <a:pt x="313" y="446"/>
                    </a:lnTo>
                    <a:lnTo>
                      <a:pt x="308" y="447"/>
                    </a:lnTo>
                    <a:lnTo>
                      <a:pt x="303" y="447"/>
                    </a:lnTo>
                    <a:lnTo>
                      <a:pt x="296" y="447"/>
                    </a:lnTo>
                    <a:lnTo>
                      <a:pt x="289" y="446"/>
                    </a:lnTo>
                    <a:lnTo>
                      <a:pt x="287" y="440"/>
                    </a:lnTo>
                    <a:lnTo>
                      <a:pt x="281" y="436"/>
                    </a:lnTo>
                    <a:lnTo>
                      <a:pt x="275" y="432"/>
                    </a:lnTo>
                    <a:lnTo>
                      <a:pt x="268" y="430"/>
                    </a:lnTo>
                    <a:lnTo>
                      <a:pt x="239" y="312"/>
                    </a:lnTo>
                    <a:lnTo>
                      <a:pt x="234" y="311"/>
                    </a:lnTo>
                    <a:lnTo>
                      <a:pt x="229" y="311"/>
                    </a:lnTo>
                    <a:lnTo>
                      <a:pt x="223" y="312"/>
                    </a:lnTo>
                    <a:lnTo>
                      <a:pt x="233" y="411"/>
                    </a:lnTo>
                    <a:lnTo>
                      <a:pt x="236" y="414"/>
                    </a:lnTo>
                    <a:lnTo>
                      <a:pt x="243" y="419"/>
                    </a:lnTo>
                    <a:lnTo>
                      <a:pt x="247" y="423"/>
                    </a:lnTo>
                    <a:lnTo>
                      <a:pt x="254" y="426"/>
                    </a:lnTo>
                    <a:lnTo>
                      <a:pt x="258" y="432"/>
                    </a:lnTo>
                    <a:lnTo>
                      <a:pt x="260" y="436"/>
                    </a:lnTo>
                    <a:lnTo>
                      <a:pt x="260" y="442"/>
                    </a:lnTo>
                    <a:lnTo>
                      <a:pt x="260" y="447"/>
                    </a:lnTo>
                    <a:lnTo>
                      <a:pt x="255" y="449"/>
                    </a:lnTo>
                    <a:lnTo>
                      <a:pt x="250" y="453"/>
                    </a:lnTo>
                    <a:lnTo>
                      <a:pt x="240" y="453"/>
                    </a:lnTo>
                    <a:lnTo>
                      <a:pt x="236" y="453"/>
                    </a:lnTo>
                    <a:lnTo>
                      <a:pt x="229" y="453"/>
                    </a:lnTo>
                    <a:lnTo>
                      <a:pt x="225" y="447"/>
                    </a:lnTo>
                    <a:lnTo>
                      <a:pt x="222" y="442"/>
                    </a:lnTo>
                    <a:lnTo>
                      <a:pt x="219" y="436"/>
                    </a:lnTo>
                    <a:lnTo>
                      <a:pt x="215" y="432"/>
                    </a:lnTo>
                    <a:lnTo>
                      <a:pt x="215" y="426"/>
                    </a:lnTo>
                    <a:lnTo>
                      <a:pt x="210" y="423"/>
                    </a:lnTo>
                    <a:lnTo>
                      <a:pt x="210" y="418"/>
                    </a:lnTo>
                    <a:lnTo>
                      <a:pt x="195" y="307"/>
                    </a:lnTo>
                    <a:lnTo>
                      <a:pt x="143" y="308"/>
                    </a:lnTo>
                    <a:lnTo>
                      <a:pt x="135" y="305"/>
                    </a:lnTo>
                    <a:lnTo>
                      <a:pt x="135" y="308"/>
                    </a:lnTo>
                    <a:lnTo>
                      <a:pt x="137" y="379"/>
                    </a:lnTo>
                    <a:lnTo>
                      <a:pt x="141" y="383"/>
                    </a:lnTo>
                    <a:lnTo>
                      <a:pt x="145" y="390"/>
                    </a:lnTo>
                    <a:lnTo>
                      <a:pt x="149" y="391"/>
                    </a:lnTo>
                    <a:lnTo>
                      <a:pt x="156" y="393"/>
                    </a:lnTo>
                    <a:lnTo>
                      <a:pt x="160" y="397"/>
                    </a:lnTo>
                    <a:lnTo>
                      <a:pt x="162" y="402"/>
                    </a:lnTo>
                    <a:lnTo>
                      <a:pt x="164" y="407"/>
                    </a:lnTo>
                    <a:lnTo>
                      <a:pt x="164" y="412"/>
                    </a:lnTo>
                    <a:lnTo>
                      <a:pt x="160" y="415"/>
                    </a:lnTo>
                    <a:lnTo>
                      <a:pt x="153" y="419"/>
                    </a:lnTo>
                    <a:lnTo>
                      <a:pt x="149" y="423"/>
                    </a:lnTo>
                    <a:lnTo>
                      <a:pt x="143" y="423"/>
                    </a:lnTo>
                    <a:lnTo>
                      <a:pt x="137" y="419"/>
                    </a:lnTo>
                    <a:lnTo>
                      <a:pt x="132" y="418"/>
                    </a:lnTo>
                    <a:lnTo>
                      <a:pt x="124" y="415"/>
                    </a:lnTo>
                    <a:lnTo>
                      <a:pt x="119" y="412"/>
                    </a:lnTo>
                    <a:lnTo>
                      <a:pt x="115" y="407"/>
                    </a:lnTo>
                    <a:lnTo>
                      <a:pt x="115" y="402"/>
                    </a:lnTo>
                    <a:lnTo>
                      <a:pt x="113" y="397"/>
                    </a:lnTo>
                    <a:lnTo>
                      <a:pt x="113" y="391"/>
                    </a:lnTo>
                    <a:lnTo>
                      <a:pt x="104" y="316"/>
                    </a:lnTo>
                    <a:lnTo>
                      <a:pt x="100" y="320"/>
                    </a:lnTo>
                    <a:lnTo>
                      <a:pt x="96" y="326"/>
                    </a:lnTo>
                    <a:lnTo>
                      <a:pt x="90" y="329"/>
                    </a:lnTo>
                    <a:lnTo>
                      <a:pt x="87" y="334"/>
                    </a:lnTo>
                    <a:lnTo>
                      <a:pt x="82" y="340"/>
                    </a:lnTo>
                    <a:lnTo>
                      <a:pt x="78" y="345"/>
                    </a:lnTo>
                    <a:lnTo>
                      <a:pt x="78" y="352"/>
                    </a:lnTo>
                    <a:lnTo>
                      <a:pt x="78" y="356"/>
                    </a:lnTo>
                    <a:lnTo>
                      <a:pt x="75" y="364"/>
                    </a:lnTo>
                    <a:lnTo>
                      <a:pt x="78" y="370"/>
                    </a:lnTo>
                    <a:lnTo>
                      <a:pt x="78" y="375"/>
                    </a:lnTo>
                    <a:lnTo>
                      <a:pt x="79" y="382"/>
                    </a:lnTo>
                    <a:lnTo>
                      <a:pt x="82" y="387"/>
                    </a:lnTo>
                    <a:lnTo>
                      <a:pt x="82" y="393"/>
                    </a:lnTo>
                    <a:lnTo>
                      <a:pt x="82" y="398"/>
                    </a:lnTo>
                    <a:lnTo>
                      <a:pt x="84" y="403"/>
                    </a:lnTo>
                    <a:lnTo>
                      <a:pt x="87" y="408"/>
                    </a:lnTo>
                    <a:lnTo>
                      <a:pt x="90" y="414"/>
                    </a:lnTo>
                    <a:lnTo>
                      <a:pt x="96" y="415"/>
                    </a:lnTo>
                    <a:lnTo>
                      <a:pt x="100" y="415"/>
                    </a:lnTo>
                    <a:lnTo>
                      <a:pt x="107" y="419"/>
                    </a:lnTo>
                    <a:lnTo>
                      <a:pt x="111" y="422"/>
                    </a:lnTo>
                    <a:lnTo>
                      <a:pt x="113" y="426"/>
                    </a:lnTo>
                    <a:lnTo>
                      <a:pt x="116" y="432"/>
                    </a:lnTo>
                    <a:lnTo>
                      <a:pt x="119" y="436"/>
                    </a:lnTo>
                    <a:lnTo>
                      <a:pt x="116" y="442"/>
                    </a:lnTo>
                    <a:lnTo>
                      <a:pt x="115" y="447"/>
                    </a:lnTo>
                    <a:lnTo>
                      <a:pt x="109" y="453"/>
                    </a:lnTo>
                    <a:lnTo>
                      <a:pt x="104" y="456"/>
                    </a:lnTo>
                    <a:lnTo>
                      <a:pt x="99" y="460"/>
                    </a:lnTo>
                    <a:lnTo>
                      <a:pt x="94" y="457"/>
                    </a:lnTo>
                    <a:lnTo>
                      <a:pt x="87" y="453"/>
                    </a:lnTo>
                    <a:lnTo>
                      <a:pt x="82" y="449"/>
                    </a:lnTo>
                    <a:lnTo>
                      <a:pt x="75" y="444"/>
                    </a:lnTo>
                    <a:lnTo>
                      <a:pt x="72" y="439"/>
                    </a:lnTo>
                    <a:lnTo>
                      <a:pt x="68" y="432"/>
                    </a:lnTo>
                    <a:lnTo>
                      <a:pt x="66" y="428"/>
                    </a:lnTo>
                    <a:lnTo>
                      <a:pt x="62" y="423"/>
                    </a:lnTo>
                    <a:lnTo>
                      <a:pt x="62" y="415"/>
                    </a:lnTo>
                    <a:lnTo>
                      <a:pt x="58" y="408"/>
                    </a:lnTo>
                    <a:lnTo>
                      <a:pt x="58" y="403"/>
                    </a:lnTo>
                    <a:lnTo>
                      <a:pt x="58" y="398"/>
                    </a:lnTo>
                    <a:lnTo>
                      <a:pt x="54" y="393"/>
                    </a:lnTo>
                    <a:lnTo>
                      <a:pt x="54" y="387"/>
                    </a:lnTo>
                    <a:lnTo>
                      <a:pt x="54" y="382"/>
                    </a:lnTo>
                    <a:lnTo>
                      <a:pt x="54" y="377"/>
                    </a:lnTo>
                    <a:lnTo>
                      <a:pt x="54" y="373"/>
                    </a:lnTo>
                    <a:lnTo>
                      <a:pt x="54" y="366"/>
                    </a:lnTo>
                    <a:lnTo>
                      <a:pt x="54" y="361"/>
                    </a:lnTo>
                    <a:lnTo>
                      <a:pt x="54" y="356"/>
                    </a:lnTo>
                    <a:lnTo>
                      <a:pt x="54" y="352"/>
                    </a:lnTo>
                    <a:lnTo>
                      <a:pt x="54" y="345"/>
                    </a:lnTo>
                    <a:lnTo>
                      <a:pt x="54" y="340"/>
                    </a:lnTo>
                    <a:lnTo>
                      <a:pt x="54" y="334"/>
                    </a:lnTo>
                    <a:lnTo>
                      <a:pt x="54" y="329"/>
                    </a:lnTo>
                    <a:lnTo>
                      <a:pt x="54" y="324"/>
                    </a:lnTo>
                    <a:lnTo>
                      <a:pt x="75" y="288"/>
                    </a:lnTo>
                    <a:lnTo>
                      <a:pt x="71" y="282"/>
                    </a:lnTo>
                    <a:lnTo>
                      <a:pt x="66" y="278"/>
                    </a:lnTo>
                    <a:lnTo>
                      <a:pt x="63" y="274"/>
                    </a:lnTo>
                    <a:lnTo>
                      <a:pt x="58" y="270"/>
                    </a:lnTo>
                    <a:lnTo>
                      <a:pt x="54" y="264"/>
                    </a:lnTo>
                    <a:lnTo>
                      <a:pt x="51" y="259"/>
                    </a:lnTo>
                    <a:lnTo>
                      <a:pt x="50" y="252"/>
                    </a:lnTo>
                    <a:lnTo>
                      <a:pt x="47" y="246"/>
                    </a:lnTo>
                    <a:lnTo>
                      <a:pt x="47" y="242"/>
                    </a:lnTo>
                    <a:lnTo>
                      <a:pt x="47" y="237"/>
                    </a:lnTo>
                    <a:lnTo>
                      <a:pt x="47" y="231"/>
                    </a:lnTo>
                    <a:lnTo>
                      <a:pt x="46" y="225"/>
                    </a:lnTo>
                    <a:lnTo>
                      <a:pt x="43" y="221"/>
                    </a:lnTo>
                    <a:lnTo>
                      <a:pt x="14" y="185"/>
                    </a:lnTo>
                    <a:lnTo>
                      <a:pt x="0" y="157"/>
                    </a:lnTo>
                    <a:lnTo>
                      <a:pt x="1" y="129"/>
                    </a:lnTo>
                    <a:lnTo>
                      <a:pt x="14" y="100"/>
                    </a:lnTo>
                    <a:lnTo>
                      <a:pt x="22" y="100"/>
                    </a:lnTo>
                    <a:lnTo>
                      <a:pt x="22" y="122"/>
                    </a:lnTo>
                    <a:lnTo>
                      <a:pt x="22" y="152"/>
                    </a:lnTo>
                    <a:lnTo>
                      <a:pt x="35" y="172"/>
                    </a:lnTo>
                    <a:lnTo>
                      <a:pt x="66" y="189"/>
                    </a:lnTo>
                    <a:lnTo>
                      <a:pt x="96" y="178"/>
                    </a:lnTo>
                    <a:lnTo>
                      <a:pt x="128" y="174"/>
                    </a:lnTo>
                    <a:lnTo>
                      <a:pt x="181" y="176"/>
                    </a:lnTo>
                    <a:lnTo>
                      <a:pt x="215" y="178"/>
                    </a:lnTo>
                    <a:lnTo>
                      <a:pt x="243" y="174"/>
                    </a:lnTo>
                    <a:lnTo>
                      <a:pt x="254" y="161"/>
                    </a:lnTo>
                    <a:lnTo>
                      <a:pt x="264" y="137"/>
                    </a:lnTo>
                    <a:lnTo>
                      <a:pt x="233" y="96"/>
                    </a:lnTo>
                    <a:lnTo>
                      <a:pt x="225" y="74"/>
                    </a:lnTo>
                    <a:lnTo>
                      <a:pt x="260" y="53"/>
                    </a:lnTo>
                    <a:lnTo>
                      <a:pt x="254" y="81"/>
                    </a:lnTo>
                    <a:lnTo>
                      <a:pt x="285" y="104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8" name=""/>
              <p:cNvGrpSpPr/>
              <p:nvPr/>
            </p:nvGrpSpPr>
            <p:grpSpPr>
              <a:xfrm>
                <a:off x="3683160" y="3059280"/>
                <a:ext cx="158760" cy="352800"/>
                <a:chOff x="3683160" y="3059280"/>
                <a:chExt cx="158760" cy="35280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3683160" y="3059280"/>
                  <a:ext cx="82080" cy="92880"/>
                </a:xfrm>
                <a:custGeom>
                  <a:avLst/>
                  <a:gdLst/>
                  <a:ahLst/>
                  <a:rect l="l" t="t" r="r" b="b"/>
                  <a:pathLst>
                    <a:path w="167" h="222">
                      <a:moveTo>
                        <a:pt x="32" y="140"/>
                      </a:moveTo>
                      <a:lnTo>
                        <a:pt x="18" y="107"/>
                      </a:lnTo>
                      <a:lnTo>
                        <a:pt x="16" y="77"/>
                      </a:lnTo>
                      <a:lnTo>
                        <a:pt x="21" y="38"/>
                      </a:lnTo>
                      <a:lnTo>
                        <a:pt x="36" y="13"/>
                      </a:lnTo>
                      <a:lnTo>
                        <a:pt x="58" y="3"/>
                      </a:lnTo>
                      <a:lnTo>
                        <a:pt x="81" y="0"/>
                      </a:lnTo>
                      <a:lnTo>
                        <a:pt x="104" y="9"/>
                      </a:lnTo>
                      <a:lnTo>
                        <a:pt x="130" y="28"/>
                      </a:lnTo>
                      <a:lnTo>
                        <a:pt x="151" y="53"/>
                      </a:lnTo>
                      <a:lnTo>
                        <a:pt x="161" y="79"/>
                      </a:lnTo>
                      <a:lnTo>
                        <a:pt x="167" y="103"/>
                      </a:lnTo>
                      <a:lnTo>
                        <a:pt x="164" y="131"/>
                      </a:lnTo>
                      <a:lnTo>
                        <a:pt x="156" y="155"/>
                      </a:lnTo>
                      <a:lnTo>
                        <a:pt x="144" y="172"/>
                      </a:lnTo>
                      <a:lnTo>
                        <a:pt x="127" y="185"/>
                      </a:lnTo>
                      <a:lnTo>
                        <a:pt x="108" y="189"/>
                      </a:lnTo>
                      <a:lnTo>
                        <a:pt x="85" y="188"/>
                      </a:lnTo>
                      <a:lnTo>
                        <a:pt x="66" y="179"/>
                      </a:lnTo>
                      <a:lnTo>
                        <a:pt x="49" y="165"/>
                      </a:lnTo>
                      <a:lnTo>
                        <a:pt x="36" y="194"/>
                      </a:lnTo>
                      <a:lnTo>
                        <a:pt x="24" y="220"/>
                      </a:lnTo>
                      <a:lnTo>
                        <a:pt x="12" y="222"/>
                      </a:lnTo>
                      <a:lnTo>
                        <a:pt x="0" y="214"/>
                      </a:lnTo>
                      <a:lnTo>
                        <a:pt x="3" y="196"/>
                      </a:lnTo>
                      <a:lnTo>
                        <a:pt x="20" y="165"/>
                      </a:lnTo>
                      <a:lnTo>
                        <a:pt x="32" y="1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730320" y="3143520"/>
                  <a:ext cx="74520" cy="110520"/>
                </a:xfrm>
                <a:custGeom>
                  <a:avLst/>
                  <a:gdLst/>
                  <a:ahLst/>
                  <a:rect l="l" t="t" r="r" b="b"/>
                  <a:pathLst>
                    <a:path w="153" h="264">
                      <a:moveTo>
                        <a:pt x="22" y="8"/>
                      </a:moveTo>
                      <a:lnTo>
                        <a:pt x="41" y="0"/>
                      </a:lnTo>
                      <a:lnTo>
                        <a:pt x="71" y="0"/>
                      </a:lnTo>
                      <a:lnTo>
                        <a:pt x="99" y="9"/>
                      </a:lnTo>
                      <a:lnTo>
                        <a:pt x="119" y="29"/>
                      </a:lnTo>
                      <a:lnTo>
                        <a:pt x="136" y="58"/>
                      </a:lnTo>
                      <a:lnTo>
                        <a:pt x="147" y="90"/>
                      </a:lnTo>
                      <a:lnTo>
                        <a:pt x="153" y="128"/>
                      </a:lnTo>
                      <a:lnTo>
                        <a:pt x="153" y="169"/>
                      </a:lnTo>
                      <a:lnTo>
                        <a:pt x="145" y="206"/>
                      </a:lnTo>
                      <a:lnTo>
                        <a:pt x="130" y="235"/>
                      </a:lnTo>
                      <a:lnTo>
                        <a:pt x="111" y="255"/>
                      </a:lnTo>
                      <a:lnTo>
                        <a:pt x="106" y="257"/>
                      </a:lnTo>
                      <a:lnTo>
                        <a:pt x="92" y="262"/>
                      </a:lnTo>
                      <a:lnTo>
                        <a:pt x="69" y="264"/>
                      </a:lnTo>
                      <a:lnTo>
                        <a:pt x="47" y="261"/>
                      </a:lnTo>
                      <a:lnTo>
                        <a:pt x="28" y="251"/>
                      </a:lnTo>
                      <a:lnTo>
                        <a:pt x="13" y="235"/>
                      </a:lnTo>
                      <a:lnTo>
                        <a:pt x="8" y="216"/>
                      </a:lnTo>
                      <a:lnTo>
                        <a:pt x="5" y="192"/>
                      </a:lnTo>
                      <a:lnTo>
                        <a:pt x="8" y="175"/>
                      </a:lnTo>
                      <a:lnTo>
                        <a:pt x="17" y="163"/>
                      </a:lnTo>
                      <a:lnTo>
                        <a:pt x="25" y="149"/>
                      </a:lnTo>
                      <a:lnTo>
                        <a:pt x="30" y="134"/>
                      </a:lnTo>
                      <a:lnTo>
                        <a:pt x="34" y="120"/>
                      </a:lnTo>
                      <a:lnTo>
                        <a:pt x="29" y="104"/>
                      </a:lnTo>
                      <a:lnTo>
                        <a:pt x="17" y="95"/>
                      </a:lnTo>
                      <a:lnTo>
                        <a:pt x="6" y="75"/>
                      </a:lnTo>
                      <a:lnTo>
                        <a:pt x="0" y="61"/>
                      </a:lnTo>
                      <a:lnTo>
                        <a:pt x="1" y="42"/>
                      </a:lnTo>
                      <a:lnTo>
                        <a:pt x="6" y="26"/>
                      </a:lnTo>
                      <a:lnTo>
                        <a:pt x="17" y="16"/>
                      </a:lnTo>
                      <a:lnTo>
                        <a:pt x="2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3760920" y="3146040"/>
                  <a:ext cx="76320" cy="109080"/>
                </a:xfrm>
                <a:custGeom>
                  <a:avLst/>
                  <a:gdLst/>
                  <a:ahLst/>
                  <a:rect l="l" t="t" r="r" b="b"/>
                  <a:pathLst>
                    <a:path w="154" h="261">
                      <a:moveTo>
                        <a:pt x="14" y="0"/>
                      </a:moveTo>
                      <a:lnTo>
                        <a:pt x="51" y="13"/>
                      </a:lnTo>
                      <a:lnTo>
                        <a:pt x="79" y="33"/>
                      </a:lnTo>
                      <a:lnTo>
                        <a:pt x="115" y="63"/>
                      </a:lnTo>
                      <a:lnTo>
                        <a:pt x="139" y="87"/>
                      </a:lnTo>
                      <a:lnTo>
                        <a:pt x="143" y="99"/>
                      </a:lnTo>
                      <a:lnTo>
                        <a:pt x="135" y="116"/>
                      </a:lnTo>
                      <a:lnTo>
                        <a:pt x="112" y="140"/>
                      </a:lnTo>
                      <a:lnTo>
                        <a:pt x="80" y="162"/>
                      </a:lnTo>
                      <a:lnTo>
                        <a:pt x="74" y="174"/>
                      </a:lnTo>
                      <a:lnTo>
                        <a:pt x="76" y="189"/>
                      </a:lnTo>
                      <a:lnTo>
                        <a:pt x="124" y="210"/>
                      </a:lnTo>
                      <a:lnTo>
                        <a:pt x="153" y="228"/>
                      </a:lnTo>
                      <a:lnTo>
                        <a:pt x="154" y="246"/>
                      </a:lnTo>
                      <a:lnTo>
                        <a:pt x="139" y="261"/>
                      </a:lnTo>
                      <a:lnTo>
                        <a:pt x="124" y="251"/>
                      </a:lnTo>
                      <a:lnTo>
                        <a:pt x="106" y="227"/>
                      </a:lnTo>
                      <a:lnTo>
                        <a:pt x="70" y="210"/>
                      </a:lnTo>
                      <a:lnTo>
                        <a:pt x="51" y="186"/>
                      </a:lnTo>
                      <a:lnTo>
                        <a:pt x="57" y="170"/>
                      </a:lnTo>
                      <a:lnTo>
                        <a:pt x="68" y="156"/>
                      </a:lnTo>
                      <a:lnTo>
                        <a:pt x="88" y="137"/>
                      </a:lnTo>
                      <a:lnTo>
                        <a:pt x="112" y="111"/>
                      </a:lnTo>
                      <a:lnTo>
                        <a:pt x="117" y="100"/>
                      </a:lnTo>
                      <a:lnTo>
                        <a:pt x="112" y="92"/>
                      </a:lnTo>
                      <a:lnTo>
                        <a:pt x="76" y="67"/>
                      </a:lnTo>
                      <a:lnTo>
                        <a:pt x="29" y="46"/>
                      </a:lnTo>
                      <a:lnTo>
                        <a:pt x="8" y="27"/>
                      </a:lnTo>
                      <a:lnTo>
                        <a:pt x="0" y="1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687480" y="3149640"/>
                  <a:ext cx="63000" cy="121680"/>
                </a:xfrm>
                <a:custGeom>
                  <a:avLst/>
                  <a:gdLst/>
                  <a:ahLst/>
                  <a:rect l="l" t="t" r="r" b="b"/>
                  <a:pathLst>
                    <a:path w="130" h="293">
                      <a:moveTo>
                        <a:pt x="58" y="39"/>
                      </a:moveTo>
                      <a:lnTo>
                        <a:pt x="95" y="6"/>
                      </a:lnTo>
                      <a:lnTo>
                        <a:pt x="112" y="0"/>
                      </a:lnTo>
                      <a:lnTo>
                        <a:pt x="130" y="18"/>
                      </a:lnTo>
                      <a:lnTo>
                        <a:pt x="122" y="47"/>
                      </a:lnTo>
                      <a:lnTo>
                        <a:pt x="95" y="52"/>
                      </a:lnTo>
                      <a:lnTo>
                        <a:pt x="63" y="70"/>
                      </a:lnTo>
                      <a:lnTo>
                        <a:pt x="41" y="89"/>
                      </a:lnTo>
                      <a:lnTo>
                        <a:pt x="30" y="109"/>
                      </a:lnTo>
                      <a:lnTo>
                        <a:pt x="24" y="124"/>
                      </a:lnTo>
                      <a:lnTo>
                        <a:pt x="29" y="134"/>
                      </a:lnTo>
                      <a:lnTo>
                        <a:pt x="53" y="150"/>
                      </a:lnTo>
                      <a:lnTo>
                        <a:pt x="82" y="166"/>
                      </a:lnTo>
                      <a:lnTo>
                        <a:pt x="106" y="189"/>
                      </a:lnTo>
                      <a:lnTo>
                        <a:pt x="112" y="211"/>
                      </a:lnTo>
                      <a:lnTo>
                        <a:pt x="112" y="228"/>
                      </a:lnTo>
                      <a:lnTo>
                        <a:pt x="95" y="276"/>
                      </a:lnTo>
                      <a:lnTo>
                        <a:pt x="85" y="293"/>
                      </a:lnTo>
                      <a:lnTo>
                        <a:pt x="75" y="292"/>
                      </a:lnTo>
                      <a:lnTo>
                        <a:pt x="65" y="285"/>
                      </a:lnTo>
                      <a:lnTo>
                        <a:pt x="59" y="271"/>
                      </a:lnTo>
                      <a:lnTo>
                        <a:pt x="71" y="248"/>
                      </a:lnTo>
                      <a:lnTo>
                        <a:pt x="85" y="212"/>
                      </a:lnTo>
                      <a:lnTo>
                        <a:pt x="83" y="195"/>
                      </a:lnTo>
                      <a:lnTo>
                        <a:pt x="73" y="182"/>
                      </a:lnTo>
                      <a:lnTo>
                        <a:pt x="49" y="166"/>
                      </a:lnTo>
                      <a:lnTo>
                        <a:pt x="16" y="150"/>
                      </a:lnTo>
                      <a:lnTo>
                        <a:pt x="4" y="140"/>
                      </a:lnTo>
                      <a:lnTo>
                        <a:pt x="4" y="129"/>
                      </a:lnTo>
                      <a:lnTo>
                        <a:pt x="0" y="119"/>
                      </a:lnTo>
                      <a:lnTo>
                        <a:pt x="4" y="111"/>
                      </a:lnTo>
                      <a:lnTo>
                        <a:pt x="12" y="89"/>
                      </a:lnTo>
                      <a:lnTo>
                        <a:pt x="34" y="64"/>
                      </a:lnTo>
                      <a:lnTo>
                        <a:pt x="58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758040" y="3227760"/>
                  <a:ext cx="83880" cy="155880"/>
                </a:xfrm>
                <a:custGeom>
                  <a:avLst/>
                  <a:gdLst/>
                  <a:ahLst/>
                  <a:rect l="l" t="t" r="r" b="b"/>
                  <a:pathLst>
                    <a:path w="171" h="373">
                      <a:moveTo>
                        <a:pt x="39" y="7"/>
                      </a:moveTo>
                      <a:lnTo>
                        <a:pt x="68" y="48"/>
                      </a:lnTo>
                      <a:lnTo>
                        <a:pt x="88" y="90"/>
                      </a:lnTo>
                      <a:lnTo>
                        <a:pt x="94" y="130"/>
                      </a:lnTo>
                      <a:lnTo>
                        <a:pt x="93" y="172"/>
                      </a:lnTo>
                      <a:lnTo>
                        <a:pt x="88" y="197"/>
                      </a:lnTo>
                      <a:lnTo>
                        <a:pt x="74" y="249"/>
                      </a:lnTo>
                      <a:lnTo>
                        <a:pt x="69" y="288"/>
                      </a:lnTo>
                      <a:lnTo>
                        <a:pt x="67" y="313"/>
                      </a:lnTo>
                      <a:lnTo>
                        <a:pt x="73" y="327"/>
                      </a:lnTo>
                      <a:lnTo>
                        <a:pt x="78" y="329"/>
                      </a:lnTo>
                      <a:lnTo>
                        <a:pt x="82" y="331"/>
                      </a:lnTo>
                      <a:lnTo>
                        <a:pt x="90" y="333"/>
                      </a:lnTo>
                      <a:lnTo>
                        <a:pt x="97" y="333"/>
                      </a:lnTo>
                      <a:lnTo>
                        <a:pt x="104" y="333"/>
                      </a:lnTo>
                      <a:lnTo>
                        <a:pt x="109" y="333"/>
                      </a:lnTo>
                      <a:lnTo>
                        <a:pt x="114" y="332"/>
                      </a:lnTo>
                      <a:lnTo>
                        <a:pt x="119" y="332"/>
                      </a:lnTo>
                      <a:lnTo>
                        <a:pt x="126" y="333"/>
                      </a:lnTo>
                      <a:lnTo>
                        <a:pt x="131" y="333"/>
                      </a:lnTo>
                      <a:lnTo>
                        <a:pt x="135" y="333"/>
                      </a:lnTo>
                      <a:lnTo>
                        <a:pt x="143" y="333"/>
                      </a:lnTo>
                      <a:lnTo>
                        <a:pt x="147" y="336"/>
                      </a:lnTo>
                      <a:lnTo>
                        <a:pt x="155" y="337"/>
                      </a:lnTo>
                      <a:lnTo>
                        <a:pt x="159" y="343"/>
                      </a:lnTo>
                      <a:lnTo>
                        <a:pt x="164" y="343"/>
                      </a:lnTo>
                      <a:lnTo>
                        <a:pt x="167" y="348"/>
                      </a:lnTo>
                      <a:lnTo>
                        <a:pt x="170" y="353"/>
                      </a:lnTo>
                      <a:lnTo>
                        <a:pt x="171" y="357"/>
                      </a:lnTo>
                      <a:lnTo>
                        <a:pt x="167" y="361"/>
                      </a:lnTo>
                      <a:lnTo>
                        <a:pt x="162" y="362"/>
                      </a:lnTo>
                      <a:lnTo>
                        <a:pt x="156" y="365"/>
                      </a:lnTo>
                      <a:lnTo>
                        <a:pt x="151" y="368"/>
                      </a:lnTo>
                      <a:lnTo>
                        <a:pt x="146" y="369"/>
                      </a:lnTo>
                      <a:lnTo>
                        <a:pt x="141" y="373"/>
                      </a:lnTo>
                      <a:lnTo>
                        <a:pt x="135" y="373"/>
                      </a:lnTo>
                      <a:lnTo>
                        <a:pt x="131" y="373"/>
                      </a:lnTo>
                      <a:lnTo>
                        <a:pt x="126" y="369"/>
                      </a:lnTo>
                      <a:lnTo>
                        <a:pt x="123" y="365"/>
                      </a:lnTo>
                      <a:lnTo>
                        <a:pt x="121" y="360"/>
                      </a:lnTo>
                      <a:lnTo>
                        <a:pt x="114" y="360"/>
                      </a:lnTo>
                      <a:lnTo>
                        <a:pt x="109" y="357"/>
                      </a:lnTo>
                      <a:lnTo>
                        <a:pt x="104" y="356"/>
                      </a:lnTo>
                      <a:lnTo>
                        <a:pt x="97" y="356"/>
                      </a:lnTo>
                      <a:lnTo>
                        <a:pt x="92" y="354"/>
                      </a:lnTo>
                      <a:lnTo>
                        <a:pt x="85" y="353"/>
                      </a:lnTo>
                      <a:lnTo>
                        <a:pt x="80" y="353"/>
                      </a:lnTo>
                      <a:lnTo>
                        <a:pt x="74" y="353"/>
                      </a:lnTo>
                      <a:lnTo>
                        <a:pt x="69" y="350"/>
                      </a:lnTo>
                      <a:lnTo>
                        <a:pt x="64" y="353"/>
                      </a:lnTo>
                      <a:lnTo>
                        <a:pt x="59" y="354"/>
                      </a:lnTo>
                      <a:lnTo>
                        <a:pt x="53" y="354"/>
                      </a:lnTo>
                      <a:lnTo>
                        <a:pt x="49" y="354"/>
                      </a:lnTo>
                      <a:lnTo>
                        <a:pt x="44" y="350"/>
                      </a:lnTo>
                      <a:lnTo>
                        <a:pt x="39" y="349"/>
                      </a:lnTo>
                      <a:lnTo>
                        <a:pt x="37" y="344"/>
                      </a:lnTo>
                      <a:lnTo>
                        <a:pt x="35" y="339"/>
                      </a:lnTo>
                      <a:lnTo>
                        <a:pt x="35" y="333"/>
                      </a:lnTo>
                      <a:lnTo>
                        <a:pt x="35" y="329"/>
                      </a:lnTo>
                      <a:lnTo>
                        <a:pt x="45" y="296"/>
                      </a:lnTo>
                      <a:lnTo>
                        <a:pt x="52" y="253"/>
                      </a:lnTo>
                      <a:lnTo>
                        <a:pt x="64" y="196"/>
                      </a:lnTo>
                      <a:lnTo>
                        <a:pt x="63" y="152"/>
                      </a:lnTo>
                      <a:lnTo>
                        <a:pt x="56" y="112"/>
                      </a:lnTo>
                      <a:lnTo>
                        <a:pt x="40" y="82"/>
                      </a:lnTo>
                      <a:lnTo>
                        <a:pt x="20" y="60"/>
                      </a:lnTo>
                      <a:lnTo>
                        <a:pt x="0" y="36"/>
                      </a:lnTo>
                      <a:lnTo>
                        <a:pt x="4" y="1"/>
                      </a:lnTo>
                      <a:lnTo>
                        <a:pt x="18" y="0"/>
                      </a:lnTo>
                      <a:lnTo>
                        <a:pt x="32" y="1"/>
                      </a:lnTo>
                      <a:lnTo>
                        <a:pt x="39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738960" y="3236400"/>
                  <a:ext cx="64440" cy="175680"/>
                </a:xfrm>
                <a:custGeom>
                  <a:avLst/>
                  <a:gdLst/>
                  <a:ahLst/>
                  <a:rect l="l" t="t" r="r" b="b"/>
                  <a:pathLst>
                    <a:path w="134" h="421">
                      <a:moveTo>
                        <a:pt x="33" y="3"/>
                      </a:moveTo>
                      <a:lnTo>
                        <a:pt x="52" y="26"/>
                      </a:lnTo>
                      <a:lnTo>
                        <a:pt x="67" y="63"/>
                      </a:lnTo>
                      <a:lnTo>
                        <a:pt x="69" y="104"/>
                      </a:lnTo>
                      <a:lnTo>
                        <a:pt x="68" y="150"/>
                      </a:lnTo>
                      <a:lnTo>
                        <a:pt x="56" y="200"/>
                      </a:lnTo>
                      <a:lnTo>
                        <a:pt x="43" y="242"/>
                      </a:lnTo>
                      <a:lnTo>
                        <a:pt x="31" y="286"/>
                      </a:lnTo>
                      <a:lnTo>
                        <a:pt x="28" y="331"/>
                      </a:lnTo>
                      <a:lnTo>
                        <a:pt x="32" y="356"/>
                      </a:lnTo>
                      <a:lnTo>
                        <a:pt x="43" y="368"/>
                      </a:lnTo>
                      <a:lnTo>
                        <a:pt x="67" y="376"/>
                      </a:lnTo>
                      <a:lnTo>
                        <a:pt x="114" y="383"/>
                      </a:lnTo>
                      <a:lnTo>
                        <a:pt x="134" y="388"/>
                      </a:lnTo>
                      <a:lnTo>
                        <a:pt x="134" y="405"/>
                      </a:lnTo>
                      <a:lnTo>
                        <a:pt x="125" y="421"/>
                      </a:lnTo>
                      <a:lnTo>
                        <a:pt x="109" y="421"/>
                      </a:lnTo>
                      <a:lnTo>
                        <a:pt x="90" y="412"/>
                      </a:lnTo>
                      <a:lnTo>
                        <a:pt x="63" y="399"/>
                      </a:lnTo>
                      <a:lnTo>
                        <a:pt x="32" y="395"/>
                      </a:lnTo>
                      <a:lnTo>
                        <a:pt x="11" y="392"/>
                      </a:lnTo>
                      <a:lnTo>
                        <a:pt x="3" y="384"/>
                      </a:lnTo>
                      <a:lnTo>
                        <a:pt x="0" y="372"/>
                      </a:lnTo>
                      <a:lnTo>
                        <a:pt x="0" y="351"/>
                      </a:lnTo>
                      <a:lnTo>
                        <a:pt x="6" y="327"/>
                      </a:lnTo>
                      <a:lnTo>
                        <a:pt x="6" y="281"/>
                      </a:lnTo>
                      <a:lnTo>
                        <a:pt x="4" y="241"/>
                      </a:lnTo>
                      <a:lnTo>
                        <a:pt x="11" y="211"/>
                      </a:lnTo>
                      <a:lnTo>
                        <a:pt x="31" y="176"/>
                      </a:lnTo>
                      <a:lnTo>
                        <a:pt x="35" y="157"/>
                      </a:lnTo>
                      <a:lnTo>
                        <a:pt x="35" y="126"/>
                      </a:lnTo>
                      <a:lnTo>
                        <a:pt x="27" y="86"/>
                      </a:lnTo>
                      <a:lnTo>
                        <a:pt x="14" y="49"/>
                      </a:lnTo>
                      <a:lnTo>
                        <a:pt x="6" y="20"/>
                      </a:lnTo>
                      <a:lnTo>
                        <a:pt x="11" y="0"/>
                      </a:lnTo>
                      <a:lnTo>
                        <a:pt x="23" y="0"/>
                      </a:lnTo>
                      <a:lnTo>
                        <a:pt x="3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4197600" y="3084480"/>
                <a:ext cx="293040" cy="356400"/>
                <a:chOff x="4197600" y="3084480"/>
                <a:chExt cx="293040" cy="35640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353840" y="3084480"/>
                  <a:ext cx="116280" cy="72360"/>
                </a:xfrm>
                <a:custGeom>
                  <a:avLst/>
                  <a:gdLst/>
                  <a:ahLst/>
                  <a:rect l="l" t="t" r="r" b="b"/>
                  <a:pathLst>
                    <a:path w="237" h="174">
                      <a:moveTo>
                        <a:pt x="78" y="66"/>
                      </a:moveTo>
                      <a:lnTo>
                        <a:pt x="103" y="36"/>
                      </a:lnTo>
                      <a:lnTo>
                        <a:pt x="124" y="17"/>
                      </a:lnTo>
                      <a:lnTo>
                        <a:pt x="144" y="4"/>
                      </a:lnTo>
                      <a:lnTo>
                        <a:pt x="172" y="0"/>
                      </a:lnTo>
                      <a:lnTo>
                        <a:pt x="200" y="4"/>
                      </a:lnTo>
                      <a:lnTo>
                        <a:pt x="221" y="16"/>
                      </a:lnTo>
                      <a:lnTo>
                        <a:pt x="233" y="33"/>
                      </a:lnTo>
                      <a:lnTo>
                        <a:pt x="237" y="53"/>
                      </a:lnTo>
                      <a:lnTo>
                        <a:pt x="231" y="75"/>
                      </a:lnTo>
                      <a:lnTo>
                        <a:pt x="221" y="100"/>
                      </a:lnTo>
                      <a:lnTo>
                        <a:pt x="200" y="124"/>
                      </a:lnTo>
                      <a:lnTo>
                        <a:pt x="176" y="147"/>
                      </a:lnTo>
                      <a:lnTo>
                        <a:pt x="149" y="166"/>
                      </a:lnTo>
                      <a:lnTo>
                        <a:pt x="119" y="174"/>
                      </a:lnTo>
                      <a:lnTo>
                        <a:pt x="102" y="170"/>
                      </a:lnTo>
                      <a:lnTo>
                        <a:pt x="83" y="162"/>
                      </a:lnTo>
                      <a:lnTo>
                        <a:pt x="71" y="145"/>
                      </a:lnTo>
                      <a:lnTo>
                        <a:pt x="67" y="118"/>
                      </a:lnTo>
                      <a:lnTo>
                        <a:pt x="69" y="92"/>
                      </a:lnTo>
                      <a:lnTo>
                        <a:pt x="33" y="82"/>
                      </a:lnTo>
                      <a:lnTo>
                        <a:pt x="6" y="69"/>
                      </a:lnTo>
                      <a:lnTo>
                        <a:pt x="0" y="54"/>
                      </a:lnTo>
                      <a:lnTo>
                        <a:pt x="3" y="40"/>
                      </a:lnTo>
                      <a:lnTo>
                        <a:pt x="18" y="36"/>
                      </a:lnTo>
                      <a:lnTo>
                        <a:pt x="33" y="45"/>
                      </a:lnTo>
                      <a:lnTo>
                        <a:pt x="54" y="62"/>
                      </a:lnTo>
                      <a:lnTo>
                        <a:pt x="69" y="69"/>
                      </a:lnTo>
                      <a:lnTo>
                        <a:pt x="78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356720" y="3163320"/>
                  <a:ext cx="124920" cy="124200"/>
                </a:xfrm>
                <a:custGeom>
                  <a:avLst/>
                  <a:gdLst/>
                  <a:ahLst/>
                  <a:rect l="l" t="t" r="r" b="b"/>
                  <a:pathLst>
                    <a:path w="256" h="296">
                      <a:moveTo>
                        <a:pt x="32" y="22"/>
                      </a:moveTo>
                      <a:lnTo>
                        <a:pt x="48" y="8"/>
                      </a:lnTo>
                      <a:lnTo>
                        <a:pt x="67" y="0"/>
                      </a:lnTo>
                      <a:lnTo>
                        <a:pt x="97" y="0"/>
                      </a:lnTo>
                      <a:lnTo>
                        <a:pt x="120" y="8"/>
                      </a:lnTo>
                      <a:lnTo>
                        <a:pt x="133" y="22"/>
                      </a:lnTo>
                      <a:lnTo>
                        <a:pt x="135" y="37"/>
                      </a:lnTo>
                      <a:lnTo>
                        <a:pt x="139" y="53"/>
                      </a:lnTo>
                      <a:lnTo>
                        <a:pt x="135" y="69"/>
                      </a:lnTo>
                      <a:lnTo>
                        <a:pt x="129" y="86"/>
                      </a:lnTo>
                      <a:lnTo>
                        <a:pt x="124" y="103"/>
                      </a:lnTo>
                      <a:lnTo>
                        <a:pt x="126" y="115"/>
                      </a:lnTo>
                      <a:lnTo>
                        <a:pt x="135" y="128"/>
                      </a:lnTo>
                      <a:lnTo>
                        <a:pt x="155" y="139"/>
                      </a:lnTo>
                      <a:lnTo>
                        <a:pt x="186" y="152"/>
                      </a:lnTo>
                      <a:lnTo>
                        <a:pt x="219" y="167"/>
                      </a:lnTo>
                      <a:lnTo>
                        <a:pt x="236" y="182"/>
                      </a:lnTo>
                      <a:lnTo>
                        <a:pt x="251" y="205"/>
                      </a:lnTo>
                      <a:lnTo>
                        <a:pt x="256" y="227"/>
                      </a:lnTo>
                      <a:lnTo>
                        <a:pt x="252" y="250"/>
                      </a:lnTo>
                      <a:lnTo>
                        <a:pt x="243" y="268"/>
                      </a:lnTo>
                      <a:lnTo>
                        <a:pt x="231" y="283"/>
                      </a:lnTo>
                      <a:lnTo>
                        <a:pt x="216" y="291"/>
                      </a:lnTo>
                      <a:lnTo>
                        <a:pt x="186" y="296"/>
                      </a:lnTo>
                      <a:lnTo>
                        <a:pt x="155" y="294"/>
                      </a:lnTo>
                      <a:lnTo>
                        <a:pt x="120" y="287"/>
                      </a:lnTo>
                      <a:lnTo>
                        <a:pt x="85" y="275"/>
                      </a:lnTo>
                      <a:lnTo>
                        <a:pt x="55" y="258"/>
                      </a:lnTo>
                      <a:lnTo>
                        <a:pt x="31" y="229"/>
                      </a:lnTo>
                      <a:lnTo>
                        <a:pt x="14" y="200"/>
                      </a:lnTo>
                      <a:lnTo>
                        <a:pt x="3" y="167"/>
                      </a:lnTo>
                      <a:lnTo>
                        <a:pt x="0" y="132"/>
                      </a:lnTo>
                      <a:lnTo>
                        <a:pt x="2" y="93"/>
                      </a:lnTo>
                      <a:lnTo>
                        <a:pt x="8" y="63"/>
                      </a:lnTo>
                      <a:lnTo>
                        <a:pt x="19" y="40"/>
                      </a:lnTo>
                      <a:lnTo>
                        <a:pt x="32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203360" y="3092760"/>
                  <a:ext cx="200160" cy="96840"/>
                </a:xfrm>
                <a:custGeom>
                  <a:avLst/>
                  <a:gdLst/>
                  <a:ahLst/>
                  <a:rect l="l" t="t" r="r" b="b"/>
                  <a:pathLst>
                    <a:path w="409" h="230">
                      <a:moveTo>
                        <a:pt x="303" y="190"/>
                      </a:moveTo>
                      <a:lnTo>
                        <a:pt x="368" y="179"/>
                      </a:lnTo>
                      <a:lnTo>
                        <a:pt x="372" y="179"/>
                      </a:lnTo>
                      <a:lnTo>
                        <a:pt x="403" y="179"/>
                      </a:lnTo>
                      <a:lnTo>
                        <a:pt x="409" y="193"/>
                      </a:lnTo>
                      <a:lnTo>
                        <a:pt x="399" y="214"/>
                      </a:lnTo>
                      <a:lnTo>
                        <a:pt x="365" y="227"/>
                      </a:lnTo>
                      <a:lnTo>
                        <a:pt x="329" y="230"/>
                      </a:lnTo>
                      <a:lnTo>
                        <a:pt x="275" y="222"/>
                      </a:lnTo>
                      <a:lnTo>
                        <a:pt x="212" y="196"/>
                      </a:lnTo>
                      <a:lnTo>
                        <a:pt x="144" y="152"/>
                      </a:lnTo>
                      <a:lnTo>
                        <a:pt x="110" y="123"/>
                      </a:lnTo>
                      <a:lnTo>
                        <a:pt x="69" y="102"/>
                      </a:lnTo>
                      <a:lnTo>
                        <a:pt x="61" y="99"/>
                      </a:lnTo>
                      <a:lnTo>
                        <a:pt x="56" y="102"/>
                      </a:lnTo>
                      <a:lnTo>
                        <a:pt x="49" y="102"/>
                      </a:lnTo>
                      <a:lnTo>
                        <a:pt x="42" y="102"/>
                      </a:lnTo>
                      <a:lnTo>
                        <a:pt x="36" y="103"/>
                      </a:lnTo>
                      <a:lnTo>
                        <a:pt x="30" y="104"/>
                      </a:lnTo>
                      <a:lnTo>
                        <a:pt x="25" y="107"/>
                      </a:lnTo>
                      <a:lnTo>
                        <a:pt x="18" y="107"/>
                      </a:lnTo>
                      <a:lnTo>
                        <a:pt x="13" y="107"/>
                      </a:lnTo>
                      <a:lnTo>
                        <a:pt x="8" y="104"/>
                      </a:lnTo>
                      <a:lnTo>
                        <a:pt x="3" y="103"/>
                      </a:lnTo>
                      <a:lnTo>
                        <a:pt x="1" y="98"/>
                      </a:lnTo>
                      <a:lnTo>
                        <a:pt x="0" y="93"/>
                      </a:lnTo>
                      <a:lnTo>
                        <a:pt x="1" y="87"/>
                      </a:lnTo>
                      <a:lnTo>
                        <a:pt x="7" y="82"/>
                      </a:lnTo>
                      <a:lnTo>
                        <a:pt x="12" y="82"/>
                      </a:lnTo>
                      <a:lnTo>
                        <a:pt x="16" y="81"/>
                      </a:lnTo>
                      <a:lnTo>
                        <a:pt x="21" y="81"/>
                      </a:lnTo>
                      <a:lnTo>
                        <a:pt x="26" y="81"/>
                      </a:lnTo>
                      <a:lnTo>
                        <a:pt x="33" y="82"/>
                      </a:lnTo>
                      <a:lnTo>
                        <a:pt x="38" y="82"/>
                      </a:lnTo>
                      <a:lnTo>
                        <a:pt x="45" y="82"/>
                      </a:lnTo>
                      <a:lnTo>
                        <a:pt x="50" y="82"/>
                      </a:lnTo>
                      <a:lnTo>
                        <a:pt x="56" y="79"/>
                      </a:lnTo>
                      <a:lnTo>
                        <a:pt x="59" y="74"/>
                      </a:lnTo>
                      <a:lnTo>
                        <a:pt x="59" y="69"/>
                      </a:lnTo>
                      <a:lnTo>
                        <a:pt x="57" y="63"/>
                      </a:lnTo>
                      <a:lnTo>
                        <a:pt x="52" y="61"/>
                      </a:lnTo>
                      <a:lnTo>
                        <a:pt x="48" y="57"/>
                      </a:lnTo>
                      <a:lnTo>
                        <a:pt x="42" y="56"/>
                      </a:lnTo>
                      <a:lnTo>
                        <a:pt x="37" y="50"/>
                      </a:lnTo>
                      <a:lnTo>
                        <a:pt x="32" y="49"/>
                      </a:lnTo>
                      <a:lnTo>
                        <a:pt x="28" y="44"/>
                      </a:lnTo>
                      <a:lnTo>
                        <a:pt x="26" y="38"/>
                      </a:lnTo>
                      <a:lnTo>
                        <a:pt x="25" y="33"/>
                      </a:lnTo>
                      <a:lnTo>
                        <a:pt x="24" y="28"/>
                      </a:lnTo>
                      <a:lnTo>
                        <a:pt x="25" y="22"/>
                      </a:lnTo>
                      <a:lnTo>
                        <a:pt x="26" y="17"/>
                      </a:lnTo>
                      <a:lnTo>
                        <a:pt x="30" y="11"/>
                      </a:lnTo>
                      <a:lnTo>
                        <a:pt x="36" y="5"/>
                      </a:lnTo>
                      <a:lnTo>
                        <a:pt x="42" y="3"/>
                      </a:lnTo>
                      <a:lnTo>
                        <a:pt x="48" y="0"/>
                      </a:lnTo>
                      <a:lnTo>
                        <a:pt x="52" y="0"/>
                      </a:lnTo>
                      <a:lnTo>
                        <a:pt x="56" y="5"/>
                      </a:lnTo>
                      <a:lnTo>
                        <a:pt x="61" y="11"/>
                      </a:lnTo>
                      <a:lnTo>
                        <a:pt x="62" y="16"/>
                      </a:lnTo>
                      <a:lnTo>
                        <a:pt x="62" y="21"/>
                      </a:lnTo>
                      <a:lnTo>
                        <a:pt x="61" y="26"/>
                      </a:lnTo>
                      <a:lnTo>
                        <a:pt x="59" y="32"/>
                      </a:lnTo>
                      <a:lnTo>
                        <a:pt x="61" y="40"/>
                      </a:lnTo>
                      <a:lnTo>
                        <a:pt x="61" y="45"/>
                      </a:lnTo>
                      <a:lnTo>
                        <a:pt x="66" y="49"/>
                      </a:lnTo>
                      <a:lnTo>
                        <a:pt x="71" y="46"/>
                      </a:lnTo>
                      <a:lnTo>
                        <a:pt x="74" y="41"/>
                      </a:lnTo>
                      <a:lnTo>
                        <a:pt x="78" y="34"/>
                      </a:lnTo>
                      <a:lnTo>
                        <a:pt x="79" y="29"/>
                      </a:lnTo>
                      <a:lnTo>
                        <a:pt x="86" y="25"/>
                      </a:lnTo>
                      <a:lnTo>
                        <a:pt x="93" y="21"/>
                      </a:lnTo>
                      <a:lnTo>
                        <a:pt x="99" y="21"/>
                      </a:lnTo>
                      <a:lnTo>
                        <a:pt x="104" y="22"/>
                      </a:lnTo>
                      <a:lnTo>
                        <a:pt x="110" y="28"/>
                      </a:lnTo>
                      <a:lnTo>
                        <a:pt x="114" y="33"/>
                      </a:lnTo>
                      <a:lnTo>
                        <a:pt x="115" y="38"/>
                      </a:lnTo>
                      <a:lnTo>
                        <a:pt x="115" y="44"/>
                      </a:lnTo>
                      <a:lnTo>
                        <a:pt x="111" y="49"/>
                      </a:lnTo>
                      <a:lnTo>
                        <a:pt x="107" y="54"/>
                      </a:lnTo>
                      <a:lnTo>
                        <a:pt x="99" y="58"/>
                      </a:lnTo>
                      <a:lnTo>
                        <a:pt x="93" y="62"/>
                      </a:lnTo>
                      <a:lnTo>
                        <a:pt x="87" y="66"/>
                      </a:lnTo>
                      <a:lnTo>
                        <a:pt x="86" y="70"/>
                      </a:lnTo>
                      <a:lnTo>
                        <a:pt x="86" y="75"/>
                      </a:lnTo>
                      <a:lnTo>
                        <a:pt x="87" y="81"/>
                      </a:lnTo>
                      <a:lnTo>
                        <a:pt x="90" y="86"/>
                      </a:lnTo>
                      <a:lnTo>
                        <a:pt x="95" y="87"/>
                      </a:lnTo>
                      <a:lnTo>
                        <a:pt x="127" y="111"/>
                      </a:lnTo>
                      <a:lnTo>
                        <a:pt x="175" y="143"/>
                      </a:lnTo>
                      <a:lnTo>
                        <a:pt x="222" y="169"/>
                      </a:lnTo>
                      <a:lnTo>
                        <a:pt x="258" y="185"/>
                      </a:lnTo>
                      <a:lnTo>
                        <a:pt x="287" y="190"/>
                      </a:lnTo>
                      <a:lnTo>
                        <a:pt x="303" y="1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197600" y="3163320"/>
                  <a:ext cx="206280" cy="66600"/>
                </a:xfrm>
                <a:custGeom>
                  <a:avLst/>
                  <a:gdLst/>
                  <a:ahLst/>
                  <a:rect l="l" t="t" r="r" b="b"/>
                  <a:pathLst>
                    <a:path w="421" h="159">
                      <a:moveTo>
                        <a:pt x="338" y="86"/>
                      </a:moveTo>
                      <a:lnTo>
                        <a:pt x="380" y="64"/>
                      </a:lnTo>
                      <a:lnTo>
                        <a:pt x="408" y="58"/>
                      </a:lnTo>
                      <a:lnTo>
                        <a:pt x="421" y="78"/>
                      </a:lnTo>
                      <a:lnTo>
                        <a:pt x="421" y="84"/>
                      </a:lnTo>
                      <a:lnTo>
                        <a:pt x="405" y="106"/>
                      </a:lnTo>
                      <a:lnTo>
                        <a:pt x="358" y="131"/>
                      </a:lnTo>
                      <a:lnTo>
                        <a:pt x="274" y="154"/>
                      </a:lnTo>
                      <a:lnTo>
                        <a:pt x="213" y="159"/>
                      </a:lnTo>
                      <a:lnTo>
                        <a:pt x="172" y="152"/>
                      </a:lnTo>
                      <a:lnTo>
                        <a:pt x="129" y="134"/>
                      </a:lnTo>
                      <a:lnTo>
                        <a:pt x="84" y="110"/>
                      </a:lnTo>
                      <a:lnTo>
                        <a:pt x="67" y="98"/>
                      </a:lnTo>
                      <a:lnTo>
                        <a:pt x="61" y="98"/>
                      </a:lnTo>
                      <a:lnTo>
                        <a:pt x="56" y="98"/>
                      </a:lnTo>
                      <a:lnTo>
                        <a:pt x="52" y="98"/>
                      </a:lnTo>
                      <a:lnTo>
                        <a:pt x="47" y="98"/>
                      </a:lnTo>
                      <a:lnTo>
                        <a:pt x="40" y="98"/>
                      </a:lnTo>
                      <a:lnTo>
                        <a:pt x="35" y="98"/>
                      </a:lnTo>
                      <a:lnTo>
                        <a:pt x="29" y="99"/>
                      </a:lnTo>
                      <a:lnTo>
                        <a:pt x="24" y="101"/>
                      </a:lnTo>
                      <a:lnTo>
                        <a:pt x="19" y="101"/>
                      </a:lnTo>
                      <a:lnTo>
                        <a:pt x="14" y="101"/>
                      </a:lnTo>
                      <a:lnTo>
                        <a:pt x="8" y="98"/>
                      </a:lnTo>
                      <a:lnTo>
                        <a:pt x="4" y="93"/>
                      </a:lnTo>
                      <a:lnTo>
                        <a:pt x="0" y="88"/>
                      </a:lnTo>
                      <a:lnTo>
                        <a:pt x="0" y="82"/>
                      </a:lnTo>
                      <a:lnTo>
                        <a:pt x="6" y="77"/>
                      </a:lnTo>
                      <a:lnTo>
                        <a:pt x="12" y="77"/>
                      </a:lnTo>
                      <a:lnTo>
                        <a:pt x="19" y="77"/>
                      </a:lnTo>
                      <a:lnTo>
                        <a:pt x="25" y="77"/>
                      </a:lnTo>
                      <a:lnTo>
                        <a:pt x="31" y="76"/>
                      </a:lnTo>
                      <a:lnTo>
                        <a:pt x="36" y="77"/>
                      </a:lnTo>
                      <a:lnTo>
                        <a:pt x="41" y="77"/>
                      </a:lnTo>
                      <a:lnTo>
                        <a:pt x="47" y="72"/>
                      </a:lnTo>
                      <a:lnTo>
                        <a:pt x="49" y="66"/>
                      </a:lnTo>
                      <a:lnTo>
                        <a:pt x="49" y="61"/>
                      </a:lnTo>
                      <a:lnTo>
                        <a:pt x="52" y="57"/>
                      </a:lnTo>
                      <a:lnTo>
                        <a:pt x="52" y="52"/>
                      </a:lnTo>
                      <a:lnTo>
                        <a:pt x="52" y="47"/>
                      </a:lnTo>
                      <a:lnTo>
                        <a:pt x="47" y="43"/>
                      </a:lnTo>
                      <a:lnTo>
                        <a:pt x="40" y="37"/>
                      </a:lnTo>
                      <a:lnTo>
                        <a:pt x="35" y="36"/>
                      </a:lnTo>
                      <a:lnTo>
                        <a:pt x="29" y="33"/>
                      </a:lnTo>
                      <a:lnTo>
                        <a:pt x="24" y="33"/>
                      </a:lnTo>
                      <a:lnTo>
                        <a:pt x="19" y="35"/>
                      </a:lnTo>
                      <a:lnTo>
                        <a:pt x="14" y="35"/>
                      </a:lnTo>
                      <a:lnTo>
                        <a:pt x="8" y="35"/>
                      </a:lnTo>
                      <a:lnTo>
                        <a:pt x="4" y="33"/>
                      </a:lnTo>
                      <a:lnTo>
                        <a:pt x="2" y="28"/>
                      </a:lnTo>
                      <a:lnTo>
                        <a:pt x="2" y="23"/>
                      </a:lnTo>
                      <a:lnTo>
                        <a:pt x="4" y="17"/>
                      </a:lnTo>
                      <a:lnTo>
                        <a:pt x="8" y="16"/>
                      </a:lnTo>
                      <a:lnTo>
                        <a:pt x="12" y="11"/>
                      </a:lnTo>
                      <a:lnTo>
                        <a:pt x="18" y="7"/>
                      </a:lnTo>
                      <a:lnTo>
                        <a:pt x="24" y="4"/>
                      </a:lnTo>
                      <a:lnTo>
                        <a:pt x="29" y="2"/>
                      </a:lnTo>
                      <a:lnTo>
                        <a:pt x="36" y="0"/>
                      </a:lnTo>
                      <a:lnTo>
                        <a:pt x="43" y="0"/>
                      </a:lnTo>
                      <a:lnTo>
                        <a:pt x="48" y="2"/>
                      </a:lnTo>
                      <a:lnTo>
                        <a:pt x="53" y="6"/>
                      </a:lnTo>
                      <a:lnTo>
                        <a:pt x="59" y="7"/>
                      </a:lnTo>
                      <a:lnTo>
                        <a:pt x="64" y="11"/>
                      </a:lnTo>
                      <a:lnTo>
                        <a:pt x="65" y="16"/>
                      </a:lnTo>
                      <a:lnTo>
                        <a:pt x="67" y="20"/>
                      </a:lnTo>
                      <a:lnTo>
                        <a:pt x="70" y="25"/>
                      </a:lnTo>
                      <a:lnTo>
                        <a:pt x="70" y="31"/>
                      </a:lnTo>
                      <a:lnTo>
                        <a:pt x="76" y="31"/>
                      </a:lnTo>
                      <a:lnTo>
                        <a:pt x="81" y="29"/>
                      </a:lnTo>
                      <a:lnTo>
                        <a:pt x="88" y="28"/>
                      </a:lnTo>
                      <a:lnTo>
                        <a:pt x="93" y="31"/>
                      </a:lnTo>
                      <a:lnTo>
                        <a:pt x="97" y="33"/>
                      </a:lnTo>
                      <a:lnTo>
                        <a:pt x="102" y="37"/>
                      </a:lnTo>
                      <a:lnTo>
                        <a:pt x="106" y="43"/>
                      </a:lnTo>
                      <a:lnTo>
                        <a:pt x="106" y="48"/>
                      </a:lnTo>
                      <a:lnTo>
                        <a:pt x="105" y="53"/>
                      </a:lnTo>
                      <a:lnTo>
                        <a:pt x="101" y="78"/>
                      </a:lnTo>
                      <a:lnTo>
                        <a:pt x="97" y="84"/>
                      </a:lnTo>
                      <a:lnTo>
                        <a:pt x="121" y="98"/>
                      </a:lnTo>
                      <a:lnTo>
                        <a:pt x="168" y="119"/>
                      </a:lnTo>
                      <a:lnTo>
                        <a:pt x="207" y="129"/>
                      </a:lnTo>
                      <a:lnTo>
                        <a:pt x="238" y="129"/>
                      </a:lnTo>
                      <a:lnTo>
                        <a:pt x="279" y="122"/>
                      </a:lnTo>
                      <a:lnTo>
                        <a:pt x="302" y="113"/>
                      </a:lnTo>
                      <a:lnTo>
                        <a:pt x="322" y="101"/>
                      </a:lnTo>
                      <a:lnTo>
                        <a:pt x="338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431960" y="3247560"/>
                  <a:ext cx="58680" cy="193320"/>
                </a:xfrm>
                <a:custGeom>
                  <a:avLst/>
                  <a:gdLst/>
                  <a:ahLst/>
                  <a:rect l="l" t="t" r="r" b="b"/>
                  <a:pathLst>
                    <a:path w="118" h="460">
                      <a:moveTo>
                        <a:pt x="67" y="0"/>
                      </a:moveTo>
                      <a:lnTo>
                        <a:pt x="89" y="20"/>
                      </a:lnTo>
                      <a:lnTo>
                        <a:pt x="89" y="25"/>
                      </a:lnTo>
                      <a:lnTo>
                        <a:pt x="97" y="53"/>
                      </a:lnTo>
                      <a:lnTo>
                        <a:pt x="93" y="78"/>
                      </a:lnTo>
                      <a:lnTo>
                        <a:pt x="90" y="125"/>
                      </a:lnTo>
                      <a:lnTo>
                        <a:pt x="77" y="174"/>
                      </a:lnTo>
                      <a:lnTo>
                        <a:pt x="55" y="214"/>
                      </a:lnTo>
                      <a:lnTo>
                        <a:pt x="48" y="237"/>
                      </a:lnTo>
                      <a:lnTo>
                        <a:pt x="45" y="255"/>
                      </a:lnTo>
                      <a:lnTo>
                        <a:pt x="52" y="277"/>
                      </a:lnTo>
                      <a:lnTo>
                        <a:pt x="67" y="312"/>
                      </a:lnTo>
                      <a:lnTo>
                        <a:pt x="89" y="347"/>
                      </a:lnTo>
                      <a:lnTo>
                        <a:pt x="110" y="373"/>
                      </a:lnTo>
                      <a:lnTo>
                        <a:pt x="110" y="378"/>
                      </a:lnTo>
                      <a:lnTo>
                        <a:pt x="114" y="384"/>
                      </a:lnTo>
                      <a:lnTo>
                        <a:pt x="118" y="389"/>
                      </a:lnTo>
                      <a:lnTo>
                        <a:pt x="118" y="394"/>
                      </a:lnTo>
                      <a:lnTo>
                        <a:pt x="118" y="400"/>
                      </a:lnTo>
                      <a:lnTo>
                        <a:pt x="114" y="404"/>
                      </a:lnTo>
                      <a:lnTo>
                        <a:pt x="110" y="409"/>
                      </a:lnTo>
                      <a:lnTo>
                        <a:pt x="104" y="412"/>
                      </a:lnTo>
                      <a:lnTo>
                        <a:pt x="100" y="413"/>
                      </a:lnTo>
                      <a:lnTo>
                        <a:pt x="97" y="418"/>
                      </a:lnTo>
                      <a:lnTo>
                        <a:pt x="91" y="419"/>
                      </a:lnTo>
                      <a:lnTo>
                        <a:pt x="86" y="418"/>
                      </a:lnTo>
                      <a:lnTo>
                        <a:pt x="79" y="418"/>
                      </a:lnTo>
                      <a:lnTo>
                        <a:pt x="74" y="418"/>
                      </a:lnTo>
                      <a:lnTo>
                        <a:pt x="69" y="418"/>
                      </a:lnTo>
                      <a:lnTo>
                        <a:pt x="65" y="419"/>
                      </a:lnTo>
                      <a:lnTo>
                        <a:pt x="59" y="423"/>
                      </a:lnTo>
                      <a:lnTo>
                        <a:pt x="55" y="429"/>
                      </a:lnTo>
                      <a:lnTo>
                        <a:pt x="52" y="433"/>
                      </a:lnTo>
                      <a:lnTo>
                        <a:pt x="48" y="438"/>
                      </a:lnTo>
                      <a:lnTo>
                        <a:pt x="44" y="443"/>
                      </a:lnTo>
                      <a:lnTo>
                        <a:pt x="40" y="449"/>
                      </a:lnTo>
                      <a:lnTo>
                        <a:pt x="38" y="454"/>
                      </a:lnTo>
                      <a:lnTo>
                        <a:pt x="36" y="459"/>
                      </a:lnTo>
                      <a:lnTo>
                        <a:pt x="30" y="460"/>
                      </a:lnTo>
                      <a:lnTo>
                        <a:pt x="25" y="460"/>
                      </a:lnTo>
                      <a:lnTo>
                        <a:pt x="20" y="460"/>
                      </a:lnTo>
                      <a:lnTo>
                        <a:pt x="14" y="459"/>
                      </a:lnTo>
                      <a:lnTo>
                        <a:pt x="12" y="454"/>
                      </a:lnTo>
                      <a:lnTo>
                        <a:pt x="7" y="449"/>
                      </a:lnTo>
                      <a:lnTo>
                        <a:pt x="3" y="443"/>
                      </a:lnTo>
                      <a:lnTo>
                        <a:pt x="0" y="438"/>
                      </a:lnTo>
                      <a:lnTo>
                        <a:pt x="0" y="433"/>
                      </a:lnTo>
                      <a:lnTo>
                        <a:pt x="0" y="429"/>
                      </a:lnTo>
                      <a:lnTo>
                        <a:pt x="4" y="423"/>
                      </a:lnTo>
                      <a:lnTo>
                        <a:pt x="9" y="418"/>
                      </a:lnTo>
                      <a:lnTo>
                        <a:pt x="14" y="414"/>
                      </a:lnTo>
                      <a:lnTo>
                        <a:pt x="20" y="412"/>
                      </a:lnTo>
                      <a:lnTo>
                        <a:pt x="24" y="406"/>
                      </a:lnTo>
                      <a:lnTo>
                        <a:pt x="28" y="402"/>
                      </a:lnTo>
                      <a:lnTo>
                        <a:pt x="33" y="400"/>
                      </a:lnTo>
                      <a:lnTo>
                        <a:pt x="40" y="396"/>
                      </a:lnTo>
                      <a:lnTo>
                        <a:pt x="45" y="392"/>
                      </a:lnTo>
                      <a:lnTo>
                        <a:pt x="50" y="392"/>
                      </a:lnTo>
                      <a:lnTo>
                        <a:pt x="54" y="388"/>
                      </a:lnTo>
                      <a:lnTo>
                        <a:pt x="59" y="388"/>
                      </a:lnTo>
                      <a:lnTo>
                        <a:pt x="65" y="385"/>
                      </a:lnTo>
                      <a:lnTo>
                        <a:pt x="69" y="385"/>
                      </a:lnTo>
                      <a:lnTo>
                        <a:pt x="74" y="382"/>
                      </a:lnTo>
                      <a:lnTo>
                        <a:pt x="79" y="380"/>
                      </a:lnTo>
                      <a:lnTo>
                        <a:pt x="79" y="376"/>
                      </a:lnTo>
                      <a:lnTo>
                        <a:pt x="71" y="359"/>
                      </a:lnTo>
                      <a:lnTo>
                        <a:pt x="45" y="319"/>
                      </a:lnTo>
                      <a:lnTo>
                        <a:pt x="24" y="283"/>
                      </a:lnTo>
                      <a:lnTo>
                        <a:pt x="14" y="258"/>
                      </a:lnTo>
                      <a:lnTo>
                        <a:pt x="18" y="225"/>
                      </a:lnTo>
                      <a:lnTo>
                        <a:pt x="25" y="189"/>
                      </a:lnTo>
                      <a:lnTo>
                        <a:pt x="36" y="136"/>
                      </a:lnTo>
                      <a:lnTo>
                        <a:pt x="45" y="77"/>
                      </a:lnTo>
                      <a:lnTo>
                        <a:pt x="45" y="19"/>
                      </a:lnTo>
                      <a:lnTo>
                        <a:pt x="54" y="2"/>
                      </a:lnTo>
                      <a:lnTo>
                        <a:pt x="6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370040" y="3261240"/>
                  <a:ext cx="91440" cy="149400"/>
                </a:xfrm>
                <a:custGeom>
                  <a:avLst/>
                  <a:gdLst/>
                  <a:ahLst/>
                  <a:rect l="l" t="t" r="r" b="b"/>
                  <a:pathLst>
                    <a:path w="187" h="358">
                      <a:moveTo>
                        <a:pt x="86" y="71"/>
                      </a:moveTo>
                      <a:lnTo>
                        <a:pt x="119" y="23"/>
                      </a:lnTo>
                      <a:lnTo>
                        <a:pt x="160" y="0"/>
                      </a:lnTo>
                      <a:lnTo>
                        <a:pt x="182" y="1"/>
                      </a:lnTo>
                      <a:lnTo>
                        <a:pt x="187" y="23"/>
                      </a:lnTo>
                      <a:lnTo>
                        <a:pt x="180" y="55"/>
                      </a:lnTo>
                      <a:lnTo>
                        <a:pt x="141" y="84"/>
                      </a:lnTo>
                      <a:lnTo>
                        <a:pt x="112" y="108"/>
                      </a:lnTo>
                      <a:lnTo>
                        <a:pt x="88" y="137"/>
                      </a:lnTo>
                      <a:lnTo>
                        <a:pt x="78" y="161"/>
                      </a:lnTo>
                      <a:lnTo>
                        <a:pt x="78" y="185"/>
                      </a:lnTo>
                      <a:lnTo>
                        <a:pt x="92" y="218"/>
                      </a:lnTo>
                      <a:lnTo>
                        <a:pt x="116" y="267"/>
                      </a:lnTo>
                      <a:lnTo>
                        <a:pt x="135" y="301"/>
                      </a:lnTo>
                      <a:lnTo>
                        <a:pt x="136" y="320"/>
                      </a:lnTo>
                      <a:lnTo>
                        <a:pt x="129" y="336"/>
                      </a:lnTo>
                      <a:lnTo>
                        <a:pt x="119" y="338"/>
                      </a:lnTo>
                      <a:lnTo>
                        <a:pt x="88" y="337"/>
                      </a:lnTo>
                      <a:lnTo>
                        <a:pt x="63" y="344"/>
                      </a:lnTo>
                      <a:lnTo>
                        <a:pt x="46" y="354"/>
                      </a:lnTo>
                      <a:lnTo>
                        <a:pt x="27" y="355"/>
                      </a:lnTo>
                      <a:lnTo>
                        <a:pt x="19" y="358"/>
                      </a:lnTo>
                      <a:lnTo>
                        <a:pt x="17" y="353"/>
                      </a:lnTo>
                      <a:lnTo>
                        <a:pt x="0" y="333"/>
                      </a:lnTo>
                      <a:lnTo>
                        <a:pt x="15" y="325"/>
                      </a:lnTo>
                      <a:lnTo>
                        <a:pt x="47" y="317"/>
                      </a:lnTo>
                      <a:lnTo>
                        <a:pt x="86" y="314"/>
                      </a:lnTo>
                      <a:lnTo>
                        <a:pt x="99" y="308"/>
                      </a:lnTo>
                      <a:lnTo>
                        <a:pt x="105" y="296"/>
                      </a:lnTo>
                      <a:lnTo>
                        <a:pt x="94" y="272"/>
                      </a:lnTo>
                      <a:lnTo>
                        <a:pt x="71" y="235"/>
                      </a:lnTo>
                      <a:lnTo>
                        <a:pt x="54" y="191"/>
                      </a:lnTo>
                      <a:lnTo>
                        <a:pt x="49" y="162"/>
                      </a:lnTo>
                      <a:lnTo>
                        <a:pt x="53" y="131"/>
                      </a:lnTo>
                      <a:lnTo>
                        <a:pt x="64" y="109"/>
                      </a:lnTo>
                      <a:lnTo>
                        <a:pt x="75" y="86"/>
                      </a:lnTo>
                      <a:lnTo>
                        <a:pt x="86" y="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2" name=""/>
            <p:cNvGrpSpPr/>
            <p:nvPr/>
          </p:nvGrpSpPr>
          <p:grpSpPr>
            <a:xfrm>
              <a:off x="3379680" y="2692440"/>
              <a:ext cx="353160" cy="542880"/>
              <a:chOff x="3379680" y="2692440"/>
              <a:chExt cx="353160" cy="542880"/>
            </a:xfrm>
          </p:grpSpPr>
          <p:sp>
            <p:nvSpPr>
              <p:cNvPr id="283" name=""/>
              <p:cNvSpPr/>
              <p:nvPr/>
            </p:nvSpPr>
            <p:spPr>
              <a:xfrm>
                <a:off x="3382920" y="2696760"/>
                <a:ext cx="344880" cy="533520"/>
              </a:xfrm>
              <a:custGeom>
                <a:avLst/>
                <a:gdLst/>
                <a:ahLst/>
                <a:rect l="l" t="t" r="r" b="b"/>
                <a:pathLst>
                  <a:path w="786" h="1080">
                    <a:moveTo>
                      <a:pt x="336" y="0"/>
                    </a:moveTo>
                    <a:lnTo>
                      <a:pt x="343" y="54"/>
                    </a:lnTo>
                    <a:lnTo>
                      <a:pt x="354" y="71"/>
                    </a:lnTo>
                    <a:lnTo>
                      <a:pt x="367" y="108"/>
                    </a:lnTo>
                    <a:lnTo>
                      <a:pt x="385" y="150"/>
                    </a:lnTo>
                    <a:lnTo>
                      <a:pt x="417" y="188"/>
                    </a:lnTo>
                    <a:lnTo>
                      <a:pt x="449" y="222"/>
                    </a:lnTo>
                    <a:lnTo>
                      <a:pt x="421" y="225"/>
                    </a:lnTo>
                    <a:lnTo>
                      <a:pt x="422" y="235"/>
                    </a:lnTo>
                    <a:lnTo>
                      <a:pt x="453" y="326"/>
                    </a:lnTo>
                    <a:lnTo>
                      <a:pt x="431" y="333"/>
                    </a:lnTo>
                    <a:lnTo>
                      <a:pt x="454" y="372"/>
                    </a:lnTo>
                    <a:lnTo>
                      <a:pt x="487" y="406"/>
                    </a:lnTo>
                    <a:lnTo>
                      <a:pt x="523" y="433"/>
                    </a:lnTo>
                    <a:lnTo>
                      <a:pt x="506" y="453"/>
                    </a:lnTo>
                    <a:lnTo>
                      <a:pt x="503" y="476"/>
                    </a:lnTo>
                    <a:lnTo>
                      <a:pt x="516" y="502"/>
                    </a:lnTo>
                    <a:lnTo>
                      <a:pt x="628" y="578"/>
                    </a:lnTo>
                    <a:lnTo>
                      <a:pt x="632" y="581"/>
                    </a:lnTo>
                    <a:lnTo>
                      <a:pt x="616" y="586"/>
                    </a:lnTo>
                    <a:lnTo>
                      <a:pt x="564" y="579"/>
                    </a:lnTo>
                    <a:lnTo>
                      <a:pt x="552" y="586"/>
                    </a:lnTo>
                    <a:lnTo>
                      <a:pt x="547" y="603"/>
                    </a:lnTo>
                    <a:lnTo>
                      <a:pt x="556" y="626"/>
                    </a:lnTo>
                    <a:lnTo>
                      <a:pt x="583" y="657"/>
                    </a:lnTo>
                    <a:lnTo>
                      <a:pt x="644" y="706"/>
                    </a:lnTo>
                    <a:lnTo>
                      <a:pt x="599" y="719"/>
                    </a:lnTo>
                    <a:lnTo>
                      <a:pt x="613" y="761"/>
                    </a:lnTo>
                    <a:lnTo>
                      <a:pt x="614" y="776"/>
                    </a:lnTo>
                    <a:lnTo>
                      <a:pt x="606" y="789"/>
                    </a:lnTo>
                    <a:lnTo>
                      <a:pt x="635" y="817"/>
                    </a:lnTo>
                    <a:lnTo>
                      <a:pt x="702" y="857"/>
                    </a:lnTo>
                    <a:lnTo>
                      <a:pt x="703" y="867"/>
                    </a:lnTo>
                    <a:lnTo>
                      <a:pt x="698" y="890"/>
                    </a:lnTo>
                    <a:lnTo>
                      <a:pt x="718" y="915"/>
                    </a:lnTo>
                    <a:lnTo>
                      <a:pt x="771" y="950"/>
                    </a:lnTo>
                    <a:lnTo>
                      <a:pt x="786" y="975"/>
                    </a:lnTo>
                    <a:lnTo>
                      <a:pt x="782" y="995"/>
                    </a:lnTo>
                    <a:lnTo>
                      <a:pt x="739" y="987"/>
                    </a:lnTo>
                    <a:lnTo>
                      <a:pt x="709" y="995"/>
                    </a:lnTo>
                    <a:lnTo>
                      <a:pt x="695" y="1043"/>
                    </a:lnTo>
                    <a:lnTo>
                      <a:pt x="645" y="1026"/>
                    </a:lnTo>
                    <a:lnTo>
                      <a:pt x="613" y="1013"/>
                    </a:lnTo>
                    <a:lnTo>
                      <a:pt x="601" y="1019"/>
                    </a:lnTo>
                    <a:lnTo>
                      <a:pt x="579" y="1044"/>
                    </a:lnTo>
                    <a:lnTo>
                      <a:pt x="564" y="1049"/>
                    </a:lnTo>
                    <a:lnTo>
                      <a:pt x="519" y="1014"/>
                    </a:lnTo>
                    <a:lnTo>
                      <a:pt x="496" y="1014"/>
                    </a:lnTo>
                    <a:lnTo>
                      <a:pt x="459" y="1043"/>
                    </a:lnTo>
                    <a:lnTo>
                      <a:pt x="434" y="1057"/>
                    </a:lnTo>
                    <a:lnTo>
                      <a:pt x="422" y="1041"/>
                    </a:lnTo>
                    <a:lnTo>
                      <a:pt x="416" y="1015"/>
                    </a:lnTo>
                    <a:lnTo>
                      <a:pt x="413" y="1008"/>
                    </a:lnTo>
                    <a:lnTo>
                      <a:pt x="387" y="1008"/>
                    </a:lnTo>
                    <a:lnTo>
                      <a:pt x="367" y="1022"/>
                    </a:lnTo>
                    <a:lnTo>
                      <a:pt x="350" y="1044"/>
                    </a:lnTo>
                    <a:lnTo>
                      <a:pt x="325" y="1080"/>
                    </a:lnTo>
                    <a:lnTo>
                      <a:pt x="310" y="1070"/>
                    </a:lnTo>
                    <a:lnTo>
                      <a:pt x="297" y="1048"/>
                    </a:lnTo>
                    <a:lnTo>
                      <a:pt x="290" y="992"/>
                    </a:lnTo>
                    <a:lnTo>
                      <a:pt x="222" y="997"/>
                    </a:lnTo>
                    <a:lnTo>
                      <a:pt x="169" y="999"/>
                    </a:lnTo>
                    <a:lnTo>
                      <a:pt x="139" y="1036"/>
                    </a:lnTo>
                    <a:lnTo>
                      <a:pt x="126" y="1019"/>
                    </a:lnTo>
                    <a:lnTo>
                      <a:pt x="126" y="975"/>
                    </a:lnTo>
                    <a:lnTo>
                      <a:pt x="120" y="961"/>
                    </a:lnTo>
                    <a:lnTo>
                      <a:pt x="59" y="995"/>
                    </a:lnTo>
                    <a:lnTo>
                      <a:pt x="47" y="1001"/>
                    </a:lnTo>
                    <a:lnTo>
                      <a:pt x="11" y="968"/>
                    </a:lnTo>
                    <a:lnTo>
                      <a:pt x="62" y="912"/>
                    </a:lnTo>
                    <a:lnTo>
                      <a:pt x="80" y="871"/>
                    </a:lnTo>
                    <a:lnTo>
                      <a:pt x="83" y="842"/>
                    </a:lnTo>
                    <a:lnTo>
                      <a:pt x="60" y="839"/>
                    </a:lnTo>
                    <a:lnTo>
                      <a:pt x="10" y="836"/>
                    </a:lnTo>
                    <a:lnTo>
                      <a:pt x="0" y="824"/>
                    </a:lnTo>
                    <a:lnTo>
                      <a:pt x="39" y="787"/>
                    </a:lnTo>
                    <a:lnTo>
                      <a:pt x="68" y="754"/>
                    </a:lnTo>
                    <a:lnTo>
                      <a:pt x="102" y="699"/>
                    </a:lnTo>
                    <a:lnTo>
                      <a:pt x="101" y="670"/>
                    </a:lnTo>
                    <a:lnTo>
                      <a:pt x="137" y="630"/>
                    </a:lnTo>
                    <a:lnTo>
                      <a:pt x="88" y="645"/>
                    </a:lnTo>
                    <a:lnTo>
                      <a:pt x="68" y="644"/>
                    </a:lnTo>
                    <a:lnTo>
                      <a:pt x="74" y="617"/>
                    </a:lnTo>
                    <a:lnTo>
                      <a:pt x="100" y="582"/>
                    </a:lnTo>
                    <a:lnTo>
                      <a:pt x="136" y="543"/>
                    </a:lnTo>
                    <a:lnTo>
                      <a:pt x="132" y="545"/>
                    </a:lnTo>
                    <a:lnTo>
                      <a:pt x="126" y="533"/>
                    </a:lnTo>
                    <a:lnTo>
                      <a:pt x="93" y="537"/>
                    </a:lnTo>
                    <a:lnTo>
                      <a:pt x="73" y="530"/>
                    </a:lnTo>
                    <a:lnTo>
                      <a:pt x="71" y="516"/>
                    </a:lnTo>
                    <a:lnTo>
                      <a:pt x="99" y="479"/>
                    </a:lnTo>
                    <a:lnTo>
                      <a:pt x="131" y="461"/>
                    </a:lnTo>
                    <a:lnTo>
                      <a:pt x="163" y="444"/>
                    </a:lnTo>
                    <a:lnTo>
                      <a:pt x="159" y="445"/>
                    </a:lnTo>
                    <a:lnTo>
                      <a:pt x="177" y="409"/>
                    </a:lnTo>
                    <a:lnTo>
                      <a:pt x="156" y="397"/>
                    </a:lnTo>
                    <a:lnTo>
                      <a:pt x="158" y="390"/>
                    </a:lnTo>
                    <a:lnTo>
                      <a:pt x="204" y="343"/>
                    </a:lnTo>
                    <a:lnTo>
                      <a:pt x="177" y="330"/>
                    </a:lnTo>
                    <a:lnTo>
                      <a:pt x="203" y="281"/>
                    </a:lnTo>
                    <a:lnTo>
                      <a:pt x="220" y="245"/>
                    </a:lnTo>
                    <a:lnTo>
                      <a:pt x="207" y="238"/>
                    </a:lnTo>
                    <a:lnTo>
                      <a:pt x="204" y="223"/>
                    </a:lnTo>
                    <a:lnTo>
                      <a:pt x="220" y="194"/>
                    </a:lnTo>
                    <a:lnTo>
                      <a:pt x="244" y="178"/>
                    </a:lnTo>
                    <a:lnTo>
                      <a:pt x="267" y="164"/>
                    </a:lnTo>
                    <a:lnTo>
                      <a:pt x="271" y="145"/>
                    </a:lnTo>
                    <a:lnTo>
                      <a:pt x="290" y="111"/>
                    </a:lnTo>
                    <a:lnTo>
                      <a:pt x="283" y="77"/>
                    </a:lnTo>
                    <a:lnTo>
                      <a:pt x="301" y="56"/>
                    </a:lnTo>
                    <a:lnTo>
                      <a:pt x="306" y="28"/>
                    </a:lnTo>
                    <a:lnTo>
                      <a:pt x="336" y="0"/>
                    </a:lnTo>
                    <a:close/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4" name=""/>
              <p:cNvGrpSpPr/>
              <p:nvPr/>
            </p:nvGrpSpPr>
            <p:grpSpPr>
              <a:xfrm>
                <a:off x="3379680" y="2692440"/>
                <a:ext cx="353160" cy="542880"/>
                <a:chOff x="3379680" y="2692440"/>
                <a:chExt cx="353160" cy="54288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3535560" y="2725920"/>
                  <a:ext cx="133200" cy="263160"/>
                </a:xfrm>
                <a:custGeom>
                  <a:avLst/>
                  <a:gdLst/>
                  <a:ahLst/>
                  <a:rect l="l" t="t" r="r" b="b"/>
                  <a:pathLst>
                    <a:path w="304" h="533">
                      <a:moveTo>
                        <a:pt x="0" y="4"/>
                      </a:moveTo>
                      <a:lnTo>
                        <a:pt x="10" y="0"/>
                      </a:lnTo>
                      <a:lnTo>
                        <a:pt x="18" y="14"/>
                      </a:lnTo>
                      <a:lnTo>
                        <a:pt x="31" y="63"/>
                      </a:lnTo>
                      <a:lnTo>
                        <a:pt x="51" y="92"/>
                      </a:lnTo>
                      <a:lnTo>
                        <a:pt x="78" y="125"/>
                      </a:lnTo>
                      <a:lnTo>
                        <a:pt x="115" y="159"/>
                      </a:lnTo>
                      <a:lnTo>
                        <a:pt x="117" y="173"/>
                      </a:lnTo>
                      <a:lnTo>
                        <a:pt x="105" y="175"/>
                      </a:lnTo>
                      <a:lnTo>
                        <a:pt x="80" y="171"/>
                      </a:lnTo>
                      <a:lnTo>
                        <a:pt x="91" y="202"/>
                      </a:lnTo>
                      <a:lnTo>
                        <a:pt x="111" y="238"/>
                      </a:lnTo>
                      <a:lnTo>
                        <a:pt x="124" y="261"/>
                      </a:lnTo>
                      <a:lnTo>
                        <a:pt x="122" y="273"/>
                      </a:lnTo>
                      <a:lnTo>
                        <a:pt x="111" y="277"/>
                      </a:lnTo>
                      <a:lnTo>
                        <a:pt x="91" y="277"/>
                      </a:lnTo>
                      <a:lnTo>
                        <a:pt x="95" y="283"/>
                      </a:lnTo>
                      <a:lnTo>
                        <a:pt x="120" y="319"/>
                      </a:lnTo>
                      <a:lnTo>
                        <a:pt x="149" y="348"/>
                      </a:lnTo>
                      <a:lnTo>
                        <a:pt x="178" y="366"/>
                      </a:lnTo>
                      <a:lnTo>
                        <a:pt x="196" y="372"/>
                      </a:lnTo>
                      <a:lnTo>
                        <a:pt x="196" y="381"/>
                      </a:lnTo>
                      <a:lnTo>
                        <a:pt x="182" y="389"/>
                      </a:lnTo>
                      <a:lnTo>
                        <a:pt x="167" y="393"/>
                      </a:lnTo>
                      <a:lnTo>
                        <a:pt x="161" y="408"/>
                      </a:lnTo>
                      <a:lnTo>
                        <a:pt x="169" y="426"/>
                      </a:lnTo>
                      <a:lnTo>
                        <a:pt x="190" y="449"/>
                      </a:lnTo>
                      <a:lnTo>
                        <a:pt x="233" y="476"/>
                      </a:lnTo>
                      <a:lnTo>
                        <a:pt x="285" y="505"/>
                      </a:lnTo>
                      <a:lnTo>
                        <a:pt x="304" y="515"/>
                      </a:lnTo>
                      <a:lnTo>
                        <a:pt x="299" y="531"/>
                      </a:lnTo>
                      <a:lnTo>
                        <a:pt x="293" y="533"/>
                      </a:lnTo>
                      <a:lnTo>
                        <a:pt x="279" y="525"/>
                      </a:lnTo>
                      <a:lnTo>
                        <a:pt x="233" y="500"/>
                      </a:lnTo>
                      <a:lnTo>
                        <a:pt x="188" y="470"/>
                      </a:lnTo>
                      <a:lnTo>
                        <a:pt x="161" y="445"/>
                      </a:lnTo>
                      <a:lnTo>
                        <a:pt x="149" y="426"/>
                      </a:lnTo>
                      <a:lnTo>
                        <a:pt x="146" y="407"/>
                      </a:lnTo>
                      <a:lnTo>
                        <a:pt x="149" y="395"/>
                      </a:lnTo>
                      <a:lnTo>
                        <a:pt x="161" y="379"/>
                      </a:lnTo>
                      <a:lnTo>
                        <a:pt x="126" y="348"/>
                      </a:lnTo>
                      <a:lnTo>
                        <a:pt x="99" y="317"/>
                      </a:lnTo>
                      <a:lnTo>
                        <a:pt x="80" y="292"/>
                      </a:lnTo>
                      <a:lnTo>
                        <a:pt x="76" y="275"/>
                      </a:lnTo>
                      <a:lnTo>
                        <a:pt x="86" y="267"/>
                      </a:lnTo>
                      <a:lnTo>
                        <a:pt x="95" y="261"/>
                      </a:lnTo>
                      <a:lnTo>
                        <a:pt x="76" y="202"/>
                      </a:lnTo>
                      <a:lnTo>
                        <a:pt x="66" y="175"/>
                      </a:lnTo>
                      <a:lnTo>
                        <a:pt x="66" y="161"/>
                      </a:lnTo>
                      <a:lnTo>
                        <a:pt x="74" y="154"/>
                      </a:lnTo>
                      <a:lnTo>
                        <a:pt x="84" y="152"/>
                      </a:lnTo>
                      <a:lnTo>
                        <a:pt x="49" y="117"/>
                      </a:lnTo>
                      <a:lnTo>
                        <a:pt x="29" y="88"/>
                      </a:lnTo>
                      <a:lnTo>
                        <a:pt x="18" y="61"/>
                      </a:lnTo>
                      <a:lnTo>
                        <a:pt x="8" y="32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409920" y="2692440"/>
                  <a:ext cx="129600" cy="272520"/>
                </a:xfrm>
                <a:custGeom>
                  <a:avLst/>
                  <a:gdLst/>
                  <a:ahLst/>
                  <a:rect l="l" t="t" r="r" b="b"/>
                  <a:pathLst>
                    <a:path w="296" h="552">
                      <a:moveTo>
                        <a:pt x="236" y="66"/>
                      </a:moveTo>
                      <a:lnTo>
                        <a:pt x="238" y="38"/>
                      </a:lnTo>
                      <a:lnTo>
                        <a:pt x="254" y="21"/>
                      </a:lnTo>
                      <a:lnTo>
                        <a:pt x="267" y="6"/>
                      </a:lnTo>
                      <a:lnTo>
                        <a:pt x="275" y="0"/>
                      </a:lnTo>
                      <a:lnTo>
                        <a:pt x="283" y="0"/>
                      </a:lnTo>
                      <a:lnTo>
                        <a:pt x="285" y="11"/>
                      </a:lnTo>
                      <a:lnTo>
                        <a:pt x="285" y="35"/>
                      </a:lnTo>
                      <a:lnTo>
                        <a:pt x="291" y="56"/>
                      </a:lnTo>
                      <a:lnTo>
                        <a:pt x="296" y="69"/>
                      </a:lnTo>
                      <a:lnTo>
                        <a:pt x="283" y="79"/>
                      </a:lnTo>
                      <a:lnTo>
                        <a:pt x="273" y="64"/>
                      </a:lnTo>
                      <a:lnTo>
                        <a:pt x="269" y="44"/>
                      </a:lnTo>
                      <a:lnTo>
                        <a:pt x="269" y="27"/>
                      </a:lnTo>
                      <a:lnTo>
                        <a:pt x="250" y="48"/>
                      </a:lnTo>
                      <a:lnTo>
                        <a:pt x="246" y="69"/>
                      </a:lnTo>
                      <a:lnTo>
                        <a:pt x="234" y="81"/>
                      </a:lnTo>
                      <a:lnTo>
                        <a:pt x="227" y="93"/>
                      </a:lnTo>
                      <a:lnTo>
                        <a:pt x="234" y="108"/>
                      </a:lnTo>
                      <a:lnTo>
                        <a:pt x="238" y="127"/>
                      </a:lnTo>
                      <a:lnTo>
                        <a:pt x="227" y="145"/>
                      </a:lnTo>
                      <a:lnTo>
                        <a:pt x="215" y="158"/>
                      </a:lnTo>
                      <a:lnTo>
                        <a:pt x="217" y="174"/>
                      </a:lnTo>
                      <a:lnTo>
                        <a:pt x="209" y="189"/>
                      </a:lnTo>
                      <a:lnTo>
                        <a:pt x="196" y="195"/>
                      </a:lnTo>
                      <a:lnTo>
                        <a:pt x="178" y="201"/>
                      </a:lnTo>
                      <a:lnTo>
                        <a:pt x="161" y="214"/>
                      </a:lnTo>
                      <a:lnTo>
                        <a:pt x="147" y="236"/>
                      </a:lnTo>
                      <a:lnTo>
                        <a:pt x="155" y="241"/>
                      </a:lnTo>
                      <a:lnTo>
                        <a:pt x="174" y="236"/>
                      </a:lnTo>
                      <a:lnTo>
                        <a:pt x="176" y="247"/>
                      </a:lnTo>
                      <a:lnTo>
                        <a:pt x="161" y="269"/>
                      </a:lnTo>
                      <a:lnTo>
                        <a:pt x="145" y="302"/>
                      </a:lnTo>
                      <a:lnTo>
                        <a:pt x="133" y="329"/>
                      </a:lnTo>
                      <a:lnTo>
                        <a:pt x="126" y="339"/>
                      </a:lnTo>
                      <a:lnTo>
                        <a:pt x="143" y="339"/>
                      </a:lnTo>
                      <a:lnTo>
                        <a:pt x="157" y="349"/>
                      </a:lnTo>
                      <a:lnTo>
                        <a:pt x="151" y="364"/>
                      </a:lnTo>
                      <a:lnTo>
                        <a:pt x="126" y="384"/>
                      </a:lnTo>
                      <a:lnTo>
                        <a:pt x="102" y="407"/>
                      </a:lnTo>
                      <a:lnTo>
                        <a:pt x="116" y="411"/>
                      </a:lnTo>
                      <a:lnTo>
                        <a:pt x="126" y="416"/>
                      </a:lnTo>
                      <a:lnTo>
                        <a:pt x="116" y="434"/>
                      </a:lnTo>
                      <a:lnTo>
                        <a:pt x="102" y="461"/>
                      </a:lnTo>
                      <a:lnTo>
                        <a:pt x="78" y="473"/>
                      </a:lnTo>
                      <a:lnTo>
                        <a:pt x="51" y="486"/>
                      </a:lnTo>
                      <a:lnTo>
                        <a:pt x="35" y="503"/>
                      </a:lnTo>
                      <a:lnTo>
                        <a:pt x="24" y="521"/>
                      </a:lnTo>
                      <a:lnTo>
                        <a:pt x="18" y="538"/>
                      </a:lnTo>
                      <a:lnTo>
                        <a:pt x="12" y="552"/>
                      </a:lnTo>
                      <a:lnTo>
                        <a:pt x="0" y="544"/>
                      </a:lnTo>
                      <a:lnTo>
                        <a:pt x="2" y="521"/>
                      </a:lnTo>
                      <a:lnTo>
                        <a:pt x="16" y="500"/>
                      </a:lnTo>
                      <a:lnTo>
                        <a:pt x="39" y="482"/>
                      </a:lnTo>
                      <a:lnTo>
                        <a:pt x="61" y="467"/>
                      </a:lnTo>
                      <a:lnTo>
                        <a:pt x="82" y="457"/>
                      </a:lnTo>
                      <a:lnTo>
                        <a:pt x="95" y="444"/>
                      </a:lnTo>
                      <a:lnTo>
                        <a:pt x="104" y="424"/>
                      </a:lnTo>
                      <a:lnTo>
                        <a:pt x="88" y="413"/>
                      </a:lnTo>
                      <a:lnTo>
                        <a:pt x="88" y="395"/>
                      </a:lnTo>
                      <a:lnTo>
                        <a:pt x="106" y="384"/>
                      </a:lnTo>
                      <a:lnTo>
                        <a:pt x="130" y="358"/>
                      </a:lnTo>
                      <a:lnTo>
                        <a:pt x="122" y="353"/>
                      </a:lnTo>
                      <a:lnTo>
                        <a:pt x="104" y="351"/>
                      </a:lnTo>
                      <a:lnTo>
                        <a:pt x="104" y="337"/>
                      </a:lnTo>
                      <a:lnTo>
                        <a:pt x="114" y="322"/>
                      </a:lnTo>
                      <a:lnTo>
                        <a:pt x="149" y="261"/>
                      </a:lnTo>
                      <a:lnTo>
                        <a:pt x="141" y="253"/>
                      </a:lnTo>
                      <a:lnTo>
                        <a:pt x="133" y="241"/>
                      </a:lnTo>
                      <a:lnTo>
                        <a:pt x="137" y="222"/>
                      </a:lnTo>
                      <a:lnTo>
                        <a:pt x="149" y="203"/>
                      </a:lnTo>
                      <a:lnTo>
                        <a:pt x="172" y="183"/>
                      </a:lnTo>
                      <a:lnTo>
                        <a:pt x="196" y="174"/>
                      </a:lnTo>
                      <a:lnTo>
                        <a:pt x="199" y="162"/>
                      </a:lnTo>
                      <a:lnTo>
                        <a:pt x="203" y="149"/>
                      </a:lnTo>
                      <a:lnTo>
                        <a:pt x="217" y="131"/>
                      </a:lnTo>
                      <a:lnTo>
                        <a:pt x="223" y="118"/>
                      </a:lnTo>
                      <a:lnTo>
                        <a:pt x="217" y="100"/>
                      </a:lnTo>
                      <a:lnTo>
                        <a:pt x="211" y="83"/>
                      </a:lnTo>
                      <a:lnTo>
                        <a:pt x="236" y="66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379680" y="2953800"/>
                  <a:ext cx="139320" cy="260280"/>
                </a:xfrm>
                <a:custGeom>
                  <a:avLst/>
                  <a:gdLst/>
                  <a:ahLst/>
                  <a:rect l="l" t="t" r="r" b="b"/>
                  <a:pathLst>
                    <a:path w="318" h="527">
                      <a:moveTo>
                        <a:pt x="86" y="2"/>
                      </a:moveTo>
                      <a:lnTo>
                        <a:pt x="97" y="10"/>
                      </a:lnTo>
                      <a:lnTo>
                        <a:pt x="124" y="6"/>
                      </a:lnTo>
                      <a:lnTo>
                        <a:pt x="145" y="0"/>
                      </a:lnTo>
                      <a:lnTo>
                        <a:pt x="153" y="8"/>
                      </a:lnTo>
                      <a:lnTo>
                        <a:pt x="147" y="25"/>
                      </a:lnTo>
                      <a:lnTo>
                        <a:pt x="115" y="62"/>
                      </a:lnTo>
                      <a:lnTo>
                        <a:pt x="93" y="95"/>
                      </a:lnTo>
                      <a:lnTo>
                        <a:pt x="86" y="112"/>
                      </a:lnTo>
                      <a:lnTo>
                        <a:pt x="93" y="120"/>
                      </a:lnTo>
                      <a:lnTo>
                        <a:pt x="109" y="114"/>
                      </a:lnTo>
                      <a:lnTo>
                        <a:pt x="144" y="97"/>
                      </a:lnTo>
                      <a:lnTo>
                        <a:pt x="155" y="95"/>
                      </a:lnTo>
                      <a:lnTo>
                        <a:pt x="159" y="108"/>
                      </a:lnTo>
                      <a:lnTo>
                        <a:pt x="130" y="143"/>
                      </a:lnTo>
                      <a:lnTo>
                        <a:pt x="118" y="153"/>
                      </a:lnTo>
                      <a:lnTo>
                        <a:pt x="120" y="164"/>
                      </a:lnTo>
                      <a:lnTo>
                        <a:pt x="120" y="178"/>
                      </a:lnTo>
                      <a:lnTo>
                        <a:pt x="107" y="195"/>
                      </a:lnTo>
                      <a:lnTo>
                        <a:pt x="74" y="248"/>
                      </a:lnTo>
                      <a:lnTo>
                        <a:pt x="51" y="273"/>
                      </a:lnTo>
                      <a:lnTo>
                        <a:pt x="33" y="292"/>
                      </a:lnTo>
                      <a:lnTo>
                        <a:pt x="28" y="294"/>
                      </a:lnTo>
                      <a:lnTo>
                        <a:pt x="33" y="310"/>
                      </a:lnTo>
                      <a:lnTo>
                        <a:pt x="70" y="312"/>
                      </a:lnTo>
                      <a:lnTo>
                        <a:pt x="99" y="312"/>
                      </a:lnTo>
                      <a:lnTo>
                        <a:pt x="105" y="324"/>
                      </a:lnTo>
                      <a:lnTo>
                        <a:pt x="93" y="366"/>
                      </a:lnTo>
                      <a:lnTo>
                        <a:pt x="60" y="417"/>
                      </a:lnTo>
                      <a:lnTo>
                        <a:pt x="37" y="448"/>
                      </a:lnTo>
                      <a:lnTo>
                        <a:pt x="55" y="459"/>
                      </a:lnTo>
                      <a:lnTo>
                        <a:pt x="66" y="467"/>
                      </a:lnTo>
                      <a:lnTo>
                        <a:pt x="105" y="442"/>
                      </a:lnTo>
                      <a:lnTo>
                        <a:pt x="99" y="446"/>
                      </a:lnTo>
                      <a:lnTo>
                        <a:pt x="113" y="442"/>
                      </a:lnTo>
                      <a:lnTo>
                        <a:pt x="136" y="428"/>
                      </a:lnTo>
                      <a:lnTo>
                        <a:pt x="144" y="436"/>
                      </a:lnTo>
                      <a:lnTo>
                        <a:pt x="147" y="455"/>
                      </a:lnTo>
                      <a:lnTo>
                        <a:pt x="144" y="492"/>
                      </a:lnTo>
                      <a:lnTo>
                        <a:pt x="149" y="502"/>
                      </a:lnTo>
                      <a:lnTo>
                        <a:pt x="166" y="486"/>
                      </a:lnTo>
                      <a:lnTo>
                        <a:pt x="181" y="471"/>
                      </a:lnTo>
                      <a:lnTo>
                        <a:pt x="208" y="469"/>
                      </a:lnTo>
                      <a:lnTo>
                        <a:pt x="241" y="469"/>
                      </a:lnTo>
                      <a:lnTo>
                        <a:pt x="280" y="467"/>
                      </a:lnTo>
                      <a:lnTo>
                        <a:pt x="307" y="459"/>
                      </a:lnTo>
                      <a:lnTo>
                        <a:pt x="318" y="473"/>
                      </a:lnTo>
                      <a:lnTo>
                        <a:pt x="288" y="481"/>
                      </a:lnTo>
                      <a:lnTo>
                        <a:pt x="230" y="484"/>
                      </a:lnTo>
                      <a:lnTo>
                        <a:pt x="185" y="483"/>
                      </a:lnTo>
                      <a:lnTo>
                        <a:pt x="151" y="527"/>
                      </a:lnTo>
                      <a:lnTo>
                        <a:pt x="140" y="527"/>
                      </a:lnTo>
                      <a:lnTo>
                        <a:pt x="128" y="513"/>
                      </a:lnTo>
                      <a:lnTo>
                        <a:pt x="130" y="479"/>
                      </a:lnTo>
                      <a:lnTo>
                        <a:pt x="126" y="448"/>
                      </a:lnTo>
                      <a:lnTo>
                        <a:pt x="74" y="481"/>
                      </a:lnTo>
                      <a:lnTo>
                        <a:pt x="57" y="492"/>
                      </a:lnTo>
                      <a:lnTo>
                        <a:pt x="51" y="494"/>
                      </a:lnTo>
                      <a:lnTo>
                        <a:pt x="43" y="484"/>
                      </a:lnTo>
                      <a:lnTo>
                        <a:pt x="29" y="467"/>
                      </a:lnTo>
                      <a:lnTo>
                        <a:pt x="24" y="469"/>
                      </a:lnTo>
                      <a:lnTo>
                        <a:pt x="8" y="457"/>
                      </a:lnTo>
                      <a:lnTo>
                        <a:pt x="10" y="442"/>
                      </a:lnTo>
                      <a:lnTo>
                        <a:pt x="20" y="434"/>
                      </a:lnTo>
                      <a:lnTo>
                        <a:pt x="58" y="392"/>
                      </a:lnTo>
                      <a:lnTo>
                        <a:pt x="78" y="359"/>
                      </a:lnTo>
                      <a:lnTo>
                        <a:pt x="84" y="334"/>
                      </a:lnTo>
                      <a:lnTo>
                        <a:pt x="76" y="328"/>
                      </a:lnTo>
                      <a:lnTo>
                        <a:pt x="58" y="324"/>
                      </a:lnTo>
                      <a:lnTo>
                        <a:pt x="12" y="328"/>
                      </a:lnTo>
                      <a:lnTo>
                        <a:pt x="4" y="322"/>
                      </a:lnTo>
                      <a:lnTo>
                        <a:pt x="0" y="308"/>
                      </a:lnTo>
                      <a:lnTo>
                        <a:pt x="4" y="299"/>
                      </a:lnTo>
                      <a:lnTo>
                        <a:pt x="20" y="286"/>
                      </a:lnTo>
                      <a:lnTo>
                        <a:pt x="64" y="242"/>
                      </a:lnTo>
                      <a:lnTo>
                        <a:pt x="89" y="203"/>
                      </a:lnTo>
                      <a:lnTo>
                        <a:pt x="101" y="168"/>
                      </a:lnTo>
                      <a:lnTo>
                        <a:pt x="99" y="149"/>
                      </a:lnTo>
                      <a:lnTo>
                        <a:pt x="128" y="122"/>
                      </a:lnTo>
                      <a:lnTo>
                        <a:pt x="84" y="135"/>
                      </a:lnTo>
                      <a:lnTo>
                        <a:pt x="72" y="133"/>
                      </a:lnTo>
                      <a:lnTo>
                        <a:pt x="66" y="122"/>
                      </a:lnTo>
                      <a:lnTo>
                        <a:pt x="72" y="102"/>
                      </a:lnTo>
                      <a:lnTo>
                        <a:pt x="97" y="62"/>
                      </a:lnTo>
                      <a:lnTo>
                        <a:pt x="134" y="21"/>
                      </a:lnTo>
                      <a:lnTo>
                        <a:pt x="101" y="25"/>
                      </a:lnTo>
                      <a:lnTo>
                        <a:pt x="76" y="14"/>
                      </a:lnTo>
                      <a:lnTo>
                        <a:pt x="78" y="4"/>
                      </a:lnTo>
                      <a:lnTo>
                        <a:pt x="86" y="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507480" y="2979360"/>
                  <a:ext cx="225360" cy="255960"/>
                </a:xfrm>
                <a:custGeom>
                  <a:avLst/>
                  <a:gdLst/>
                  <a:ahLst/>
                  <a:rect l="l" t="t" r="r" b="b"/>
                  <a:pathLst>
                    <a:path w="514" h="518">
                      <a:moveTo>
                        <a:pt x="337" y="6"/>
                      </a:moveTo>
                      <a:lnTo>
                        <a:pt x="290" y="0"/>
                      </a:lnTo>
                      <a:lnTo>
                        <a:pt x="263" y="4"/>
                      </a:lnTo>
                      <a:lnTo>
                        <a:pt x="253" y="13"/>
                      </a:lnTo>
                      <a:lnTo>
                        <a:pt x="257" y="33"/>
                      </a:lnTo>
                      <a:lnTo>
                        <a:pt x="267" y="56"/>
                      </a:lnTo>
                      <a:lnTo>
                        <a:pt x="313" y="106"/>
                      </a:lnTo>
                      <a:lnTo>
                        <a:pt x="342" y="128"/>
                      </a:lnTo>
                      <a:lnTo>
                        <a:pt x="341" y="133"/>
                      </a:lnTo>
                      <a:lnTo>
                        <a:pt x="323" y="133"/>
                      </a:lnTo>
                      <a:lnTo>
                        <a:pt x="306" y="137"/>
                      </a:lnTo>
                      <a:lnTo>
                        <a:pt x="308" y="155"/>
                      </a:lnTo>
                      <a:lnTo>
                        <a:pt x="325" y="193"/>
                      </a:lnTo>
                      <a:lnTo>
                        <a:pt x="317" y="197"/>
                      </a:lnTo>
                      <a:lnTo>
                        <a:pt x="315" y="211"/>
                      </a:lnTo>
                      <a:lnTo>
                        <a:pt x="323" y="226"/>
                      </a:lnTo>
                      <a:lnTo>
                        <a:pt x="350" y="253"/>
                      </a:lnTo>
                      <a:lnTo>
                        <a:pt x="407" y="284"/>
                      </a:lnTo>
                      <a:lnTo>
                        <a:pt x="407" y="293"/>
                      </a:lnTo>
                      <a:lnTo>
                        <a:pt x="399" y="303"/>
                      </a:lnTo>
                      <a:lnTo>
                        <a:pt x="407" y="324"/>
                      </a:lnTo>
                      <a:lnTo>
                        <a:pt x="431" y="349"/>
                      </a:lnTo>
                      <a:lnTo>
                        <a:pt x="462" y="369"/>
                      </a:lnTo>
                      <a:lnTo>
                        <a:pt x="483" y="382"/>
                      </a:lnTo>
                      <a:lnTo>
                        <a:pt x="493" y="396"/>
                      </a:lnTo>
                      <a:lnTo>
                        <a:pt x="493" y="413"/>
                      </a:lnTo>
                      <a:lnTo>
                        <a:pt x="465" y="407"/>
                      </a:lnTo>
                      <a:lnTo>
                        <a:pt x="434" y="407"/>
                      </a:lnTo>
                      <a:lnTo>
                        <a:pt x="417" y="421"/>
                      </a:lnTo>
                      <a:lnTo>
                        <a:pt x="413" y="442"/>
                      </a:lnTo>
                      <a:lnTo>
                        <a:pt x="409" y="462"/>
                      </a:lnTo>
                      <a:lnTo>
                        <a:pt x="395" y="458"/>
                      </a:lnTo>
                      <a:lnTo>
                        <a:pt x="348" y="433"/>
                      </a:lnTo>
                      <a:lnTo>
                        <a:pt x="319" y="433"/>
                      </a:lnTo>
                      <a:lnTo>
                        <a:pt x="308" y="444"/>
                      </a:lnTo>
                      <a:lnTo>
                        <a:pt x="294" y="462"/>
                      </a:lnTo>
                      <a:lnTo>
                        <a:pt x="282" y="467"/>
                      </a:lnTo>
                      <a:lnTo>
                        <a:pt x="269" y="454"/>
                      </a:lnTo>
                      <a:lnTo>
                        <a:pt x="240" y="431"/>
                      </a:lnTo>
                      <a:lnTo>
                        <a:pt x="219" y="429"/>
                      </a:lnTo>
                      <a:lnTo>
                        <a:pt x="199" y="440"/>
                      </a:lnTo>
                      <a:lnTo>
                        <a:pt x="170" y="469"/>
                      </a:lnTo>
                      <a:lnTo>
                        <a:pt x="157" y="473"/>
                      </a:lnTo>
                      <a:lnTo>
                        <a:pt x="147" y="466"/>
                      </a:lnTo>
                      <a:lnTo>
                        <a:pt x="139" y="456"/>
                      </a:lnTo>
                      <a:lnTo>
                        <a:pt x="141" y="429"/>
                      </a:lnTo>
                      <a:lnTo>
                        <a:pt x="122" y="423"/>
                      </a:lnTo>
                      <a:lnTo>
                        <a:pt x="97" y="431"/>
                      </a:lnTo>
                      <a:lnTo>
                        <a:pt x="70" y="456"/>
                      </a:lnTo>
                      <a:lnTo>
                        <a:pt x="54" y="481"/>
                      </a:lnTo>
                      <a:lnTo>
                        <a:pt x="40" y="495"/>
                      </a:lnTo>
                      <a:lnTo>
                        <a:pt x="33" y="485"/>
                      </a:lnTo>
                      <a:lnTo>
                        <a:pt x="27" y="485"/>
                      </a:lnTo>
                      <a:lnTo>
                        <a:pt x="25" y="467"/>
                      </a:lnTo>
                      <a:lnTo>
                        <a:pt x="21" y="435"/>
                      </a:lnTo>
                      <a:lnTo>
                        <a:pt x="17" y="417"/>
                      </a:lnTo>
                      <a:lnTo>
                        <a:pt x="0" y="421"/>
                      </a:lnTo>
                      <a:lnTo>
                        <a:pt x="4" y="458"/>
                      </a:lnTo>
                      <a:lnTo>
                        <a:pt x="11" y="489"/>
                      </a:lnTo>
                      <a:lnTo>
                        <a:pt x="27" y="510"/>
                      </a:lnTo>
                      <a:lnTo>
                        <a:pt x="42" y="518"/>
                      </a:lnTo>
                      <a:lnTo>
                        <a:pt x="58" y="506"/>
                      </a:lnTo>
                      <a:lnTo>
                        <a:pt x="77" y="467"/>
                      </a:lnTo>
                      <a:lnTo>
                        <a:pt x="95" y="444"/>
                      </a:lnTo>
                      <a:lnTo>
                        <a:pt x="112" y="436"/>
                      </a:lnTo>
                      <a:lnTo>
                        <a:pt x="128" y="438"/>
                      </a:lnTo>
                      <a:lnTo>
                        <a:pt x="131" y="469"/>
                      </a:lnTo>
                      <a:lnTo>
                        <a:pt x="139" y="487"/>
                      </a:lnTo>
                      <a:lnTo>
                        <a:pt x="155" y="489"/>
                      </a:lnTo>
                      <a:lnTo>
                        <a:pt x="174" y="479"/>
                      </a:lnTo>
                      <a:lnTo>
                        <a:pt x="213" y="450"/>
                      </a:lnTo>
                      <a:lnTo>
                        <a:pt x="226" y="444"/>
                      </a:lnTo>
                      <a:lnTo>
                        <a:pt x="242" y="452"/>
                      </a:lnTo>
                      <a:lnTo>
                        <a:pt x="273" y="481"/>
                      </a:lnTo>
                      <a:lnTo>
                        <a:pt x="282" y="485"/>
                      </a:lnTo>
                      <a:lnTo>
                        <a:pt x="304" y="477"/>
                      </a:lnTo>
                      <a:lnTo>
                        <a:pt x="327" y="452"/>
                      </a:lnTo>
                      <a:lnTo>
                        <a:pt x="337" y="448"/>
                      </a:lnTo>
                      <a:lnTo>
                        <a:pt x="352" y="456"/>
                      </a:lnTo>
                      <a:lnTo>
                        <a:pt x="407" y="481"/>
                      </a:lnTo>
                      <a:lnTo>
                        <a:pt x="421" y="477"/>
                      </a:lnTo>
                      <a:lnTo>
                        <a:pt x="431" y="452"/>
                      </a:lnTo>
                      <a:lnTo>
                        <a:pt x="440" y="423"/>
                      </a:lnTo>
                      <a:lnTo>
                        <a:pt x="452" y="421"/>
                      </a:lnTo>
                      <a:lnTo>
                        <a:pt x="481" y="421"/>
                      </a:lnTo>
                      <a:lnTo>
                        <a:pt x="504" y="429"/>
                      </a:lnTo>
                      <a:lnTo>
                        <a:pt x="514" y="415"/>
                      </a:lnTo>
                      <a:lnTo>
                        <a:pt x="510" y="394"/>
                      </a:lnTo>
                      <a:lnTo>
                        <a:pt x="493" y="367"/>
                      </a:lnTo>
                      <a:lnTo>
                        <a:pt x="454" y="342"/>
                      </a:lnTo>
                      <a:lnTo>
                        <a:pt x="423" y="316"/>
                      </a:lnTo>
                      <a:lnTo>
                        <a:pt x="423" y="301"/>
                      </a:lnTo>
                      <a:lnTo>
                        <a:pt x="434" y="289"/>
                      </a:lnTo>
                      <a:lnTo>
                        <a:pt x="423" y="272"/>
                      </a:lnTo>
                      <a:lnTo>
                        <a:pt x="377" y="251"/>
                      </a:lnTo>
                      <a:lnTo>
                        <a:pt x="346" y="230"/>
                      </a:lnTo>
                      <a:lnTo>
                        <a:pt x="341" y="224"/>
                      </a:lnTo>
                      <a:lnTo>
                        <a:pt x="331" y="217"/>
                      </a:lnTo>
                      <a:lnTo>
                        <a:pt x="337" y="213"/>
                      </a:lnTo>
                      <a:lnTo>
                        <a:pt x="339" y="186"/>
                      </a:lnTo>
                      <a:lnTo>
                        <a:pt x="331" y="168"/>
                      </a:lnTo>
                      <a:lnTo>
                        <a:pt x="329" y="151"/>
                      </a:lnTo>
                      <a:lnTo>
                        <a:pt x="346" y="145"/>
                      </a:lnTo>
                      <a:lnTo>
                        <a:pt x="370" y="139"/>
                      </a:lnTo>
                      <a:lnTo>
                        <a:pt x="370" y="126"/>
                      </a:lnTo>
                      <a:lnTo>
                        <a:pt x="342" y="104"/>
                      </a:lnTo>
                      <a:lnTo>
                        <a:pt x="298" y="73"/>
                      </a:lnTo>
                      <a:lnTo>
                        <a:pt x="277" y="42"/>
                      </a:lnTo>
                      <a:lnTo>
                        <a:pt x="275" y="27"/>
                      </a:lnTo>
                      <a:lnTo>
                        <a:pt x="282" y="11"/>
                      </a:lnTo>
                      <a:lnTo>
                        <a:pt x="356" y="19"/>
                      </a:lnTo>
                      <a:lnTo>
                        <a:pt x="337" y="6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457080" y="2944800"/>
                <a:ext cx="22680" cy="70200"/>
                <a:chOff x="3457080" y="2944800"/>
                <a:chExt cx="22680" cy="7020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457080" y="2944800"/>
                  <a:ext cx="21960" cy="66600"/>
                </a:xfrm>
                <a:custGeom>
                  <a:avLst/>
                  <a:gdLst/>
                  <a:ahLst/>
                  <a:rect l="l" t="t" r="r" b="b"/>
                  <a:pathLst>
                    <a:path w="50" h="135">
                      <a:moveTo>
                        <a:pt x="31" y="75"/>
                      </a:moveTo>
                      <a:lnTo>
                        <a:pt x="21" y="129"/>
                      </a:lnTo>
                      <a:lnTo>
                        <a:pt x="27" y="132"/>
                      </a:lnTo>
                      <a:lnTo>
                        <a:pt x="35" y="135"/>
                      </a:lnTo>
                      <a:lnTo>
                        <a:pt x="46" y="54"/>
                      </a:lnTo>
                      <a:lnTo>
                        <a:pt x="50" y="29"/>
                      </a:lnTo>
                      <a:lnTo>
                        <a:pt x="48" y="18"/>
                      </a:lnTo>
                      <a:lnTo>
                        <a:pt x="46" y="11"/>
                      </a:lnTo>
                      <a:lnTo>
                        <a:pt x="39" y="3"/>
                      </a:lnTo>
                      <a:lnTo>
                        <a:pt x="32" y="0"/>
                      </a:lnTo>
                      <a:lnTo>
                        <a:pt x="25" y="1"/>
                      </a:lnTo>
                      <a:lnTo>
                        <a:pt x="15" y="4"/>
                      </a:lnTo>
                      <a:lnTo>
                        <a:pt x="6" y="13"/>
                      </a:lnTo>
                      <a:lnTo>
                        <a:pt x="1" y="25"/>
                      </a:lnTo>
                      <a:lnTo>
                        <a:pt x="0" y="30"/>
                      </a:lnTo>
                      <a:lnTo>
                        <a:pt x="6" y="36"/>
                      </a:lnTo>
                      <a:lnTo>
                        <a:pt x="14" y="28"/>
                      </a:lnTo>
                      <a:lnTo>
                        <a:pt x="18" y="16"/>
                      </a:lnTo>
                      <a:lnTo>
                        <a:pt x="25" y="12"/>
                      </a:lnTo>
                      <a:lnTo>
                        <a:pt x="31" y="13"/>
                      </a:lnTo>
                      <a:lnTo>
                        <a:pt x="36" y="19"/>
                      </a:lnTo>
                      <a:lnTo>
                        <a:pt x="38" y="32"/>
                      </a:lnTo>
                      <a:lnTo>
                        <a:pt x="31" y="75"/>
                      </a:lnTo>
                      <a:close/>
                    </a:path>
                  </a:pathLst>
                </a:custGeom>
                <a:solidFill>
                  <a:srgbClr val="ff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466080" y="2994480"/>
                  <a:ext cx="7200" cy="126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0" y="26"/>
                      </a:moveTo>
                      <a:lnTo>
                        <a:pt x="2" y="11"/>
                      </a:lnTo>
                      <a:lnTo>
                        <a:pt x="17" y="0"/>
                      </a:lnTo>
                      <a:lnTo>
                        <a:pt x="14" y="17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468960" y="2980800"/>
                  <a:ext cx="7200" cy="126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0" y="26"/>
                      </a:moveTo>
                      <a:lnTo>
                        <a:pt x="2" y="11"/>
                      </a:lnTo>
                      <a:lnTo>
                        <a:pt x="17" y="0"/>
                      </a:lnTo>
                      <a:lnTo>
                        <a:pt x="14" y="17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470760" y="2966040"/>
                  <a:ext cx="7200" cy="126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0" y="26"/>
                      </a:moveTo>
                      <a:lnTo>
                        <a:pt x="2" y="11"/>
                      </a:lnTo>
                      <a:lnTo>
                        <a:pt x="17" y="0"/>
                      </a:lnTo>
                      <a:lnTo>
                        <a:pt x="14" y="17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472920" y="2951640"/>
                  <a:ext cx="6840" cy="12600"/>
                </a:xfrm>
                <a:custGeom>
                  <a:avLst/>
                  <a:gdLst/>
                  <a:ahLst/>
                  <a:rect l="l" t="t" r="r" b="b"/>
                  <a:pathLst>
                    <a:path w="16" h="26">
                      <a:moveTo>
                        <a:pt x="0" y="26"/>
                      </a:moveTo>
                      <a:lnTo>
                        <a:pt x="3" y="11"/>
                      </a:lnTo>
                      <a:lnTo>
                        <a:pt x="14" y="0"/>
                      </a:lnTo>
                      <a:lnTo>
                        <a:pt x="16" y="15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465720" y="2945160"/>
                  <a:ext cx="6840" cy="792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16" y="16"/>
                      </a:moveTo>
                      <a:lnTo>
                        <a:pt x="13" y="0"/>
                      </a:lnTo>
                      <a:lnTo>
                        <a:pt x="0" y="1"/>
                      </a:lnTo>
                      <a:lnTo>
                        <a:pt x="10" y="12"/>
                      </a:lnTo>
                      <a:lnTo>
                        <a:pt x="16" y="16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3457440" y="2949480"/>
                  <a:ext cx="8640" cy="7560"/>
                </a:xfrm>
                <a:custGeom>
                  <a:avLst/>
                  <a:gdLst/>
                  <a:ahLst/>
                  <a:rect l="l" t="t" r="r" b="b"/>
                  <a:pathLst>
                    <a:path w="20" h="16">
                      <a:moveTo>
                        <a:pt x="20" y="4"/>
                      </a:moveTo>
                      <a:lnTo>
                        <a:pt x="8" y="0"/>
                      </a:lnTo>
                      <a:lnTo>
                        <a:pt x="0" y="16"/>
                      </a:lnTo>
                      <a:lnTo>
                        <a:pt x="14" y="13"/>
                      </a:lnTo>
                      <a:lnTo>
                        <a:pt x="20" y="4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3457800" y="2958840"/>
                  <a:ext cx="6840" cy="756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16" y="0"/>
                      </a:moveTo>
                      <a:lnTo>
                        <a:pt x="0" y="5"/>
                      </a:lnTo>
                      <a:lnTo>
                        <a:pt x="12" y="16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468960" y="3007440"/>
                  <a:ext cx="6840" cy="756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9"/>
                      </a:moveTo>
                      <a:lnTo>
                        <a:pt x="16" y="0"/>
                      </a:lnTo>
                      <a:lnTo>
                        <a:pt x="15" y="16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3539160" y="3007080"/>
                <a:ext cx="23040" cy="70560"/>
                <a:chOff x="3539160" y="3007080"/>
                <a:chExt cx="23040" cy="7056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3539160" y="3007080"/>
                  <a:ext cx="21960" cy="66240"/>
                </a:xfrm>
                <a:custGeom>
                  <a:avLst/>
                  <a:gdLst/>
                  <a:ahLst/>
                  <a:rect l="l" t="t" r="r" b="b"/>
                  <a:pathLst>
                    <a:path w="50" h="134">
                      <a:moveTo>
                        <a:pt x="20" y="75"/>
                      </a:moveTo>
                      <a:lnTo>
                        <a:pt x="30" y="129"/>
                      </a:lnTo>
                      <a:lnTo>
                        <a:pt x="24" y="132"/>
                      </a:lnTo>
                      <a:lnTo>
                        <a:pt x="15" y="134"/>
                      </a:lnTo>
                      <a:lnTo>
                        <a:pt x="4" y="54"/>
                      </a:lnTo>
                      <a:lnTo>
                        <a:pt x="0" y="29"/>
                      </a:lnTo>
                      <a:lnTo>
                        <a:pt x="3" y="18"/>
                      </a:lnTo>
                      <a:lnTo>
                        <a:pt x="4" y="11"/>
                      </a:lnTo>
                      <a:lnTo>
                        <a:pt x="11" y="4"/>
                      </a:lnTo>
                      <a:lnTo>
                        <a:pt x="19" y="0"/>
                      </a:lnTo>
                      <a:lnTo>
                        <a:pt x="26" y="1"/>
                      </a:lnTo>
                      <a:lnTo>
                        <a:pt x="35" y="4"/>
                      </a:lnTo>
                      <a:lnTo>
                        <a:pt x="44" y="14"/>
                      </a:lnTo>
                      <a:lnTo>
                        <a:pt x="50" y="25"/>
                      </a:lnTo>
                      <a:lnTo>
                        <a:pt x="50" y="30"/>
                      </a:lnTo>
                      <a:lnTo>
                        <a:pt x="44" y="36"/>
                      </a:lnTo>
                      <a:lnTo>
                        <a:pt x="37" y="29"/>
                      </a:lnTo>
                      <a:lnTo>
                        <a:pt x="32" y="16"/>
                      </a:lnTo>
                      <a:lnTo>
                        <a:pt x="26" y="12"/>
                      </a:lnTo>
                      <a:lnTo>
                        <a:pt x="19" y="13"/>
                      </a:lnTo>
                      <a:lnTo>
                        <a:pt x="15" y="20"/>
                      </a:lnTo>
                      <a:lnTo>
                        <a:pt x="13" y="32"/>
                      </a:lnTo>
                      <a:lnTo>
                        <a:pt x="20" y="75"/>
                      </a:lnTo>
                      <a:close/>
                    </a:path>
                  </a:pathLst>
                </a:custGeom>
                <a:solidFill>
                  <a:srgbClr val="ff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543840" y="3057120"/>
                  <a:ext cx="7920" cy="12600"/>
                </a:xfrm>
                <a:custGeom>
                  <a:avLst/>
                  <a:gdLst/>
                  <a:ahLst/>
                  <a:rect l="l" t="t" r="r" b="b"/>
                  <a:pathLst>
                    <a:path w="18" h="26">
                      <a:moveTo>
                        <a:pt x="18" y="26"/>
                      </a:moveTo>
                      <a:lnTo>
                        <a:pt x="16" y="12"/>
                      </a:lnTo>
                      <a:lnTo>
                        <a:pt x="0" y="0"/>
                      </a:lnTo>
                      <a:lnTo>
                        <a:pt x="2" y="16"/>
                      </a:lnTo>
                      <a:lnTo>
                        <a:pt x="18" y="26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542040" y="3043080"/>
                  <a:ext cx="6840" cy="12600"/>
                </a:xfrm>
                <a:custGeom>
                  <a:avLst/>
                  <a:gdLst/>
                  <a:ahLst/>
                  <a:rect l="l" t="t" r="r" b="b"/>
                  <a:pathLst>
                    <a:path w="16" h="26">
                      <a:moveTo>
                        <a:pt x="16" y="26"/>
                      </a:moveTo>
                      <a:lnTo>
                        <a:pt x="14" y="11"/>
                      </a:lnTo>
                      <a:lnTo>
                        <a:pt x="0" y="0"/>
                      </a:lnTo>
                      <a:lnTo>
                        <a:pt x="2" y="17"/>
                      </a:lnTo>
                      <a:lnTo>
                        <a:pt x="16" y="26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3539880" y="3027600"/>
                  <a:ext cx="7200" cy="13320"/>
                </a:xfrm>
                <a:custGeom>
                  <a:avLst/>
                  <a:gdLst/>
                  <a:ahLst/>
                  <a:rect l="l" t="t" r="r" b="b"/>
                  <a:pathLst>
                    <a:path w="17" h="27">
                      <a:moveTo>
                        <a:pt x="17" y="27"/>
                      </a:moveTo>
                      <a:lnTo>
                        <a:pt x="14" y="11"/>
                      </a:lnTo>
                      <a:lnTo>
                        <a:pt x="0" y="0"/>
                      </a:lnTo>
                      <a:lnTo>
                        <a:pt x="2" y="17"/>
                      </a:lnTo>
                      <a:lnTo>
                        <a:pt x="17" y="27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539880" y="3013560"/>
                  <a:ext cx="6840" cy="13320"/>
                </a:xfrm>
                <a:custGeom>
                  <a:avLst/>
                  <a:gdLst/>
                  <a:ahLst/>
                  <a:rect l="l" t="t" r="r" b="b"/>
                  <a:pathLst>
                    <a:path w="16" h="27">
                      <a:moveTo>
                        <a:pt x="16" y="27"/>
                      </a:moveTo>
                      <a:lnTo>
                        <a:pt x="14" y="11"/>
                      </a:lnTo>
                      <a:lnTo>
                        <a:pt x="3" y="0"/>
                      </a:lnTo>
                      <a:lnTo>
                        <a:pt x="0" y="14"/>
                      </a:lnTo>
                      <a:lnTo>
                        <a:pt x="16" y="27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545280" y="3007440"/>
                  <a:ext cx="6840" cy="756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16"/>
                      </a:moveTo>
                      <a:lnTo>
                        <a:pt x="3" y="0"/>
                      </a:lnTo>
                      <a:lnTo>
                        <a:pt x="16" y="1"/>
                      </a:lnTo>
                      <a:lnTo>
                        <a:pt x="7" y="12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551760" y="301176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20" h="16">
                      <a:moveTo>
                        <a:pt x="0" y="4"/>
                      </a:moveTo>
                      <a:lnTo>
                        <a:pt x="12" y="0"/>
                      </a:lnTo>
                      <a:lnTo>
                        <a:pt x="20" y="16"/>
                      </a:lnTo>
                      <a:lnTo>
                        <a:pt x="6" y="1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555360" y="3020760"/>
                  <a:ext cx="6840" cy="756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0"/>
                      </a:moveTo>
                      <a:lnTo>
                        <a:pt x="16" y="5"/>
                      </a:lnTo>
                      <a:lnTo>
                        <a:pt x="4" y="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544560" y="3069720"/>
                  <a:ext cx="6840" cy="792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16" y="9"/>
                      </a:moveTo>
                      <a:lnTo>
                        <a:pt x="0" y="0"/>
                      </a:lnTo>
                      <a:lnTo>
                        <a:pt x="1" y="16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3622680" y="3107880"/>
                <a:ext cx="23040" cy="70560"/>
                <a:chOff x="3622680" y="3107880"/>
                <a:chExt cx="23040" cy="7056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3622680" y="3107880"/>
                  <a:ext cx="21600" cy="66240"/>
                </a:xfrm>
                <a:custGeom>
                  <a:avLst/>
                  <a:gdLst/>
                  <a:ahLst/>
                  <a:rect l="l" t="t" r="r" b="b"/>
                  <a:pathLst>
                    <a:path w="49" h="134">
                      <a:moveTo>
                        <a:pt x="19" y="75"/>
                      </a:moveTo>
                      <a:lnTo>
                        <a:pt x="28" y="129"/>
                      </a:lnTo>
                      <a:lnTo>
                        <a:pt x="23" y="132"/>
                      </a:lnTo>
                      <a:lnTo>
                        <a:pt x="14" y="134"/>
                      </a:lnTo>
                      <a:lnTo>
                        <a:pt x="4" y="54"/>
                      </a:lnTo>
                      <a:lnTo>
                        <a:pt x="0" y="29"/>
                      </a:lnTo>
                      <a:lnTo>
                        <a:pt x="2" y="18"/>
                      </a:lnTo>
                      <a:lnTo>
                        <a:pt x="4" y="11"/>
                      </a:lnTo>
                      <a:lnTo>
                        <a:pt x="11" y="4"/>
                      </a:lnTo>
                      <a:lnTo>
                        <a:pt x="18" y="0"/>
                      </a:lnTo>
                      <a:lnTo>
                        <a:pt x="25" y="1"/>
                      </a:lnTo>
                      <a:lnTo>
                        <a:pt x="34" y="4"/>
                      </a:lnTo>
                      <a:lnTo>
                        <a:pt x="43" y="14"/>
                      </a:lnTo>
                      <a:lnTo>
                        <a:pt x="48" y="25"/>
                      </a:lnTo>
                      <a:lnTo>
                        <a:pt x="49" y="30"/>
                      </a:lnTo>
                      <a:lnTo>
                        <a:pt x="43" y="36"/>
                      </a:lnTo>
                      <a:lnTo>
                        <a:pt x="35" y="29"/>
                      </a:lnTo>
                      <a:lnTo>
                        <a:pt x="31" y="16"/>
                      </a:lnTo>
                      <a:lnTo>
                        <a:pt x="25" y="12"/>
                      </a:lnTo>
                      <a:lnTo>
                        <a:pt x="18" y="13"/>
                      </a:lnTo>
                      <a:lnTo>
                        <a:pt x="14" y="20"/>
                      </a:lnTo>
                      <a:lnTo>
                        <a:pt x="12" y="32"/>
                      </a:lnTo>
                      <a:lnTo>
                        <a:pt x="19" y="75"/>
                      </a:lnTo>
                      <a:close/>
                    </a:path>
                  </a:pathLst>
                </a:custGeom>
                <a:solidFill>
                  <a:srgbClr val="ff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627360" y="3157560"/>
                  <a:ext cx="7200" cy="126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17" y="26"/>
                      </a:moveTo>
                      <a:lnTo>
                        <a:pt x="15" y="12"/>
                      </a:lnTo>
                      <a:lnTo>
                        <a:pt x="0" y="0"/>
                      </a:lnTo>
                      <a:lnTo>
                        <a:pt x="1" y="16"/>
                      </a:lnTo>
                      <a:lnTo>
                        <a:pt x="17" y="26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3625200" y="3143880"/>
                  <a:ext cx="7200" cy="126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17" y="26"/>
                      </a:moveTo>
                      <a:lnTo>
                        <a:pt x="15" y="11"/>
                      </a:lnTo>
                      <a:lnTo>
                        <a:pt x="0" y="0"/>
                      </a:lnTo>
                      <a:lnTo>
                        <a:pt x="2" y="17"/>
                      </a:lnTo>
                      <a:lnTo>
                        <a:pt x="17" y="26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623040" y="3128400"/>
                  <a:ext cx="7560" cy="1332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18" y="27"/>
                      </a:moveTo>
                      <a:lnTo>
                        <a:pt x="16" y="11"/>
                      </a:lnTo>
                      <a:lnTo>
                        <a:pt x="0" y="0"/>
                      </a:lnTo>
                      <a:lnTo>
                        <a:pt x="3" y="17"/>
                      </a:lnTo>
                      <a:lnTo>
                        <a:pt x="18" y="27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623400" y="3114000"/>
                  <a:ext cx="6840" cy="13320"/>
                </a:xfrm>
                <a:custGeom>
                  <a:avLst/>
                  <a:gdLst/>
                  <a:ahLst/>
                  <a:rect l="l" t="t" r="r" b="b"/>
                  <a:pathLst>
                    <a:path w="16" h="27">
                      <a:moveTo>
                        <a:pt x="16" y="27"/>
                      </a:moveTo>
                      <a:lnTo>
                        <a:pt x="14" y="11"/>
                      </a:lnTo>
                      <a:lnTo>
                        <a:pt x="3" y="0"/>
                      </a:lnTo>
                      <a:lnTo>
                        <a:pt x="0" y="14"/>
                      </a:lnTo>
                      <a:lnTo>
                        <a:pt x="16" y="27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628440" y="3108240"/>
                  <a:ext cx="6840" cy="792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16"/>
                      </a:moveTo>
                      <a:lnTo>
                        <a:pt x="3" y="0"/>
                      </a:lnTo>
                      <a:lnTo>
                        <a:pt x="16" y="1"/>
                      </a:lnTo>
                      <a:lnTo>
                        <a:pt x="7" y="12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635280" y="3112200"/>
                  <a:ext cx="8280" cy="7560"/>
                </a:xfrm>
                <a:custGeom>
                  <a:avLst/>
                  <a:gdLst/>
                  <a:ahLst/>
                  <a:rect l="l" t="t" r="r" b="b"/>
                  <a:pathLst>
                    <a:path w="19" h="16">
                      <a:moveTo>
                        <a:pt x="0" y="4"/>
                      </a:moveTo>
                      <a:lnTo>
                        <a:pt x="11" y="0"/>
                      </a:lnTo>
                      <a:lnTo>
                        <a:pt x="19" y="16"/>
                      </a:lnTo>
                      <a:lnTo>
                        <a:pt x="5" y="1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638880" y="3121560"/>
                  <a:ext cx="6840" cy="792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0"/>
                      </a:moveTo>
                      <a:lnTo>
                        <a:pt x="16" y="5"/>
                      </a:lnTo>
                      <a:lnTo>
                        <a:pt x="4" y="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627720" y="3170520"/>
                  <a:ext cx="6840" cy="792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16" y="9"/>
                      </a:moveTo>
                      <a:lnTo>
                        <a:pt x="0" y="0"/>
                      </a:lnTo>
                      <a:lnTo>
                        <a:pt x="1" y="16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3460680" y="3098880"/>
                <a:ext cx="22680" cy="70920"/>
                <a:chOff x="3460680" y="3098880"/>
                <a:chExt cx="22680" cy="709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3460680" y="3098880"/>
                  <a:ext cx="21600" cy="66600"/>
                </a:xfrm>
                <a:custGeom>
                  <a:avLst/>
                  <a:gdLst/>
                  <a:ahLst/>
                  <a:rect l="l" t="t" r="r" b="b"/>
                  <a:pathLst>
                    <a:path w="49" h="135">
                      <a:moveTo>
                        <a:pt x="30" y="76"/>
                      </a:moveTo>
                      <a:lnTo>
                        <a:pt x="20" y="130"/>
                      </a:lnTo>
                      <a:lnTo>
                        <a:pt x="26" y="133"/>
                      </a:lnTo>
                      <a:lnTo>
                        <a:pt x="34" y="135"/>
                      </a:lnTo>
                      <a:lnTo>
                        <a:pt x="45" y="55"/>
                      </a:lnTo>
                      <a:lnTo>
                        <a:pt x="49" y="30"/>
                      </a:lnTo>
                      <a:lnTo>
                        <a:pt x="46" y="19"/>
                      </a:lnTo>
                      <a:lnTo>
                        <a:pt x="45" y="12"/>
                      </a:lnTo>
                      <a:lnTo>
                        <a:pt x="38" y="5"/>
                      </a:lnTo>
                      <a:lnTo>
                        <a:pt x="31" y="0"/>
                      </a:lnTo>
                      <a:lnTo>
                        <a:pt x="24" y="1"/>
                      </a:lnTo>
                      <a:lnTo>
                        <a:pt x="14" y="5"/>
                      </a:lnTo>
                      <a:lnTo>
                        <a:pt x="6" y="15"/>
                      </a:lnTo>
                      <a:lnTo>
                        <a:pt x="0" y="26"/>
                      </a:lnTo>
                      <a:lnTo>
                        <a:pt x="0" y="31"/>
                      </a:lnTo>
                      <a:lnTo>
                        <a:pt x="6" y="37"/>
                      </a:lnTo>
                      <a:lnTo>
                        <a:pt x="13" y="29"/>
                      </a:lnTo>
                      <a:lnTo>
                        <a:pt x="17" y="18"/>
                      </a:lnTo>
                      <a:lnTo>
                        <a:pt x="24" y="13"/>
                      </a:lnTo>
                      <a:lnTo>
                        <a:pt x="30" y="14"/>
                      </a:lnTo>
                      <a:lnTo>
                        <a:pt x="35" y="21"/>
                      </a:lnTo>
                      <a:lnTo>
                        <a:pt x="37" y="33"/>
                      </a:lnTo>
                      <a:lnTo>
                        <a:pt x="30" y="76"/>
                      </a:lnTo>
                      <a:close/>
                    </a:path>
                  </a:pathLst>
                </a:custGeom>
                <a:solidFill>
                  <a:srgbClr val="ff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3469680" y="3148920"/>
                  <a:ext cx="7200" cy="126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0" y="26"/>
                      </a:moveTo>
                      <a:lnTo>
                        <a:pt x="2" y="11"/>
                      </a:lnTo>
                      <a:lnTo>
                        <a:pt x="17" y="0"/>
                      </a:lnTo>
                      <a:lnTo>
                        <a:pt x="14" y="17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3471840" y="3134520"/>
                  <a:ext cx="7200" cy="13320"/>
                </a:xfrm>
                <a:custGeom>
                  <a:avLst/>
                  <a:gdLst/>
                  <a:ahLst/>
                  <a:rect l="l" t="t" r="r" b="b"/>
                  <a:pathLst>
                    <a:path w="17" h="27">
                      <a:moveTo>
                        <a:pt x="0" y="27"/>
                      </a:moveTo>
                      <a:lnTo>
                        <a:pt x="2" y="11"/>
                      </a:lnTo>
                      <a:lnTo>
                        <a:pt x="17" y="0"/>
                      </a:lnTo>
                      <a:lnTo>
                        <a:pt x="14" y="1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474000" y="3119760"/>
                  <a:ext cx="7200" cy="13320"/>
                </a:xfrm>
                <a:custGeom>
                  <a:avLst/>
                  <a:gdLst/>
                  <a:ahLst/>
                  <a:rect l="l" t="t" r="r" b="b"/>
                  <a:pathLst>
                    <a:path w="17" h="27">
                      <a:moveTo>
                        <a:pt x="0" y="27"/>
                      </a:moveTo>
                      <a:lnTo>
                        <a:pt x="2" y="11"/>
                      </a:lnTo>
                      <a:lnTo>
                        <a:pt x="17" y="0"/>
                      </a:lnTo>
                      <a:lnTo>
                        <a:pt x="14" y="1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476520" y="3105360"/>
                  <a:ext cx="6840" cy="13320"/>
                </a:xfrm>
                <a:custGeom>
                  <a:avLst/>
                  <a:gdLst/>
                  <a:ahLst/>
                  <a:rect l="l" t="t" r="r" b="b"/>
                  <a:pathLst>
                    <a:path w="16" h="27">
                      <a:moveTo>
                        <a:pt x="0" y="27"/>
                      </a:moveTo>
                      <a:lnTo>
                        <a:pt x="3" y="11"/>
                      </a:lnTo>
                      <a:lnTo>
                        <a:pt x="14" y="0"/>
                      </a:lnTo>
                      <a:lnTo>
                        <a:pt x="16" y="15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3469320" y="3098880"/>
                  <a:ext cx="6840" cy="8280"/>
                </a:xfrm>
                <a:custGeom>
                  <a:avLst/>
                  <a:gdLst/>
                  <a:ahLst/>
                  <a:rect l="l" t="t" r="r" b="b"/>
                  <a:pathLst>
                    <a:path w="16" h="17">
                      <a:moveTo>
                        <a:pt x="16" y="17"/>
                      </a:moveTo>
                      <a:lnTo>
                        <a:pt x="13" y="0"/>
                      </a:lnTo>
                      <a:lnTo>
                        <a:pt x="0" y="1"/>
                      </a:lnTo>
                      <a:lnTo>
                        <a:pt x="10" y="13"/>
                      </a:lnTo>
                      <a:lnTo>
                        <a:pt x="16" y="17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3461040" y="3103560"/>
                  <a:ext cx="8280" cy="7560"/>
                </a:xfrm>
                <a:custGeom>
                  <a:avLst/>
                  <a:gdLst/>
                  <a:ahLst/>
                  <a:rect l="l" t="t" r="r" b="b"/>
                  <a:pathLst>
                    <a:path w="19" h="16">
                      <a:moveTo>
                        <a:pt x="19" y="4"/>
                      </a:moveTo>
                      <a:lnTo>
                        <a:pt x="7" y="0"/>
                      </a:lnTo>
                      <a:lnTo>
                        <a:pt x="0" y="16"/>
                      </a:lnTo>
                      <a:lnTo>
                        <a:pt x="13" y="13"/>
                      </a:lnTo>
                      <a:lnTo>
                        <a:pt x="19" y="4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461400" y="3112920"/>
                  <a:ext cx="6840" cy="792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16" y="0"/>
                      </a:moveTo>
                      <a:lnTo>
                        <a:pt x="0" y="5"/>
                      </a:lnTo>
                      <a:lnTo>
                        <a:pt x="12" y="16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472200" y="3161880"/>
                  <a:ext cx="6840" cy="792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9"/>
                      </a:moveTo>
                      <a:lnTo>
                        <a:pt x="16" y="0"/>
                      </a:lnTo>
                      <a:lnTo>
                        <a:pt x="15" y="16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3522600" y="2838600"/>
                <a:ext cx="23040" cy="70200"/>
                <a:chOff x="3522600" y="2838600"/>
                <a:chExt cx="23040" cy="702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3522600" y="2838600"/>
                  <a:ext cx="21240" cy="66600"/>
                </a:xfrm>
                <a:custGeom>
                  <a:avLst/>
                  <a:gdLst/>
                  <a:ahLst/>
                  <a:rect l="l" t="t" r="r" b="b"/>
                  <a:pathLst>
                    <a:path w="49" h="135">
                      <a:moveTo>
                        <a:pt x="19" y="75"/>
                      </a:moveTo>
                      <a:lnTo>
                        <a:pt x="28" y="129"/>
                      </a:lnTo>
                      <a:lnTo>
                        <a:pt x="23" y="132"/>
                      </a:lnTo>
                      <a:lnTo>
                        <a:pt x="14" y="135"/>
                      </a:lnTo>
                      <a:lnTo>
                        <a:pt x="4" y="54"/>
                      </a:lnTo>
                      <a:lnTo>
                        <a:pt x="0" y="28"/>
                      </a:lnTo>
                      <a:lnTo>
                        <a:pt x="2" y="18"/>
                      </a:lnTo>
                      <a:lnTo>
                        <a:pt x="4" y="11"/>
                      </a:lnTo>
                      <a:lnTo>
                        <a:pt x="11" y="3"/>
                      </a:lnTo>
                      <a:lnTo>
                        <a:pt x="18" y="0"/>
                      </a:lnTo>
                      <a:lnTo>
                        <a:pt x="25" y="0"/>
                      </a:lnTo>
                      <a:lnTo>
                        <a:pt x="34" y="4"/>
                      </a:lnTo>
                      <a:lnTo>
                        <a:pt x="43" y="13"/>
                      </a:lnTo>
                      <a:lnTo>
                        <a:pt x="48" y="25"/>
                      </a:lnTo>
                      <a:lnTo>
                        <a:pt x="49" y="30"/>
                      </a:lnTo>
                      <a:lnTo>
                        <a:pt x="43" y="36"/>
                      </a:lnTo>
                      <a:lnTo>
                        <a:pt x="35" y="28"/>
                      </a:lnTo>
                      <a:lnTo>
                        <a:pt x="31" y="16"/>
                      </a:lnTo>
                      <a:lnTo>
                        <a:pt x="25" y="11"/>
                      </a:lnTo>
                      <a:lnTo>
                        <a:pt x="18" y="13"/>
                      </a:lnTo>
                      <a:lnTo>
                        <a:pt x="14" y="19"/>
                      </a:lnTo>
                      <a:lnTo>
                        <a:pt x="12" y="32"/>
                      </a:lnTo>
                      <a:lnTo>
                        <a:pt x="19" y="75"/>
                      </a:lnTo>
                      <a:close/>
                    </a:path>
                  </a:pathLst>
                </a:custGeom>
                <a:solidFill>
                  <a:srgbClr val="ff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3527280" y="2888280"/>
                  <a:ext cx="7200" cy="12240"/>
                </a:xfrm>
                <a:custGeom>
                  <a:avLst/>
                  <a:gdLst/>
                  <a:ahLst/>
                  <a:rect l="l" t="t" r="r" b="b"/>
                  <a:pathLst>
                    <a:path w="17" h="25">
                      <a:moveTo>
                        <a:pt x="17" y="25"/>
                      </a:moveTo>
                      <a:lnTo>
                        <a:pt x="15" y="12"/>
                      </a:lnTo>
                      <a:lnTo>
                        <a:pt x="0" y="0"/>
                      </a:lnTo>
                      <a:lnTo>
                        <a:pt x="1" y="16"/>
                      </a:lnTo>
                      <a:lnTo>
                        <a:pt x="17" y="25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3525120" y="2874600"/>
                  <a:ext cx="7200" cy="13320"/>
                </a:xfrm>
                <a:custGeom>
                  <a:avLst/>
                  <a:gdLst/>
                  <a:ahLst/>
                  <a:rect l="l" t="t" r="r" b="b"/>
                  <a:pathLst>
                    <a:path w="17" h="27">
                      <a:moveTo>
                        <a:pt x="17" y="27"/>
                      </a:moveTo>
                      <a:lnTo>
                        <a:pt x="15" y="11"/>
                      </a:lnTo>
                      <a:lnTo>
                        <a:pt x="0" y="0"/>
                      </a:lnTo>
                      <a:lnTo>
                        <a:pt x="2" y="17"/>
                      </a:lnTo>
                      <a:lnTo>
                        <a:pt x="17" y="27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3522960" y="2859840"/>
                  <a:ext cx="7200" cy="126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17" y="26"/>
                      </a:moveTo>
                      <a:lnTo>
                        <a:pt x="14" y="11"/>
                      </a:lnTo>
                      <a:lnTo>
                        <a:pt x="0" y="0"/>
                      </a:lnTo>
                      <a:lnTo>
                        <a:pt x="2" y="17"/>
                      </a:lnTo>
                      <a:lnTo>
                        <a:pt x="17" y="26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3523320" y="2845440"/>
                  <a:ext cx="6840" cy="12600"/>
                </a:xfrm>
                <a:custGeom>
                  <a:avLst/>
                  <a:gdLst/>
                  <a:ahLst/>
                  <a:rect l="l" t="t" r="r" b="b"/>
                  <a:pathLst>
                    <a:path w="16" h="26">
                      <a:moveTo>
                        <a:pt x="16" y="26"/>
                      </a:moveTo>
                      <a:lnTo>
                        <a:pt x="14" y="11"/>
                      </a:lnTo>
                      <a:lnTo>
                        <a:pt x="3" y="0"/>
                      </a:lnTo>
                      <a:lnTo>
                        <a:pt x="0" y="14"/>
                      </a:lnTo>
                      <a:lnTo>
                        <a:pt x="16" y="26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3528720" y="2838960"/>
                  <a:ext cx="6840" cy="792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16"/>
                      </a:moveTo>
                      <a:lnTo>
                        <a:pt x="3" y="0"/>
                      </a:lnTo>
                      <a:lnTo>
                        <a:pt x="16" y="1"/>
                      </a:lnTo>
                      <a:lnTo>
                        <a:pt x="7" y="12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3535200" y="2843280"/>
                  <a:ext cx="8280" cy="7560"/>
                </a:xfrm>
                <a:custGeom>
                  <a:avLst/>
                  <a:gdLst/>
                  <a:ahLst/>
                  <a:rect l="l" t="t" r="r" b="b"/>
                  <a:pathLst>
                    <a:path w="19" h="16">
                      <a:moveTo>
                        <a:pt x="0" y="4"/>
                      </a:moveTo>
                      <a:lnTo>
                        <a:pt x="11" y="0"/>
                      </a:lnTo>
                      <a:lnTo>
                        <a:pt x="19" y="16"/>
                      </a:lnTo>
                      <a:lnTo>
                        <a:pt x="5" y="1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3538800" y="2852280"/>
                  <a:ext cx="6840" cy="792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0"/>
                      </a:moveTo>
                      <a:lnTo>
                        <a:pt x="16" y="5"/>
                      </a:lnTo>
                      <a:lnTo>
                        <a:pt x="4" y="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3527640" y="2901240"/>
                  <a:ext cx="6840" cy="756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16" y="9"/>
                      </a:moveTo>
                      <a:lnTo>
                        <a:pt x="0" y="0"/>
                      </a:lnTo>
                      <a:lnTo>
                        <a:pt x="1" y="16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9" name=""/>
              <p:cNvSpPr/>
              <p:nvPr/>
            </p:nvSpPr>
            <p:spPr>
              <a:xfrm>
                <a:off x="3526560" y="2773440"/>
                <a:ext cx="21600" cy="24120"/>
              </a:xfrm>
              <a:prstGeom prst="ellipse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493080" y="2825280"/>
                <a:ext cx="22320" cy="2412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38080" y="2860920"/>
                <a:ext cx="21960" cy="24120"/>
              </a:xfrm>
              <a:prstGeom prst="ellipse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481200" y="2915280"/>
                <a:ext cx="21600" cy="24120"/>
              </a:xfrm>
              <a:prstGeom prst="ellipse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542400" y="2911680"/>
                <a:ext cx="22320" cy="2340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597480" y="2956680"/>
                <a:ext cx="21960" cy="23400"/>
              </a:xfrm>
              <a:prstGeom prst="ellipse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499920" y="3060000"/>
                <a:ext cx="22320" cy="23400"/>
              </a:xfrm>
              <a:prstGeom prst="ellipse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453120" y="3030480"/>
                <a:ext cx="21960" cy="2340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517920" y="2979360"/>
                <a:ext cx="22320" cy="2412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77320" y="3042720"/>
                <a:ext cx="21960" cy="23400"/>
              </a:xfrm>
              <a:prstGeom prst="ellipse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49240" y="3135600"/>
                <a:ext cx="21960" cy="2412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599280" y="3086640"/>
                <a:ext cx="21600" cy="2412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664800" y="3146400"/>
                <a:ext cx="22320" cy="23400"/>
              </a:xfrm>
              <a:prstGeom prst="ellipse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429000" y="3132000"/>
                <a:ext cx="22320" cy="23400"/>
              </a:xfrm>
              <a:prstGeom prst="ellipse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3" name=""/>
          <p:cNvGrpSpPr/>
          <p:nvPr/>
        </p:nvGrpSpPr>
        <p:grpSpPr>
          <a:xfrm>
            <a:off x="2666880" y="5105520"/>
            <a:ext cx="2819520" cy="973080"/>
            <a:chOff x="2666880" y="5105520"/>
            <a:chExt cx="2819520" cy="973080"/>
          </a:xfrm>
        </p:grpSpPr>
        <p:sp>
          <p:nvSpPr>
            <p:cNvPr id="354" name=""/>
            <p:cNvSpPr/>
            <p:nvPr/>
          </p:nvSpPr>
          <p:spPr>
            <a:xfrm>
              <a:off x="2666880" y="5181840"/>
              <a:ext cx="2819520" cy="838080"/>
            </a:xfrm>
            <a:prstGeom prst="flowChartInputOutpu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 txBox="1"/>
            <p:nvPr/>
          </p:nvSpPr>
          <p:spPr>
            <a:xfrm>
              <a:off x="3733560" y="5105520"/>
              <a:ext cx="1352520" cy="76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2505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Comic Sans MS"/>
                </a:rPr>
                <a:t>Дни - 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Comic Sans MS"/>
                </a:rPr>
                <a:t>веселые!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5943600" y="5105520"/>
            <a:ext cx="2743200" cy="914040"/>
            <a:chOff x="5943600" y="5105520"/>
            <a:chExt cx="2743200" cy="914040"/>
          </a:xfrm>
        </p:grpSpPr>
        <p:grpSp>
          <p:nvGrpSpPr>
            <p:cNvPr id="357" name=""/>
            <p:cNvGrpSpPr/>
            <p:nvPr/>
          </p:nvGrpSpPr>
          <p:grpSpPr>
            <a:xfrm>
              <a:off x="5943600" y="5181480"/>
              <a:ext cx="2743200" cy="838080"/>
              <a:chOff x="5943600" y="5181480"/>
              <a:chExt cx="2743200" cy="838080"/>
            </a:xfrm>
          </p:grpSpPr>
          <p:sp>
            <p:nvSpPr>
              <p:cNvPr id="358" name=""/>
              <p:cNvSpPr/>
              <p:nvPr/>
            </p:nvSpPr>
            <p:spPr>
              <a:xfrm>
                <a:off x="5943600" y="5181480"/>
                <a:ext cx="2743200" cy="838080"/>
              </a:xfrm>
              <a:prstGeom prst="flowChartInputOutpu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 txBox="1"/>
              <p:nvPr/>
            </p:nvSpPr>
            <p:spPr>
              <a:xfrm>
                <a:off x="6270480" y="5562360"/>
                <a:ext cx="1306800" cy="34308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1740414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Дни - </a:t>
                </a:r>
                <a:endPara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НЕвеселые...</a:t>
                </a:r>
                <a:endPara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7586640" y="5105520"/>
              <a:ext cx="718920" cy="761400"/>
              <a:chOff x="7586640" y="5105520"/>
              <a:chExt cx="718920" cy="761400"/>
            </a:xfrm>
          </p:grpSpPr>
          <p:sp>
            <p:nvSpPr>
              <p:cNvPr id="361" name=""/>
              <p:cNvSpPr/>
              <p:nvPr/>
            </p:nvSpPr>
            <p:spPr>
              <a:xfrm>
                <a:off x="7975440" y="5105520"/>
                <a:ext cx="111960" cy="156600"/>
              </a:xfrm>
              <a:custGeom>
                <a:avLst/>
                <a:gdLst/>
                <a:ahLst/>
                <a:rect l="l" t="t" r="r" b="b"/>
                <a:pathLst>
                  <a:path w="939" h="1129">
                    <a:moveTo>
                      <a:pt x="0" y="1005"/>
                    </a:moveTo>
                    <a:lnTo>
                      <a:pt x="0" y="559"/>
                    </a:lnTo>
                    <a:lnTo>
                      <a:pt x="107" y="291"/>
                    </a:lnTo>
                    <a:lnTo>
                      <a:pt x="250" y="76"/>
                    </a:lnTo>
                    <a:lnTo>
                      <a:pt x="481" y="0"/>
                    </a:lnTo>
                    <a:lnTo>
                      <a:pt x="741" y="15"/>
                    </a:lnTo>
                    <a:lnTo>
                      <a:pt x="899" y="130"/>
                    </a:lnTo>
                    <a:lnTo>
                      <a:pt x="939" y="349"/>
                    </a:lnTo>
                    <a:lnTo>
                      <a:pt x="853" y="648"/>
                    </a:lnTo>
                    <a:lnTo>
                      <a:pt x="316" y="777"/>
                    </a:lnTo>
                    <a:lnTo>
                      <a:pt x="280" y="504"/>
                    </a:lnTo>
                    <a:lnTo>
                      <a:pt x="481" y="309"/>
                    </a:lnTo>
                    <a:lnTo>
                      <a:pt x="366" y="534"/>
                    </a:lnTo>
                    <a:lnTo>
                      <a:pt x="376" y="687"/>
                    </a:lnTo>
                    <a:lnTo>
                      <a:pt x="820" y="594"/>
                    </a:lnTo>
                    <a:lnTo>
                      <a:pt x="856" y="256"/>
                    </a:lnTo>
                    <a:lnTo>
                      <a:pt x="726" y="101"/>
                    </a:lnTo>
                    <a:lnTo>
                      <a:pt x="388" y="119"/>
                    </a:lnTo>
                    <a:lnTo>
                      <a:pt x="215" y="363"/>
                    </a:lnTo>
                    <a:lnTo>
                      <a:pt x="125" y="701"/>
                    </a:lnTo>
                    <a:lnTo>
                      <a:pt x="161" y="1129"/>
                    </a:lnTo>
                    <a:lnTo>
                      <a:pt x="0" y="1005"/>
                    </a:lnTo>
                    <a:lnTo>
                      <a:pt x="0" y="10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728480" y="5221440"/>
                <a:ext cx="496800" cy="433800"/>
              </a:xfrm>
              <a:custGeom>
                <a:avLst/>
                <a:gdLst/>
                <a:ahLst/>
                <a:rect l="l" t="t" r="r" b="b"/>
                <a:pathLst>
                  <a:path w="4183" h="3137">
                    <a:moveTo>
                      <a:pt x="2031" y="0"/>
                    </a:moveTo>
                    <a:lnTo>
                      <a:pt x="1265" y="108"/>
                    </a:lnTo>
                    <a:lnTo>
                      <a:pt x="462" y="554"/>
                    </a:lnTo>
                    <a:lnTo>
                      <a:pt x="302" y="874"/>
                    </a:lnTo>
                    <a:lnTo>
                      <a:pt x="89" y="1305"/>
                    </a:lnTo>
                    <a:lnTo>
                      <a:pt x="0" y="1819"/>
                    </a:lnTo>
                    <a:lnTo>
                      <a:pt x="214" y="2336"/>
                    </a:lnTo>
                    <a:lnTo>
                      <a:pt x="607" y="2672"/>
                    </a:lnTo>
                    <a:lnTo>
                      <a:pt x="1371" y="2993"/>
                    </a:lnTo>
                    <a:lnTo>
                      <a:pt x="2670" y="3137"/>
                    </a:lnTo>
                    <a:lnTo>
                      <a:pt x="3757" y="2548"/>
                    </a:lnTo>
                    <a:lnTo>
                      <a:pt x="4183" y="1430"/>
                    </a:lnTo>
                    <a:lnTo>
                      <a:pt x="3739" y="536"/>
                    </a:lnTo>
                    <a:lnTo>
                      <a:pt x="3202" y="257"/>
                    </a:lnTo>
                    <a:lnTo>
                      <a:pt x="2335" y="92"/>
                    </a:lnTo>
                    <a:lnTo>
                      <a:pt x="2321" y="166"/>
                    </a:lnTo>
                    <a:lnTo>
                      <a:pt x="3098" y="331"/>
                    </a:lnTo>
                    <a:lnTo>
                      <a:pt x="3635" y="551"/>
                    </a:lnTo>
                    <a:lnTo>
                      <a:pt x="3900" y="991"/>
                    </a:lnTo>
                    <a:lnTo>
                      <a:pt x="4086" y="1465"/>
                    </a:lnTo>
                    <a:lnTo>
                      <a:pt x="3767" y="2346"/>
                    </a:lnTo>
                    <a:lnTo>
                      <a:pt x="3544" y="2565"/>
                    </a:lnTo>
                    <a:lnTo>
                      <a:pt x="2656" y="3050"/>
                    </a:lnTo>
                    <a:lnTo>
                      <a:pt x="1472" y="2923"/>
                    </a:lnTo>
                    <a:lnTo>
                      <a:pt x="597" y="2580"/>
                    </a:lnTo>
                    <a:lnTo>
                      <a:pt x="208" y="2181"/>
                    </a:lnTo>
                    <a:lnTo>
                      <a:pt x="100" y="1742"/>
                    </a:lnTo>
                    <a:lnTo>
                      <a:pt x="243" y="1151"/>
                    </a:lnTo>
                    <a:lnTo>
                      <a:pt x="562" y="571"/>
                    </a:lnTo>
                    <a:lnTo>
                      <a:pt x="1189" y="241"/>
                    </a:lnTo>
                    <a:lnTo>
                      <a:pt x="2027" y="113"/>
                    </a:lnTo>
                    <a:lnTo>
                      <a:pt x="2031" y="0"/>
                    </a:lnTo>
                    <a:lnTo>
                      <a:pt x="20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933680" y="5292360"/>
                <a:ext cx="52200" cy="62280"/>
              </a:xfrm>
              <a:custGeom>
                <a:avLst/>
                <a:gdLst/>
                <a:ahLst/>
                <a:rect l="l" t="t" r="r" b="b"/>
                <a:pathLst>
                  <a:path w="443" h="453">
                    <a:moveTo>
                      <a:pt x="443" y="114"/>
                    </a:moveTo>
                    <a:lnTo>
                      <a:pt x="157" y="0"/>
                    </a:lnTo>
                    <a:lnTo>
                      <a:pt x="18" y="132"/>
                    </a:lnTo>
                    <a:lnTo>
                      <a:pt x="0" y="293"/>
                    </a:lnTo>
                    <a:lnTo>
                      <a:pt x="161" y="453"/>
                    </a:lnTo>
                    <a:lnTo>
                      <a:pt x="210" y="342"/>
                    </a:lnTo>
                    <a:lnTo>
                      <a:pt x="78" y="233"/>
                    </a:lnTo>
                    <a:lnTo>
                      <a:pt x="166" y="90"/>
                    </a:lnTo>
                    <a:lnTo>
                      <a:pt x="354" y="186"/>
                    </a:lnTo>
                    <a:lnTo>
                      <a:pt x="443" y="114"/>
                    </a:lnTo>
                    <a:lnTo>
                      <a:pt x="443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048160" y="530964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357" h="178">
                    <a:moveTo>
                      <a:pt x="89" y="0"/>
                    </a:moveTo>
                    <a:lnTo>
                      <a:pt x="303" y="35"/>
                    </a:lnTo>
                    <a:lnTo>
                      <a:pt x="357" y="178"/>
                    </a:lnTo>
                    <a:lnTo>
                      <a:pt x="160" y="125"/>
                    </a:lnTo>
                    <a:lnTo>
                      <a:pt x="0" y="72"/>
                    </a:lnTo>
                    <a:lnTo>
                      <a:pt x="89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868520" y="5279760"/>
                <a:ext cx="47880" cy="28800"/>
              </a:xfrm>
              <a:custGeom>
                <a:avLst/>
                <a:gdLst/>
                <a:ahLst/>
                <a:rect l="l" t="t" r="r" b="b"/>
                <a:pathLst>
                  <a:path w="409" h="214">
                    <a:moveTo>
                      <a:pt x="0" y="214"/>
                    </a:moveTo>
                    <a:lnTo>
                      <a:pt x="177" y="106"/>
                    </a:lnTo>
                    <a:lnTo>
                      <a:pt x="355" y="158"/>
                    </a:lnTo>
                    <a:lnTo>
                      <a:pt x="409" y="35"/>
                    </a:lnTo>
                    <a:lnTo>
                      <a:pt x="195" y="0"/>
                    </a:lnTo>
                    <a:lnTo>
                      <a:pt x="53" y="35"/>
                    </a:lnTo>
                    <a:lnTo>
                      <a:pt x="0" y="214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809840" y="5653800"/>
                <a:ext cx="281880" cy="181800"/>
              </a:xfrm>
              <a:custGeom>
                <a:avLst/>
                <a:gdLst/>
                <a:ahLst/>
                <a:rect l="l" t="t" r="r" b="b"/>
                <a:pathLst>
                  <a:path w="2379" h="1319">
                    <a:moveTo>
                      <a:pt x="0" y="741"/>
                    </a:moveTo>
                    <a:lnTo>
                      <a:pt x="106" y="498"/>
                    </a:lnTo>
                    <a:lnTo>
                      <a:pt x="234" y="378"/>
                    </a:lnTo>
                    <a:lnTo>
                      <a:pt x="644" y="104"/>
                    </a:lnTo>
                    <a:lnTo>
                      <a:pt x="1116" y="0"/>
                    </a:lnTo>
                    <a:lnTo>
                      <a:pt x="1704" y="78"/>
                    </a:lnTo>
                    <a:lnTo>
                      <a:pt x="2164" y="309"/>
                    </a:lnTo>
                    <a:lnTo>
                      <a:pt x="2379" y="702"/>
                    </a:lnTo>
                    <a:lnTo>
                      <a:pt x="2379" y="993"/>
                    </a:lnTo>
                    <a:lnTo>
                      <a:pt x="2333" y="1175"/>
                    </a:lnTo>
                    <a:lnTo>
                      <a:pt x="2255" y="1319"/>
                    </a:lnTo>
                    <a:lnTo>
                      <a:pt x="2233" y="1276"/>
                    </a:lnTo>
                    <a:lnTo>
                      <a:pt x="2301" y="1045"/>
                    </a:lnTo>
                    <a:lnTo>
                      <a:pt x="2301" y="908"/>
                    </a:lnTo>
                    <a:lnTo>
                      <a:pt x="2259" y="643"/>
                    </a:lnTo>
                    <a:lnTo>
                      <a:pt x="2106" y="398"/>
                    </a:lnTo>
                    <a:lnTo>
                      <a:pt x="1851" y="238"/>
                    </a:lnTo>
                    <a:lnTo>
                      <a:pt x="1480" y="170"/>
                    </a:lnTo>
                    <a:lnTo>
                      <a:pt x="1129" y="104"/>
                    </a:lnTo>
                    <a:lnTo>
                      <a:pt x="744" y="170"/>
                    </a:lnTo>
                    <a:lnTo>
                      <a:pt x="295" y="402"/>
                    </a:lnTo>
                    <a:lnTo>
                      <a:pt x="149" y="566"/>
                    </a:lnTo>
                    <a:lnTo>
                      <a:pt x="34" y="776"/>
                    </a:lnTo>
                    <a:lnTo>
                      <a:pt x="0" y="741"/>
                    </a:lnTo>
                    <a:lnTo>
                      <a:pt x="0" y="7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870680" y="5720040"/>
                <a:ext cx="177120" cy="108000"/>
              </a:xfrm>
              <a:custGeom>
                <a:avLst/>
                <a:gdLst/>
                <a:ahLst/>
                <a:rect l="l" t="t" r="r" b="b"/>
                <a:pathLst>
                  <a:path w="1499" h="782">
                    <a:moveTo>
                      <a:pt x="41" y="0"/>
                    </a:moveTo>
                    <a:lnTo>
                      <a:pt x="0" y="27"/>
                    </a:lnTo>
                    <a:lnTo>
                      <a:pt x="41" y="342"/>
                    </a:lnTo>
                    <a:lnTo>
                      <a:pt x="82" y="408"/>
                    </a:lnTo>
                    <a:lnTo>
                      <a:pt x="124" y="538"/>
                    </a:lnTo>
                    <a:lnTo>
                      <a:pt x="272" y="645"/>
                    </a:lnTo>
                    <a:lnTo>
                      <a:pt x="556" y="721"/>
                    </a:lnTo>
                    <a:lnTo>
                      <a:pt x="786" y="764"/>
                    </a:lnTo>
                    <a:lnTo>
                      <a:pt x="1086" y="782"/>
                    </a:lnTo>
                    <a:lnTo>
                      <a:pt x="1315" y="755"/>
                    </a:lnTo>
                    <a:lnTo>
                      <a:pt x="1409" y="562"/>
                    </a:lnTo>
                    <a:lnTo>
                      <a:pt x="1434" y="440"/>
                    </a:lnTo>
                    <a:lnTo>
                      <a:pt x="1499" y="317"/>
                    </a:lnTo>
                    <a:lnTo>
                      <a:pt x="1461" y="239"/>
                    </a:lnTo>
                    <a:lnTo>
                      <a:pt x="1375" y="399"/>
                    </a:lnTo>
                    <a:lnTo>
                      <a:pt x="1347" y="513"/>
                    </a:lnTo>
                    <a:lnTo>
                      <a:pt x="1254" y="630"/>
                    </a:lnTo>
                    <a:lnTo>
                      <a:pt x="1112" y="684"/>
                    </a:lnTo>
                    <a:lnTo>
                      <a:pt x="717" y="640"/>
                    </a:lnTo>
                    <a:lnTo>
                      <a:pt x="365" y="575"/>
                    </a:lnTo>
                    <a:lnTo>
                      <a:pt x="244" y="485"/>
                    </a:lnTo>
                    <a:lnTo>
                      <a:pt x="160" y="441"/>
                    </a:lnTo>
                    <a:lnTo>
                      <a:pt x="112" y="26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772400" y="5344920"/>
                <a:ext cx="363240" cy="262800"/>
              </a:xfrm>
              <a:custGeom>
                <a:avLst/>
                <a:gdLst/>
                <a:ahLst/>
                <a:rect l="l" t="t" r="r" b="b"/>
                <a:pathLst>
                  <a:path w="3063" h="1898">
                    <a:moveTo>
                      <a:pt x="0" y="609"/>
                    </a:moveTo>
                    <a:lnTo>
                      <a:pt x="216" y="180"/>
                    </a:lnTo>
                    <a:lnTo>
                      <a:pt x="501" y="0"/>
                    </a:lnTo>
                    <a:lnTo>
                      <a:pt x="1253" y="72"/>
                    </a:lnTo>
                    <a:lnTo>
                      <a:pt x="1879" y="244"/>
                    </a:lnTo>
                    <a:lnTo>
                      <a:pt x="2353" y="378"/>
                    </a:lnTo>
                    <a:lnTo>
                      <a:pt x="2693" y="600"/>
                    </a:lnTo>
                    <a:lnTo>
                      <a:pt x="2959" y="924"/>
                    </a:lnTo>
                    <a:lnTo>
                      <a:pt x="3063" y="1295"/>
                    </a:lnTo>
                    <a:lnTo>
                      <a:pt x="2826" y="1676"/>
                    </a:lnTo>
                    <a:lnTo>
                      <a:pt x="2500" y="1869"/>
                    </a:lnTo>
                    <a:lnTo>
                      <a:pt x="2028" y="1898"/>
                    </a:lnTo>
                    <a:lnTo>
                      <a:pt x="1602" y="1706"/>
                    </a:lnTo>
                    <a:lnTo>
                      <a:pt x="1289" y="1469"/>
                    </a:lnTo>
                    <a:lnTo>
                      <a:pt x="609" y="1433"/>
                    </a:lnTo>
                    <a:lnTo>
                      <a:pt x="73" y="1145"/>
                    </a:lnTo>
                    <a:lnTo>
                      <a:pt x="0" y="609"/>
                    </a:lnTo>
                    <a:lnTo>
                      <a:pt x="0" y="6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818480" y="5739840"/>
                <a:ext cx="48960" cy="29880"/>
              </a:xfrm>
              <a:custGeom>
                <a:avLst/>
                <a:gdLst/>
                <a:ahLst/>
                <a:rect l="l" t="t" r="r" b="b"/>
                <a:pathLst>
                  <a:path w="415" h="222">
                    <a:moveTo>
                      <a:pt x="405" y="0"/>
                    </a:moveTo>
                    <a:lnTo>
                      <a:pt x="250" y="10"/>
                    </a:lnTo>
                    <a:lnTo>
                      <a:pt x="118" y="33"/>
                    </a:lnTo>
                    <a:lnTo>
                      <a:pt x="74" y="114"/>
                    </a:lnTo>
                    <a:lnTo>
                      <a:pt x="0" y="192"/>
                    </a:lnTo>
                    <a:lnTo>
                      <a:pt x="19" y="222"/>
                    </a:lnTo>
                    <a:lnTo>
                      <a:pt x="83" y="148"/>
                    </a:lnTo>
                    <a:lnTo>
                      <a:pt x="152" y="99"/>
                    </a:lnTo>
                    <a:lnTo>
                      <a:pt x="221" y="89"/>
                    </a:lnTo>
                    <a:lnTo>
                      <a:pt x="328" y="89"/>
                    </a:lnTo>
                    <a:lnTo>
                      <a:pt x="415" y="89"/>
                    </a:lnTo>
                    <a:lnTo>
                      <a:pt x="405" y="0"/>
                    </a:lnTo>
                    <a:lnTo>
                      <a:pt x="40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8039880" y="5753880"/>
                <a:ext cx="37080" cy="113040"/>
              </a:xfrm>
              <a:custGeom>
                <a:avLst/>
                <a:gdLst/>
                <a:ahLst/>
                <a:rect l="l" t="t" r="r" b="b"/>
                <a:pathLst>
                  <a:path w="314" h="817">
                    <a:moveTo>
                      <a:pt x="293" y="674"/>
                    </a:moveTo>
                    <a:lnTo>
                      <a:pt x="314" y="767"/>
                    </a:lnTo>
                    <a:lnTo>
                      <a:pt x="298" y="817"/>
                    </a:lnTo>
                    <a:lnTo>
                      <a:pt x="269" y="806"/>
                    </a:lnTo>
                    <a:lnTo>
                      <a:pt x="165" y="767"/>
                    </a:lnTo>
                    <a:lnTo>
                      <a:pt x="87" y="732"/>
                    </a:lnTo>
                    <a:lnTo>
                      <a:pt x="92" y="693"/>
                    </a:lnTo>
                    <a:lnTo>
                      <a:pt x="83" y="639"/>
                    </a:lnTo>
                    <a:lnTo>
                      <a:pt x="0" y="630"/>
                    </a:lnTo>
                    <a:lnTo>
                      <a:pt x="9" y="586"/>
                    </a:lnTo>
                    <a:lnTo>
                      <a:pt x="24" y="547"/>
                    </a:lnTo>
                    <a:lnTo>
                      <a:pt x="68" y="556"/>
                    </a:lnTo>
                    <a:lnTo>
                      <a:pt x="108" y="551"/>
                    </a:lnTo>
                    <a:lnTo>
                      <a:pt x="146" y="536"/>
                    </a:lnTo>
                    <a:lnTo>
                      <a:pt x="165" y="467"/>
                    </a:lnTo>
                    <a:lnTo>
                      <a:pt x="154" y="398"/>
                    </a:lnTo>
                    <a:lnTo>
                      <a:pt x="151" y="335"/>
                    </a:lnTo>
                    <a:lnTo>
                      <a:pt x="108" y="275"/>
                    </a:lnTo>
                    <a:lnTo>
                      <a:pt x="24" y="131"/>
                    </a:lnTo>
                    <a:lnTo>
                      <a:pt x="47" y="0"/>
                    </a:lnTo>
                    <a:lnTo>
                      <a:pt x="190" y="197"/>
                    </a:lnTo>
                    <a:lnTo>
                      <a:pt x="212" y="264"/>
                    </a:lnTo>
                    <a:lnTo>
                      <a:pt x="223" y="340"/>
                    </a:lnTo>
                    <a:lnTo>
                      <a:pt x="223" y="396"/>
                    </a:lnTo>
                    <a:lnTo>
                      <a:pt x="210" y="438"/>
                    </a:lnTo>
                    <a:lnTo>
                      <a:pt x="210" y="507"/>
                    </a:lnTo>
                    <a:lnTo>
                      <a:pt x="186" y="556"/>
                    </a:lnTo>
                    <a:lnTo>
                      <a:pt x="151" y="581"/>
                    </a:lnTo>
                    <a:lnTo>
                      <a:pt x="83" y="575"/>
                    </a:lnTo>
                    <a:lnTo>
                      <a:pt x="34" y="595"/>
                    </a:lnTo>
                    <a:lnTo>
                      <a:pt x="68" y="609"/>
                    </a:lnTo>
                    <a:lnTo>
                      <a:pt x="102" y="620"/>
                    </a:lnTo>
                    <a:lnTo>
                      <a:pt x="117" y="669"/>
                    </a:lnTo>
                    <a:lnTo>
                      <a:pt x="121" y="723"/>
                    </a:lnTo>
                    <a:lnTo>
                      <a:pt x="151" y="738"/>
                    </a:lnTo>
                    <a:lnTo>
                      <a:pt x="156" y="689"/>
                    </a:lnTo>
                    <a:lnTo>
                      <a:pt x="191" y="689"/>
                    </a:lnTo>
                    <a:lnTo>
                      <a:pt x="186" y="738"/>
                    </a:lnTo>
                    <a:lnTo>
                      <a:pt x="210" y="762"/>
                    </a:lnTo>
                    <a:lnTo>
                      <a:pt x="225" y="727"/>
                    </a:lnTo>
                    <a:lnTo>
                      <a:pt x="229" y="698"/>
                    </a:lnTo>
                    <a:lnTo>
                      <a:pt x="249" y="723"/>
                    </a:lnTo>
                    <a:lnTo>
                      <a:pt x="249" y="772"/>
                    </a:lnTo>
                    <a:lnTo>
                      <a:pt x="284" y="777"/>
                    </a:lnTo>
                    <a:lnTo>
                      <a:pt x="279" y="714"/>
                    </a:lnTo>
                    <a:lnTo>
                      <a:pt x="269" y="674"/>
                    </a:lnTo>
                    <a:lnTo>
                      <a:pt x="293" y="674"/>
                    </a:lnTo>
                    <a:lnTo>
                      <a:pt x="293" y="6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892280" y="5715000"/>
                <a:ext cx="10440" cy="9720"/>
              </a:xfrm>
              <a:custGeom>
                <a:avLst/>
                <a:gdLst/>
                <a:ahLst/>
                <a:rect l="l" t="t" r="r" b="b"/>
                <a:pathLst>
                  <a:path w="91" h="79">
                    <a:moveTo>
                      <a:pt x="46" y="0"/>
                    </a:moveTo>
                    <a:lnTo>
                      <a:pt x="0" y="45"/>
                    </a:lnTo>
                    <a:lnTo>
                      <a:pt x="46" y="79"/>
                    </a:lnTo>
                    <a:lnTo>
                      <a:pt x="91" y="33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017200" y="5748840"/>
                <a:ext cx="6120" cy="10080"/>
              </a:xfrm>
              <a:custGeom>
                <a:avLst/>
                <a:gdLst/>
                <a:ahLst/>
                <a:rect l="l" t="t" r="r" b="b"/>
                <a:pathLst>
                  <a:path w="55" h="67">
                    <a:moveTo>
                      <a:pt x="43" y="0"/>
                    </a:moveTo>
                    <a:lnTo>
                      <a:pt x="0" y="22"/>
                    </a:lnTo>
                    <a:lnTo>
                      <a:pt x="10" y="67"/>
                    </a:lnTo>
                    <a:lnTo>
                      <a:pt x="55" y="45"/>
                    </a:lnTo>
                    <a:lnTo>
                      <a:pt x="4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25160" y="5221440"/>
                <a:ext cx="65160" cy="46080"/>
              </a:xfrm>
              <a:custGeom>
                <a:avLst/>
                <a:gdLst/>
                <a:ahLst/>
                <a:rect l="l" t="t" r="r" b="b"/>
                <a:pathLst>
                  <a:path w="550" h="339">
                    <a:moveTo>
                      <a:pt x="550" y="339"/>
                    </a:moveTo>
                    <a:lnTo>
                      <a:pt x="511" y="193"/>
                    </a:lnTo>
                    <a:lnTo>
                      <a:pt x="401" y="89"/>
                    </a:lnTo>
                    <a:lnTo>
                      <a:pt x="250" y="14"/>
                    </a:lnTo>
                    <a:lnTo>
                      <a:pt x="136" y="0"/>
                    </a:lnTo>
                    <a:lnTo>
                      <a:pt x="0" y="79"/>
                    </a:lnTo>
                    <a:lnTo>
                      <a:pt x="2" y="226"/>
                    </a:lnTo>
                    <a:lnTo>
                      <a:pt x="158" y="322"/>
                    </a:lnTo>
                    <a:lnTo>
                      <a:pt x="383" y="305"/>
                    </a:lnTo>
                    <a:lnTo>
                      <a:pt x="550" y="339"/>
                    </a:lnTo>
                    <a:lnTo>
                      <a:pt x="550" y="3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741440" y="5237280"/>
                <a:ext cx="46800" cy="42120"/>
              </a:xfrm>
              <a:custGeom>
                <a:avLst/>
                <a:gdLst/>
                <a:ahLst/>
                <a:rect l="l" t="t" r="r" b="b"/>
                <a:pathLst>
                  <a:path w="393" h="314">
                    <a:moveTo>
                      <a:pt x="385" y="248"/>
                    </a:moveTo>
                    <a:lnTo>
                      <a:pt x="357" y="170"/>
                    </a:lnTo>
                    <a:lnTo>
                      <a:pt x="271" y="78"/>
                    </a:lnTo>
                    <a:lnTo>
                      <a:pt x="110" y="0"/>
                    </a:lnTo>
                    <a:lnTo>
                      <a:pt x="50" y="23"/>
                    </a:lnTo>
                    <a:lnTo>
                      <a:pt x="0" y="128"/>
                    </a:lnTo>
                    <a:lnTo>
                      <a:pt x="29" y="202"/>
                    </a:lnTo>
                    <a:lnTo>
                      <a:pt x="122" y="260"/>
                    </a:lnTo>
                    <a:lnTo>
                      <a:pt x="293" y="262"/>
                    </a:lnTo>
                    <a:lnTo>
                      <a:pt x="393" y="314"/>
                    </a:lnTo>
                    <a:lnTo>
                      <a:pt x="385" y="248"/>
                    </a:lnTo>
                    <a:lnTo>
                      <a:pt x="385" y="2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586640" y="5157720"/>
                <a:ext cx="41400" cy="44640"/>
              </a:xfrm>
              <a:custGeom>
                <a:avLst/>
                <a:gdLst/>
                <a:ahLst/>
                <a:rect l="l" t="t" r="r" b="b"/>
                <a:pathLst>
                  <a:path w="349" h="322">
                    <a:moveTo>
                      <a:pt x="349" y="248"/>
                    </a:moveTo>
                    <a:lnTo>
                      <a:pt x="303" y="156"/>
                    </a:lnTo>
                    <a:lnTo>
                      <a:pt x="235" y="52"/>
                    </a:lnTo>
                    <a:lnTo>
                      <a:pt x="102" y="0"/>
                    </a:lnTo>
                    <a:lnTo>
                      <a:pt x="3" y="63"/>
                    </a:lnTo>
                    <a:lnTo>
                      <a:pt x="0" y="192"/>
                    </a:lnTo>
                    <a:lnTo>
                      <a:pt x="83" y="271"/>
                    </a:lnTo>
                    <a:lnTo>
                      <a:pt x="165" y="252"/>
                    </a:lnTo>
                    <a:lnTo>
                      <a:pt x="250" y="248"/>
                    </a:lnTo>
                    <a:lnTo>
                      <a:pt x="334" y="322"/>
                    </a:lnTo>
                    <a:lnTo>
                      <a:pt x="349" y="248"/>
                    </a:lnTo>
                    <a:lnTo>
                      <a:pt x="349" y="2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684920" y="5133960"/>
                <a:ext cx="40320" cy="34920"/>
              </a:xfrm>
              <a:custGeom>
                <a:avLst/>
                <a:gdLst/>
                <a:ahLst/>
                <a:rect l="l" t="t" r="r" b="b"/>
                <a:pathLst>
                  <a:path w="344" h="256">
                    <a:moveTo>
                      <a:pt x="344" y="256"/>
                    </a:moveTo>
                    <a:lnTo>
                      <a:pt x="338" y="175"/>
                    </a:lnTo>
                    <a:lnTo>
                      <a:pt x="313" y="122"/>
                    </a:lnTo>
                    <a:lnTo>
                      <a:pt x="192" y="29"/>
                    </a:lnTo>
                    <a:lnTo>
                      <a:pt x="56" y="0"/>
                    </a:lnTo>
                    <a:lnTo>
                      <a:pt x="25" y="41"/>
                    </a:lnTo>
                    <a:lnTo>
                      <a:pt x="0" y="98"/>
                    </a:lnTo>
                    <a:lnTo>
                      <a:pt x="32" y="162"/>
                    </a:lnTo>
                    <a:lnTo>
                      <a:pt x="154" y="230"/>
                    </a:lnTo>
                    <a:lnTo>
                      <a:pt x="217" y="210"/>
                    </a:lnTo>
                    <a:lnTo>
                      <a:pt x="282" y="221"/>
                    </a:lnTo>
                    <a:lnTo>
                      <a:pt x="344" y="256"/>
                    </a:lnTo>
                    <a:lnTo>
                      <a:pt x="344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241480" y="5192640"/>
                <a:ext cx="64080" cy="46080"/>
              </a:xfrm>
              <a:custGeom>
                <a:avLst/>
                <a:gdLst/>
                <a:ahLst/>
                <a:rect l="l" t="t" r="r" b="b"/>
                <a:pathLst>
                  <a:path w="548" h="337">
                    <a:moveTo>
                      <a:pt x="0" y="337"/>
                    </a:moveTo>
                    <a:lnTo>
                      <a:pt x="38" y="193"/>
                    </a:lnTo>
                    <a:lnTo>
                      <a:pt x="148" y="90"/>
                    </a:lnTo>
                    <a:lnTo>
                      <a:pt x="299" y="13"/>
                    </a:lnTo>
                    <a:lnTo>
                      <a:pt x="413" y="0"/>
                    </a:lnTo>
                    <a:lnTo>
                      <a:pt x="548" y="77"/>
                    </a:lnTo>
                    <a:lnTo>
                      <a:pt x="547" y="226"/>
                    </a:lnTo>
                    <a:lnTo>
                      <a:pt x="391" y="323"/>
                    </a:lnTo>
                    <a:lnTo>
                      <a:pt x="166" y="304"/>
                    </a:lnTo>
                    <a:lnTo>
                      <a:pt x="0" y="337"/>
                    </a:lnTo>
                    <a:lnTo>
                      <a:pt x="0" y="3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238600" y="5267520"/>
                <a:ext cx="46800" cy="43200"/>
              </a:xfrm>
              <a:custGeom>
                <a:avLst/>
                <a:gdLst/>
                <a:ahLst/>
                <a:rect l="l" t="t" r="r" b="b"/>
                <a:pathLst>
                  <a:path w="394" h="315">
                    <a:moveTo>
                      <a:pt x="8" y="248"/>
                    </a:moveTo>
                    <a:lnTo>
                      <a:pt x="35" y="170"/>
                    </a:lnTo>
                    <a:lnTo>
                      <a:pt x="122" y="79"/>
                    </a:lnTo>
                    <a:lnTo>
                      <a:pt x="283" y="0"/>
                    </a:lnTo>
                    <a:lnTo>
                      <a:pt x="344" y="23"/>
                    </a:lnTo>
                    <a:lnTo>
                      <a:pt x="394" y="127"/>
                    </a:lnTo>
                    <a:lnTo>
                      <a:pt x="364" y="202"/>
                    </a:lnTo>
                    <a:lnTo>
                      <a:pt x="270" y="260"/>
                    </a:lnTo>
                    <a:lnTo>
                      <a:pt x="100" y="263"/>
                    </a:lnTo>
                    <a:lnTo>
                      <a:pt x="0" y="315"/>
                    </a:lnTo>
                    <a:lnTo>
                      <a:pt x="8" y="248"/>
                    </a:lnTo>
                    <a:lnTo>
                      <a:pt x="8" y="2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162640" y="5202720"/>
                <a:ext cx="41400" cy="34560"/>
              </a:xfrm>
              <a:custGeom>
                <a:avLst/>
                <a:gdLst/>
                <a:ahLst/>
                <a:rect l="l" t="t" r="r" b="b"/>
                <a:pathLst>
                  <a:path w="344" h="256">
                    <a:moveTo>
                      <a:pt x="0" y="256"/>
                    </a:moveTo>
                    <a:lnTo>
                      <a:pt x="6" y="175"/>
                    </a:lnTo>
                    <a:lnTo>
                      <a:pt x="30" y="121"/>
                    </a:lnTo>
                    <a:lnTo>
                      <a:pt x="151" y="29"/>
                    </a:lnTo>
                    <a:lnTo>
                      <a:pt x="288" y="0"/>
                    </a:lnTo>
                    <a:lnTo>
                      <a:pt x="319" y="40"/>
                    </a:lnTo>
                    <a:lnTo>
                      <a:pt x="344" y="99"/>
                    </a:lnTo>
                    <a:lnTo>
                      <a:pt x="311" y="163"/>
                    </a:lnTo>
                    <a:lnTo>
                      <a:pt x="189" y="230"/>
                    </a:lnTo>
                    <a:lnTo>
                      <a:pt x="125" y="211"/>
                    </a:lnTo>
                    <a:lnTo>
                      <a:pt x="62" y="221"/>
                    </a:lnTo>
                    <a:lnTo>
                      <a:pt x="0" y="256"/>
                    </a:lnTo>
                    <a:lnTo>
                      <a:pt x="0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693200" y="5141520"/>
                <a:ext cx="24480" cy="20880"/>
              </a:xfrm>
              <a:custGeom>
                <a:avLst/>
                <a:gdLst/>
                <a:ahLst/>
                <a:rect l="l" t="t" r="r" b="b"/>
                <a:pathLst>
                  <a:path w="207" h="155">
                    <a:moveTo>
                      <a:pt x="207" y="155"/>
                    </a:moveTo>
                    <a:lnTo>
                      <a:pt x="204" y="105"/>
                    </a:lnTo>
                    <a:lnTo>
                      <a:pt x="189" y="73"/>
                    </a:lnTo>
                    <a:lnTo>
                      <a:pt x="116" y="18"/>
                    </a:lnTo>
                    <a:lnTo>
                      <a:pt x="34" y="0"/>
                    </a:lnTo>
                    <a:lnTo>
                      <a:pt x="16" y="25"/>
                    </a:lnTo>
                    <a:lnTo>
                      <a:pt x="0" y="60"/>
                    </a:lnTo>
                    <a:lnTo>
                      <a:pt x="20" y="98"/>
                    </a:lnTo>
                    <a:lnTo>
                      <a:pt x="93" y="139"/>
                    </a:lnTo>
                    <a:lnTo>
                      <a:pt x="131" y="126"/>
                    </a:lnTo>
                    <a:lnTo>
                      <a:pt x="170" y="133"/>
                    </a:lnTo>
                    <a:lnTo>
                      <a:pt x="207" y="155"/>
                    </a:lnTo>
                    <a:lnTo>
                      <a:pt x="207" y="1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639920" y="5234760"/>
                <a:ext cx="39600" cy="22320"/>
              </a:xfrm>
              <a:custGeom>
                <a:avLst/>
                <a:gdLst/>
                <a:ahLst/>
                <a:rect l="l" t="t" r="r" b="b"/>
                <a:pathLst>
                  <a:path w="332" h="162">
                    <a:moveTo>
                      <a:pt x="332" y="162"/>
                    </a:moveTo>
                    <a:lnTo>
                      <a:pt x="306" y="76"/>
                    </a:lnTo>
                    <a:lnTo>
                      <a:pt x="241" y="14"/>
                    </a:lnTo>
                    <a:lnTo>
                      <a:pt x="169" y="14"/>
                    </a:lnTo>
                    <a:lnTo>
                      <a:pt x="97" y="0"/>
                    </a:lnTo>
                    <a:lnTo>
                      <a:pt x="0" y="7"/>
                    </a:lnTo>
                    <a:lnTo>
                      <a:pt x="1" y="94"/>
                    </a:lnTo>
                    <a:lnTo>
                      <a:pt x="95" y="153"/>
                    </a:lnTo>
                    <a:lnTo>
                      <a:pt x="230" y="142"/>
                    </a:lnTo>
                    <a:lnTo>
                      <a:pt x="332" y="162"/>
                    </a:lnTo>
                    <a:lnTo>
                      <a:pt x="332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751160" y="5246280"/>
                <a:ext cx="24480" cy="23400"/>
              </a:xfrm>
              <a:custGeom>
                <a:avLst/>
                <a:gdLst/>
                <a:ahLst/>
                <a:rect l="l" t="t" r="r" b="b"/>
                <a:pathLst>
                  <a:path w="212" h="170">
                    <a:moveTo>
                      <a:pt x="208" y="133"/>
                    </a:moveTo>
                    <a:lnTo>
                      <a:pt x="194" y="91"/>
                    </a:lnTo>
                    <a:lnTo>
                      <a:pt x="147" y="42"/>
                    </a:lnTo>
                    <a:lnTo>
                      <a:pt x="60" y="0"/>
                    </a:lnTo>
                    <a:lnTo>
                      <a:pt x="28" y="12"/>
                    </a:lnTo>
                    <a:lnTo>
                      <a:pt x="0" y="68"/>
                    </a:lnTo>
                    <a:lnTo>
                      <a:pt x="15" y="108"/>
                    </a:lnTo>
                    <a:lnTo>
                      <a:pt x="66" y="139"/>
                    </a:lnTo>
                    <a:lnTo>
                      <a:pt x="158" y="141"/>
                    </a:lnTo>
                    <a:lnTo>
                      <a:pt x="212" y="170"/>
                    </a:lnTo>
                    <a:lnTo>
                      <a:pt x="208" y="133"/>
                    </a:lnTo>
                    <a:lnTo>
                      <a:pt x="208" y="1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591680" y="5163840"/>
                <a:ext cx="25560" cy="27360"/>
              </a:xfrm>
              <a:custGeom>
                <a:avLst/>
                <a:gdLst/>
                <a:ahLst/>
                <a:rect l="l" t="t" r="r" b="b"/>
                <a:pathLst>
                  <a:path w="210" h="194">
                    <a:moveTo>
                      <a:pt x="210" y="150"/>
                    </a:moveTo>
                    <a:lnTo>
                      <a:pt x="183" y="95"/>
                    </a:lnTo>
                    <a:lnTo>
                      <a:pt x="141" y="32"/>
                    </a:lnTo>
                    <a:lnTo>
                      <a:pt x="62" y="0"/>
                    </a:lnTo>
                    <a:lnTo>
                      <a:pt x="2" y="39"/>
                    </a:lnTo>
                    <a:lnTo>
                      <a:pt x="0" y="115"/>
                    </a:lnTo>
                    <a:lnTo>
                      <a:pt x="51" y="163"/>
                    </a:lnTo>
                    <a:lnTo>
                      <a:pt x="99" y="152"/>
                    </a:lnTo>
                    <a:lnTo>
                      <a:pt x="151" y="150"/>
                    </a:lnTo>
                    <a:lnTo>
                      <a:pt x="201" y="194"/>
                    </a:lnTo>
                    <a:lnTo>
                      <a:pt x="210" y="150"/>
                    </a:lnTo>
                    <a:lnTo>
                      <a:pt x="210" y="15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259840" y="5200200"/>
                <a:ext cx="35280" cy="24840"/>
              </a:xfrm>
              <a:custGeom>
                <a:avLst/>
                <a:gdLst/>
                <a:ahLst/>
                <a:rect l="l" t="t" r="r" b="b"/>
                <a:pathLst>
                  <a:path w="302" h="185">
                    <a:moveTo>
                      <a:pt x="0" y="185"/>
                    </a:moveTo>
                    <a:lnTo>
                      <a:pt x="21" y="106"/>
                    </a:lnTo>
                    <a:lnTo>
                      <a:pt x="81" y="47"/>
                    </a:lnTo>
                    <a:lnTo>
                      <a:pt x="166" y="7"/>
                    </a:lnTo>
                    <a:lnTo>
                      <a:pt x="228" y="0"/>
                    </a:lnTo>
                    <a:lnTo>
                      <a:pt x="302" y="43"/>
                    </a:lnTo>
                    <a:lnTo>
                      <a:pt x="302" y="124"/>
                    </a:lnTo>
                    <a:lnTo>
                      <a:pt x="216" y="176"/>
                    </a:lnTo>
                    <a:lnTo>
                      <a:pt x="92" y="168"/>
                    </a:lnTo>
                    <a:lnTo>
                      <a:pt x="0" y="185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253360" y="5273640"/>
                <a:ext cx="25200" cy="23400"/>
              </a:xfrm>
              <a:custGeom>
                <a:avLst/>
                <a:gdLst/>
                <a:ahLst/>
                <a:rect l="l" t="t" r="r" b="b"/>
                <a:pathLst>
                  <a:path w="216" h="173">
                    <a:moveTo>
                      <a:pt x="3" y="136"/>
                    </a:moveTo>
                    <a:lnTo>
                      <a:pt x="19" y="94"/>
                    </a:lnTo>
                    <a:lnTo>
                      <a:pt x="66" y="43"/>
                    </a:lnTo>
                    <a:lnTo>
                      <a:pt x="156" y="0"/>
                    </a:lnTo>
                    <a:lnTo>
                      <a:pt x="189" y="12"/>
                    </a:lnTo>
                    <a:lnTo>
                      <a:pt x="216" y="70"/>
                    </a:lnTo>
                    <a:lnTo>
                      <a:pt x="200" y="110"/>
                    </a:lnTo>
                    <a:lnTo>
                      <a:pt x="148" y="143"/>
                    </a:lnTo>
                    <a:lnTo>
                      <a:pt x="56" y="144"/>
                    </a:lnTo>
                    <a:lnTo>
                      <a:pt x="0" y="173"/>
                    </a:lnTo>
                    <a:lnTo>
                      <a:pt x="3" y="136"/>
                    </a:lnTo>
                    <a:lnTo>
                      <a:pt x="3" y="1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174160" y="5208840"/>
                <a:ext cx="22320" cy="19440"/>
              </a:xfrm>
              <a:custGeom>
                <a:avLst/>
                <a:gdLst/>
                <a:ahLst/>
                <a:rect l="l" t="t" r="r" b="b"/>
                <a:pathLst>
                  <a:path w="189" h="140">
                    <a:moveTo>
                      <a:pt x="0" y="140"/>
                    </a:moveTo>
                    <a:lnTo>
                      <a:pt x="3" y="96"/>
                    </a:lnTo>
                    <a:lnTo>
                      <a:pt x="17" y="65"/>
                    </a:lnTo>
                    <a:lnTo>
                      <a:pt x="84" y="15"/>
                    </a:lnTo>
                    <a:lnTo>
                      <a:pt x="158" y="0"/>
                    </a:lnTo>
                    <a:lnTo>
                      <a:pt x="175" y="21"/>
                    </a:lnTo>
                    <a:lnTo>
                      <a:pt x="189" y="53"/>
                    </a:lnTo>
                    <a:lnTo>
                      <a:pt x="170" y="89"/>
                    </a:lnTo>
                    <a:lnTo>
                      <a:pt x="104" y="127"/>
                    </a:lnTo>
                    <a:lnTo>
                      <a:pt x="68" y="115"/>
                    </a:lnTo>
                    <a:lnTo>
                      <a:pt x="34" y="121"/>
                    </a:lnTo>
                    <a:lnTo>
                      <a:pt x="0" y="140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636680" y="5346000"/>
                <a:ext cx="44640" cy="33480"/>
              </a:xfrm>
              <a:custGeom>
                <a:avLst/>
                <a:gdLst/>
                <a:ahLst/>
                <a:rect l="l" t="t" r="r" b="b"/>
                <a:pathLst>
                  <a:path w="383" h="242">
                    <a:moveTo>
                      <a:pt x="383" y="63"/>
                    </a:moveTo>
                    <a:lnTo>
                      <a:pt x="316" y="15"/>
                    </a:lnTo>
                    <a:lnTo>
                      <a:pt x="259" y="0"/>
                    </a:lnTo>
                    <a:lnTo>
                      <a:pt x="111" y="34"/>
                    </a:lnTo>
                    <a:lnTo>
                      <a:pt x="0" y="119"/>
                    </a:lnTo>
                    <a:lnTo>
                      <a:pt x="12" y="169"/>
                    </a:lnTo>
                    <a:lnTo>
                      <a:pt x="39" y="226"/>
                    </a:lnTo>
                    <a:lnTo>
                      <a:pt x="110" y="242"/>
                    </a:lnTo>
                    <a:lnTo>
                      <a:pt x="241" y="192"/>
                    </a:lnTo>
                    <a:lnTo>
                      <a:pt x="266" y="130"/>
                    </a:lnTo>
                    <a:lnTo>
                      <a:pt x="316" y="88"/>
                    </a:lnTo>
                    <a:lnTo>
                      <a:pt x="383" y="63"/>
                    </a:lnTo>
                    <a:lnTo>
                      <a:pt x="38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44960" y="5352120"/>
                <a:ext cx="26640" cy="19800"/>
              </a:xfrm>
              <a:custGeom>
                <a:avLst/>
                <a:gdLst/>
                <a:ahLst/>
                <a:rect l="l" t="t" r="r" b="b"/>
                <a:pathLst>
                  <a:path w="228" h="145">
                    <a:moveTo>
                      <a:pt x="228" y="37"/>
                    </a:moveTo>
                    <a:lnTo>
                      <a:pt x="189" y="8"/>
                    </a:lnTo>
                    <a:lnTo>
                      <a:pt x="156" y="0"/>
                    </a:lnTo>
                    <a:lnTo>
                      <a:pt x="66" y="21"/>
                    </a:lnTo>
                    <a:lnTo>
                      <a:pt x="0" y="71"/>
                    </a:lnTo>
                    <a:lnTo>
                      <a:pt x="8" y="101"/>
                    </a:lnTo>
                    <a:lnTo>
                      <a:pt x="24" y="135"/>
                    </a:lnTo>
                    <a:lnTo>
                      <a:pt x="65" y="145"/>
                    </a:lnTo>
                    <a:lnTo>
                      <a:pt x="145" y="116"/>
                    </a:lnTo>
                    <a:lnTo>
                      <a:pt x="160" y="79"/>
                    </a:lnTo>
                    <a:lnTo>
                      <a:pt x="189" y="54"/>
                    </a:lnTo>
                    <a:lnTo>
                      <a:pt x="228" y="37"/>
                    </a:lnTo>
                    <a:lnTo>
                      <a:pt x="228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239320" y="5373360"/>
                <a:ext cx="45720" cy="33480"/>
              </a:xfrm>
              <a:custGeom>
                <a:avLst/>
                <a:gdLst/>
                <a:ahLst/>
                <a:rect l="l" t="t" r="r" b="b"/>
                <a:pathLst>
                  <a:path w="381" h="241">
                    <a:moveTo>
                      <a:pt x="0" y="63"/>
                    </a:moveTo>
                    <a:lnTo>
                      <a:pt x="67" y="15"/>
                    </a:lnTo>
                    <a:lnTo>
                      <a:pt x="122" y="0"/>
                    </a:lnTo>
                    <a:lnTo>
                      <a:pt x="272" y="34"/>
                    </a:lnTo>
                    <a:lnTo>
                      <a:pt x="381" y="119"/>
                    </a:lnTo>
                    <a:lnTo>
                      <a:pt x="371" y="169"/>
                    </a:lnTo>
                    <a:lnTo>
                      <a:pt x="342" y="226"/>
                    </a:lnTo>
                    <a:lnTo>
                      <a:pt x="272" y="241"/>
                    </a:lnTo>
                    <a:lnTo>
                      <a:pt x="142" y="192"/>
                    </a:lnTo>
                    <a:lnTo>
                      <a:pt x="117" y="130"/>
                    </a:lnTo>
                    <a:lnTo>
                      <a:pt x="68" y="88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251200" y="5379480"/>
                <a:ext cx="27360" cy="19800"/>
              </a:xfrm>
              <a:custGeom>
                <a:avLst/>
                <a:gdLst/>
                <a:ahLst/>
                <a:rect l="l" t="t" r="r" b="b"/>
                <a:pathLst>
                  <a:path w="229" h="145">
                    <a:moveTo>
                      <a:pt x="0" y="38"/>
                    </a:moveTo>
                    <a:lnTo>
                      <a:pt x="41" y="9"/>
                    </a:lnTo>
                    <a:lnTo>
                      <a:pt x="74" y="0"/>
                    </a:lnTo>
                    <a:lnTo>
                      <a:pt x="162" y="20"/>
                    </a:lnTo>
                    <a:lnTo>
                      <a:pt x="229" y="71"/>
                    </a:lnTo>
                    <a:lnTo>
                      <a:pt x="222" y="101"/>
                    </a:lnTo>
                    <a:lnTo>
                      <a:pt x="206" y="136"/>
                    </a:lnTo>
                    <a:lnTo>
                      <a:pt x="165" y="145"/>
                    </a:lnTo>
                    <a:lnTo>
                      <a:pt x="85" y="114"/>
                    </a:lnTo>
                    <a:lnTo>
                      <a:pt x="70" y="77"/>
                    </a:lnTo>
                    <a:lnTo>
                      <a:pt x="41" y="53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975440" y="5105520"/>
                <a:ext cx="111960" cy="156600"/>
              </a:xfrm>
              <a:custGeom>
                <a:avLst/>
                <a:gdLst/>
                <a:ahLst/>
                <a:rect l="l" t="t" r="r" b="b"/>
                <a:pathLst>
                  <a:path w="939" h="1129">
                    <a:moveTo>
                      <a:pt x="0" y="1005"/>
                    </a:moveTo>
                    <a:lnTo>
                      <a:pt x="0" y="559"/>
                    </a:lnTo>
                    <a:lnTo>
                      <a:pt x="107" y="291"/>
                    </a:lnTo>
                    <a:lnTo>
                      <a:pt x="250" y="76"/>
                    </a:lnTo>
                    <a:lnTo>
                      <a:pt x="481" y="0"/>
                    </a:lnTo>
                    <a:lnTo>
                      <a:pt x="741" y="15"/>
                    </a:lnTo>
                    <a:lnTo>
                      <a:pt x="899" y="130"/>
                    </a:lnTo>
                    <a:lnTo>
                      <a:pt x="939" y="349"/>
                    </a:lnTo>
                    <a:lnTo>
                      <a:pt x="853" y="648"/>
                    </a:lnTo>
                    <a:lnTo>
                      <a:pt x="316" y="777"/>
                    </a:lnTo>
                    <a:lnTo>
                      <a:pt x="280" y="504"/>
                    </a:lnTo>
                    <a:lnTo>
                      <a:pt x="481" y="309"/>
                    </a:lnTo>
                    <a:lnTo>
                      <a:pt x="366" y="534"/>
                    </a:lnTo>
                    <a:lnTo>
                      <a:pt x="376" y="687"/>
                    </a:lnTo>
                    <a:lnTo>
                      <a:pt x="820" y="594"/>
                    </a:lnTo>
                    <a:lnTo>
                      <a:pt x="856" y="256"/>
                    </a:lnTo>
                    <a:lnTo>
                      <a:pt x="726" y="101"/>
                    </a:lnTo>
                    <a:lnTo>
                      <a:pt x="388" y="119"/>
                    </a:lnTo>
                    <a:lnTo>
                      <a:pt x="215" y="363"/>
                    </a:lnTo>
                    <a:lnTo>
                      <a:pt x="125" y="701"/>
                    </a:lnTo>
                    <a:lnTo>
                      <a:pt x="161" y="1129"/>
                    </a:lnTo>
                    <a:lnTo>
                      <a:pt x="0" y="1005"/>
                    </a:lnTo>
                    <a:lnTo>
                      <a:pt x="0" y="10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728480" y="5221440"/>
                <a:ext cx="496800" cy="433800"/>
              </a:xfrm>
              <a:custGeom>
                <a:avLst/>
                <a:gdLst/>
                <a:ahLst/>
                <a:rect l="l" t="t" r="r" b="b"/>
                <a:pathLst>
                  <a:path w="4183" h="3137">
                    <a:moveTo>
                      <a:pt x="2031" y="0"/>
                    </a:moveTo>
                    <a:lnTo>
                      <a:pt x="1265" y="108"/>
                    </a:lnTo>
                    <a:lnTo>
                      <a:pt x="462" y="554"/>
                    </a:lnTo>
                    <a:lnTo>
                      <a:pt x="302" y="874"/>
                    </a:lnTo>
                    <a:lnTo>
                      <a:pt x="89" y="1305"/>
                    </a:lnTo>
                    <a:lnTo>
                      <a:pt x="0" y="1819"/>
                    </a:lnTo>
                    <a:lnTo>
                      <a:pt x="214" y="2336"/>
                    </a:lnTo>
                    <a:lnTo>
                      <a:pt x="607" y="2672"/>
                    </a:lnTo>
                    <a:lnTo>
                      <a:pt x="1371" y="2993"/>
                    </a:lnTo>
                    <a:lnTo>
                      <a:pt x="2670" y="3137"/>
                    </a:lnTo>
                    <a:lnTo>
                      <a:pt x="3757" y="2548"/>
                    </a:lnTo>
                    <a:lnTo>
                      <a:pt x="4183" y="1430"/>
                    </a:lnTo>
                    <a:lnTo>
                      <a:pt x="3739" y="536"/>
                    </a:lnTo>
                    <a:lnTo>
                      <a:pt x="3202" y="257"/>
                    </a:lnTo>
                    <a:lnTo>
                      <a:pt x="2335" y="92"/>
                    </a:lnTo>
                    <a:lnTo>
                      <a:pt x="2321" y="166"/>
                    </a:lnTo>
                    <a:lnTo>
                      <a:pt x="3098" y="331"/>
                    </a:lnTo>
                    <a:lnTo>
                      <a:pt x="3635" y="551"/>
                    </a:lnTo>
                    <a:lnTo>
                      <a:pt x="3900" y="991"/>
                    </a:lnTo>
                    <a:lnTo>
                      <a:pt x="4086" y="1465"/>
                    </a:lnTo>
                    <a:lnTo>
                      <a:pt x="3767" y="2346"/>
                    </a:lnTo>
                    <a:lnTo>
                      <a:pt x="3544" y="2565"/>
                    </a:lnTo>
                    <a:lnTo>
                      <a:pt x="2656" y="3050"/>
                    </a:lnTo>
                    <a:lnTo>
                      <a:pt x="1472" y="2923"/>
                    </a:lnTo>
                    <a:lnTo>
                      <a:pt x="597" y="2580"/>
                    </a:lnTo>
                    <a:lnTo>
                      <a:pt x="208" y="2181"/>
                    </a:lnTo>
                    <a:lnTo>
                      <a:pt x="100" y="1742"/>
                    </a:lnTo>
                    <a:lnTo>
                      <a:pt x="243" y="1151"/>
                    </a:lnTo>
                    <a:lnTo>
                      <a:pt x="562" y="571"/>
                    </a:lnTo>
                    <a:lnTo>
                      <a:pt x="1189" y="241"/>
                    </a:lnTo>
                    <a:lnTo>
                      <a:pt x="2027" y="113"/>
                    </a:lnTo>
                    <a:lnTo>
                      <a:pt x="2031" y="0"/>
                    </a:lnTo>
                    <a:lnTo>
                      <a:pt x="20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3" name=""/>
          <p:cNvGrpSpPr/>
          <p:nvPr/>
        </p:nvGrpSpPr>
        <p:grpSpPr>
          <a:xfrm>
            <a:off x="6705720" y="2666880"/>
            <a:ext cx="1523880" cy="990720"/>
            <a:chOff x="6705720" y="2666880"/>
            <a:chExt cx="1523880" cy="990720"/>
          </a:xfrm>
        </p:grpSpPr>
        <p:sp>
          <p:nvSpPr>
            <p:cNvPr id="394" name=""/>
            <p:cNvSpPr/>
            <p:nvPr/>
          </p:nvSpPr>
          <p:spPr>
            <a:xfrm>
              <a:off x="6705720" y="2666880"/>
              <a:ext cx="1523880" cy="990720"/>
            </a:xfrm>
            <a:prstGeom prst="flowChartProcess">
              <a:avLst/>
            </a:prstGeom>
            <a:solidFill>
              <a:srgbClr val="ffffff"/>
            </a:solidFill>
            <a:ln w="76320">
              <a:solidFill>
                <a:srgbClr val="3333cc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40384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5438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038480" y="487692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543800" y="487692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3886200" y="6019560"/>
            <a:ext cx="3581280" cy="686160"/>
            <a:chOff x="3886200" y="6019560"/>
            <a:chExt cx="3581280" cy="686160"/>
          </a:xfrm>
        </p:grpSpPr>
        <p:sp>
          <p:nvSpPr>
            <p:cNvPr id="400" name=""/>
            <p:cNvSpPr/>
            <p:nvPr/>
          </p:nvSpPr>
          <p:spPr>
            <a:xfrm>
              <a:off x="4724280" y="6400800"/>
              <a:ext cx="2135160" cy="304920"/>
            </a:xfrm>
            <a:prstGeom prst="flowChartTerminator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КОНЕ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3886200" y="6019560"/>
              <a:ext cx="3581280" cy="381240"/>
              <a:chOff x="3886200" y="6019560"/>
              <a:chExt cx="3581280" cy="381240"/>
            </a:xfrm>
          </p:grpSpPr>
          <p:sp>
            <p:nvSpPr>
              <p:cNvPr id="402" name=""/>
              <p:cNvSpPr/>
              <p:nvPr/>
            </p:nvSpPr>
            <p:spPr>
              <a:xfrm rot="16200000">
                <a:off x="5600520" y="4304880"/>
                <a:ext cx="152280" cy="3581280"/>
              </a:xfrm>
              <a:custGeom>
                <a:avLst/>
                <a:gdLst>
                  <a:gd name="textAreaLeft" fmla="*/ 44640 w 152280"/>
                  <a:gd name="textAreaRight" fmla="*/ 152640 w 152280"/>
                  <a:gd name="textAreaTop" fmla="*/ 0 h 3581280"/>
                  <a:gd name="textAreaBottom" fmla="*/ 3581640 h 358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0"/>
                      <a:pt x="0" y="0"/>
                    </a:cubicBezTo>
                    <a:lnTo>
                      <a:pt x="0" y="21600"/>
                    </a:lnTo>
                    <a:cubicBezTo>
                      <a:pt x="0" y="216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791320" y="6172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"/>
          <p:cNvGrpSpPr/>
          <p:nvPr/>
        </p:nvGrpSpPr>
        <p:grpSpPr>
          <a:xfrm>
            <a:off x="3276720" y="3886200"/>
            <a:ext cx="1523880" cy="990720"/>
            <a:chOff x="3276720" y="3886200"/>
            <a:chExt cx="1523880" cy="990720"/>
          </a:xfrm>
        </p:grpSpPr>
        <p:sp>
          <p:nvSpPr>
            <p:cNvPr id="405" name=""/>
            <p:cNvSpPr/>
            <p:nvPr/>
          </p:nvSpPr>
          <p:spPr>
            <a:xfrm>
              <a:off x="3276720" y="3886200"/>
              <a:ext cx="1523880" cy="990720"/>
            </a:xfrm>
            <a:prstGeom prst="flowChartProcess">
              <a:avLst/>
            </a:prstGeom>
            <a:solidFill>
              <a:srgbClr val="ffffff"/>
            </a:solidFill>
            <a:ln w="76320">
              <a:solidFill>
                <a:srgbClr val="3333cc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3314880" y="3911760"/>
              <a:ext cx="1485720" cy="914400"/>
              <a:chOff x="3314880" y="3911760"/>
              <a:chExt cx="1485720" cy="914400"/>
            </a:xfrm>
          </p:grpSpPr>
          <p:sp>
            <p:nvSpPr>
              <p:cNvPr id="407" name=""/>
              <p:cNvSpPr/>
              <p:nvPr/>
            </p:nvSpPr>
            <p:spPr>
              <a:xfrm>
                <a:off x="3314880" y="4165920"/>
                <a:ext cx="421560" cy="300960"/>
              </a:xfrm>
              <a:custGeom>
                <a:avLst/>
                <a:gdLst/>
                <a:ahLst/>
                <a:rect l="l" t="t" r="r" b="b"/>
                <a:pathLst>
                  <a:path w="4136" h="1491">
                    <a:moveTo>
                      <a:pt x="0" y="1491"/>
                    </a:moveTo>
                    <a:lnTo>
                      <a:pt x="0" y="17"/>
                    </a:lnTo>
                    <a:lnTo>
                      <a:pt x="92" y="10"/>
                    </a:lnTo>
                    <a:lnTo>
                      <a:pt x="195" y="6"/>
                    </a:lnTo>
                    <a:lnTo>
                      <a:pt x="304" y="3"/>
                    </a:lnTo>
                    <a:lnTo>
                      <a:pt x="420" y="0"/>
                    </a:lnTo>
                    <a:lnTo>
                      <a:pt x="544" y="0"/>
                    </a:lnTo>
                    <a:lnTo>
                      <a:pt x="674" y="0"/>
                    </a:lnTo>
                    <a:lnTo>
                      <a:pt x="807" y="3"/>
                    </a:lnTo>
                    <a:lnTo>
                      <a:pt x="947" y="3"/>
                    </a:lnTo>
                    <a:lnTo>
                      <a:pt x="1094" y="10"/>
                    </a:lnTo>
                    <a:lnTo>
                      <a:pt x="1242" y="17"/>
                    </a:lnTo>
                    <a:lnTo>
                      <a:pt x="1392" y="24"/>
                    </a:lnTo>
                    <a:lnTo>
                      <a:pt x="1546" y="30"/>
                    </a:lnTo>
                    <a:lnTo>
                      <a:pt x="1700" y="41"/>
                    </a:lnTo>
                    <a:lnTo>
                      <a:pt x="1857" y="51"/>
                    </a:lnTo>
                    <a:lnTo>
                      <a:pt x="2015" y="65"/>
                    </a:lnTo>
                    <a:lnTo>
                      <a:pt x="2172" y="78"/>
                    </a:lnTo>
                    <a:lnTo>
                      <a:pt x="2326" y="95"/>
                    </a:lnTo>
                    <a:lnTo>
                      <a:pt x="2484" y="112"/>
                    </a:lnTo>
                    <a:lnTo>
                      <a:pt x="2634" y="130"/>
                    </a:lnTo>
                    <a:lnTo>
                      <a:pt x="2785" y="147"/>
                    </a:lnTo>
                    <a:lnTo>
                      <a:pt x="2932" y="167"/>
                    </a:lnTo>
                    <a:lnTo>
                      <a:pt x="3072" y="191"/>
                    </a:lnTo>
                    <a:lnTo>
                      <a:pt x="3212" y="212"/>
                    </a:lnTo>
                    <a:lnTo>
                      <a:pt x="3342" y="236"/>
                    </a:lnTo>
                    <a:lnTo>
                      <a:pt x="3469" y="263"/>
                    </a:lnTo>
                    <a:lnTo>
                      <a:pt x="3589" y="290"/>
                    </a:lnTo>
                    <a:lnTo>
                      <a:pt x="3702" y="318"/>
                    </a:lnTo>
                    <a:lnTo>
                      <a:pt x="3808" y="345"/>
                    </a:lnTo>
                    <a:lnTo>
                      <a:pt x="3903" y="376"/>
                    </a:lnTo>
                    <a:lnTo>
                      <a:pt x="3992" y="407"/>
                    </a:lnTo>
                    <a:lnTo>
                      <a:pt x="4068" y="441"/>
                    </a:lnTo>
                    <a:lnTo>
                      <a:pt x="4136" y="475"/>
                    </a:lnTo>
                    <a:lnTo>
                      <a:pt x="4071" y="482"/>
                    </a:lnTo>
                    <a:lnTo>
                      <a:pt x="4010" y="492"/>
                    </a:lnTo>
                    <a:lnTo>
                      <a:pt x="3951" y="506"/>
                    </a:lnTo>
                    <a:lnTo>
                      <a:pt x="3897" y="519"/>
                    </a:lnTo>
                    <a:lnTo>
                      <a:pt x="3845" y="537"/>
                    </a:lnTo>
                    <a:lnTo>
                      <a:pt x="3797" y="554"/>
                    </a:lnTo>
                    <a:lnTo>
                      <a:pt x="3756" y="574"/>
                    </a:lnTo>
                    <a:lnTo>
                      <a:pt x="3722" y="595"/>
                    </a:lnTo>
                    <a:lnTo>
                      <a:pt x="3551" y="584"/>
                    </a:lnTo>
                    <a:lnTo>
                      <a:pt x="3380" y="578"/>
                    </a:lnTo>
                    <a:lnTo>
                      <a:pt x="3216" y="578"/>
                    </a:lnTo>
                    <a:lnTo>
                      <a:pt x="3055" y="581"/>
                    </a:lnTo>
                    <a:lnTo>
                      <a:pt x="2894" y="588"/>
                    </a:lnTo>
                    <a:lnTo>
                      <a:pt x="2740" y="598"/>
                    </a:lnTo>
                    <a:lnTo>
                      <a:pt x="2590" y="612"/>
                    </a:lnTo>
                    <a:lnTo>
                      <a:pt x="2443" y="629"/>
                    </a:lnTo>
                    <a:lnTo>
                      <a:pt x="2299" y="649"/>
                    </a:lnTo>
                    <a:lnTo>
                      <a:pt x="2162" y="673"/>
                    </a:lnTo>
                    <a:lnTo>
                      <a:pt x="2025" y="701"/>
                    </a:lnTo>
                    <a:lnTo>
                      <a:pt x="1892" y="728"/>
                    </a:lnTo>
                    <a:lnTo>
                      <a:pt x="1765" y="759"/>
                    </a:lnTo>
                    <a:lnTo>
                      <a:pt x="1638" y="790"/>
                    </a:lnTo>
                    <a:lnTo>
                      <a:pt x="1515" y="827"/>
                    </a:lnTo>
                    <a:lnTo>
                      <a:pt x="1399" y="861"/>
                    </a:lnTo>
                    <a:lnTo>
                      <a:pt x="1286" y="899"/>
                    </a:lnTo>
                    <a:lnTo>
                      <a:pt x="1173" y="937"/>
                    </a:lnTo>
                    <a:lnTo>
                      <a:pt x="1067" y="978"/>
                    </a:lnTo>
                    <a:lnTo>
                      <a:pt x="964" y="1019"/>
                    </a:lnTo>
                    <a:lnTo>
                      <a:pt x="862" y="1060"/>
                    </a:lnTo>
                    <a:lnTo>
                      <a:pt x="766" y="1101"/>
                    </a:lnTo>
                    <a:lnTo>
                      <a:pt x="674" y="1142"/>
                    </a:lnTo>
                    <a:lnTo>
                      <a:pt x="585" y="1186"/>
                    </a:lnTo>
                    <a:lnTo>
                      <a:pt x="499" y="1227"/>
                    </a:lnTo>
                    <a:lnTo>
                      <a:pt x="417" y="1269"/>
                    </a:lnTo>
                    <a:lnTo>
                      <a:pt x="338" y="1306"/>
                    </a:lnTo>
                    <a:lnTo>
                      <a:pt x="263" y="1347"/>
                    </a:lnTo>
                    <a:lnTo>
                      <a:pt x="191" y="1385"/>
                    </a:lnTo>
                    <a:lnTo>
                      <a:pt x="126" y="1422"/>
                    </a:lnTo>
                    <a:lnTo>
                      <a:pt x="61" y="1457"/>
                    </a:lnTo>
                    <a:lnTo>
                      <a:pt x="0" y="1491"/>
                    </a:lnTo>
                    <a:close/>
                  </a:path>
                </a:pathLst>
              </a:custGeom>
              <a:solidFill>
                <a:srgbClr val="baef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055400" y="4165920"/>
                <a:ext cx="745200" cy="165600"/>
              </a:xfrm>
              <a:custGeom>
                <a:avLst/>
                <a:gdLst/>
                <a:ahLst/>
                <a:rect l="l" t="t" r="r" b="b"/>
                <a:pathLst>
                  <a:path w="2717" h="821">
                    <a:moveTo>
                      <a:pt x="0" y="653"/>
                    </a:moveTo>
                    <a:lnTo>
                      <a:pt x="28" y="656"/>
                    </a:lnTo>
                    <a:lnTo>
                      <a:pt x="65" y="660"/>
                    </a:lnTo>
                    <a:lnTo>
                      <a:pt x="106" y="663"/>
                    </a:lnTo>
                    <a:lnTo>
                      <a:pt x="158" y="667"/>
                    </a:lnTo>
                    <a:lnTo>
                      <a:pt x="213" y="670"/>
                    </a:lnTo>
                    <a:lnTo>
                      <a:pt x="274" y="674"/>
                    </a:lnTo>
                    <a:lnTo>
                      <a:pt x="343" y="680"/>
                    </a:lnTo>
                    <a:lnTo>
                      <a:pt x="414" y="684"/>
                    </a:lnTo>
                    <a:lnTo>
                      <a:pt x="493" y="691"/>
                    </a:lnTo>
                    <a:lnTo>
                      <a:pt x="575" y="698"/>
                    </a:lnTo>
                    <a:lnTo>
                      <a:pt x="661" y="701"/>
                    </a:lnTo>
                    <a:lnTo>
                      <a:pt x="753" y="708"/>
                    </a:lnTo>
                    <a:lnTo>
                      <a:pt x="846" y="715"/>
                    </a:lnTo>
                    <a:lnTo>
                      <a:pt x="941" y="721"/>
                    </a:lnTo>
                    <a:lnTo>
                      <a:pt x="1041" y="728"/>
                    </a:lnTo>
                    <a:lnTo>
                      <a:pt x="1140" y="735"/>
                    </a:lnTo>
                    <a:lnTo>
                      <a:pt x="1242" y="742"/>
                    </a:lnTo>
                    <a:lnTo>
                      <a:pt x="1348" y="749"/>
                    </a:lnTo>
                    <a:lnTo>
                      <a:pt x="1451" y="756"/>
                    </a:lnTo>
                    <a:lnTo>
                      <a:pt x="1557" y="759"/>
                    </a:lnTo>
                    <a:lnTo>
                      <a:pt x="1663" y="766"/>
                    </a:lnTo>
                    <a:lnTo>
                      <a:pt x="1766" y="773"/>
                    </a:lnTo>
                    <a:lnTo>
                      <a:pt x="1872" y="780"/>
                    </a:lnTo>
                    <a:lnTo>
                      <a:pt x="1975" y="786"/>
                    </a:lnTo>
                    <a:lnTo>
                      <a:pt x="2077" y="790"/>
                    </a:lnTo>
                    <a:lnTo>
                      <a:pt x="2176" y="797"/>
                    </a:lnTo>
                    <a:lnTo>
                      <a:pt x="2276" y="800"/>
                    </a:lnTo>
                    <a:lnTo>
                      <a:pt x="2372" y="807"/>
                    </a:lnTo>
                    <a:lnTo>
                      <a:pt x="2464" y="810"/>
                    </a:lnTo>
                    <a:lnTo>
                      <a:pt x="2553" y="814"/>
                    </a:lnTo>
                    <a:lnTo>
                      <a:pt x="2635" y="817"/>
                    </a:lnTo>
                    <a:lnTo>
                      <a:pt x="2717" y="821"/>
                    </a:lnTo>
                    <a:lnTo>
                      <a:pt x="2717" y="0"/>
                    </a:lnTo>
                    <a:lnTo>
                      <a:pt x="2656" y="3"/>
                    </a:lnTo>
                    <a:lnTo>
                      <a:pt x="2594" y="3"/>
                    </a:lnTo>
                    <a:lnTo>
                      <a:pt x="2529" y="7"/>
                    </a:lnTo>
                    <a:lnTo>
                      <a:pt x="2460" y="10"/>
                    </a:lnTo>
                    <a:lnTo>
                      <a:pt x="2392" y="13"/>
                    </a:lnTo>
                    <a:lnTo>
                      <a:pt x="2324" y="20"/>
                    </a:lnTo>
                    <a:lnTo>
                      <a:pt x="2252" y="24"/>
                    </a:lnTo>
                    <a:lnTo>
                      <a:pt x="2176" y="31"/>
                    </a:lnTo>
                    <a:lnTo>
                      <a:pt x="2101" y="34"/>
                    </a:lnTo>
                    <a:lnTo>
                      <a:pt x="2026" y="41"/>
                    </a:lnTo>
                    <a:lnTo>
                      <a:pt x="1951" y="51"/>
                    </a:lnTo>
                    <a:lnTo>
                      <a:pt x="1872" y="58"/>
                    </a:lnTo>
                    <a:lnTo>
                      <a:pt x="1797" y="68"/>
                    </a:lnTo>
                    <a:lnTo>
                      <a:pt x="1718" y="75"/>
                    </a:lnTo>
                    <a:lnTo>
                      <a:pt x="1639" y="85"/>
                    </a:lnTo>
                    <a:lnTo>
                      <a:pt x="1561" y="99"/>
                    </a:lnTo>
                    <a:lnTo>
                      <a:pt x="1479" y="109"/>
                    </a:lnTo>
                    <a:lnTo>
                      <a:pt x="1400" y="123"/>
                    </a:lnTo>
                    <a:lnTo>
                      <a:pt x="1321" y="137"/>
                    </a:lnTo>
                    <a:lnTo>
                      <a:pt x="1242" y="154"/>
                    </a:lnTo>
                    <a:lnTo>
                      <a:pt x="1164" y="167"/>
                    </a:lnTo>
                    <a:lnTo>
                      <a:pt x="1088" y="184"/>
                    </a:lnTo>
                    <a:lnTo>
                      <a:pt x="1010" y="202"/>
                    </a:lnTo>
                    <a:lnTo>
                      <a:pt x="934" y="222"/>
                    </a:lnTo>
                    <a:lnTo>
                      <a:pt x="859" y="243"/>
                    </a:lnTo>
                    <a:lnTo>
                      <a:pt x="784" y="263"/>
                    </a:lnTo>
                    <a:lnTo>
                      <a:pt x="712" y="287"/>
                    </a:lnTo>
                    <a:lnTo>
                      <a:pt x="640" y="311"/>
                    </a:lnTo>
                    <a:lnTo>
                      <a:pt x="572" y="335"/>
                    </a:lnTo>
                    <a:lnTo>
                      <a:pt x="503" y="362"/>
                    </a:lnTo>
                    <a:lnTo>
                      <a:pt x="438" y="390"/>
                    </a:lnTo>
                    <a:lnTo>
                      <a:pt x="373" y="417"/>
                    </a:lnTo>
                    <a:lnTo>
                      <a:pt x="319" y="444"/>
                    </a:lnTo>
                    <a:lnTo>
                      <a:pt x="267" y="472"/>
                    </a:lnTo>
                    <a:lnTo>
                      <a:pt x="219" y="499"/>
                    </a:lnTo>
                    <a:lnTo>
                      <a:pt x="172" y="527"/>
                    </a:lnTo>
                    <a:lnTo>
                      <a:pt x="127" y="557"/>
                    </a:lnTo>
                    <a:lnTo>
                      <a:pt x="83" y="588"/>
                    </a:lnTo>
                    <a:lnTo>
                      <a:pt x="41" y="619"/>
                    </a:lnTo>
                    <a:lnTo>
                      <a:pt x="0" y="653"/>
                    </a:lnTo>
                    <a:close/>
                  </a:path>
                </a:pathLst>
              </a:custGeom>
              <a:solidFill>
                <a:srgbClr val="baef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3314880" y="3911760"/>
                <a:ext cx="1481040" cy="914400"/>
                <a:chOff x="3314880" y="3911760"/>
                <a:chExt cx="1481040" cy="91440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3314880" y="3911760"/>
                  <a:ext cx="1444320" cy="349200"/>
                </a:xfrm>
                <a:custGeom>
                  <a:avLst/>
                  <a:gdLst/>
                  <a:ahLst/>
                  <a:rect l="l" t="t" r="r" b="b"/>
                  <a:pathLst>
                    <a:path w="7886" h="1731">
                      <a:moveTo>
                        <a:pt x="7886" y="0"/>
                      </a:moveTo>
                      <a:lnTo>
                        <a:pt x="0" y="0"/>
                      </a:lnTo>
                      <a:lnTo>
                        <a:pt x="0" y="1235"/>
                      </a:lnTo>
                      <a:lnTo>
                        <a:pt x="92" y="1228"/>
                      </a:lnTo>
                      <a:lnTo>
                        <a:pt x="195" y="1224"/>
                      </a:lnTo>
                      <a:lnTo>
                        <a:pt x="304" y="1221"/>
                      </a:lnTo>
                      <a:lnTo>
                        <a:pt x="420" y="1218"/>
                      </a:lnTo>
                      <a:lnTo>
                        <a:pt x="544" y="1218"/>
                      </a:lnTo>
                      <a:lnTo>
                        <a:pt x="674" y="1218"/>
                      </a:lnTo>
                      <a:lnTo>
                        <a:pt x="807" y="1221"/>
                      </a:lnTo>
                      <a:lnTo>
                        <a:pt x="947" y="1221"/>
                      </a:lnTo>
                      <a:lnTo>
                        <a:pt x="1094" y="1228"/>
                      </a:lnTo>
                      <a:lnTo>
                        <a:pt x="1242" y="1235"/>
                      </a:lnTo>
                      <a:lnTo>
                        <a:pt x="1392" y="1242"/>
                      </a:lnTo>
                      <a:lnTo>
                        <a:pt x="1546" y="1248"/>
                      </a:lnTo>
                      <a:lnTo>
                        <a:pt x="1700" y="1259"/>
                      </a:lnTo>
                      <a:lnTo>
                        <a:pt x="1857" y="1269"/>
                      </a:lnTo>
                      <a:lnTo>
                        <a:pt x="2015" y="1283"/>
                      </a:lnTo>
                      <a:lnTo>
                        <a:pt x="2172" y="1296"/>
                      </a:lnTo>
                      <a:lnTo>
                        <a:pt x="2326" y="1313"/>
                      </a:lnTo>
                      <a:lnTo>
                        <a:pt x="2484" y="1330"/>
                      </a:lnTo>
                      <a:lnTo>
                        <a:pt x="2634" y="1348"/>
                      </a:lnTo>
                      <a:lnTo>
                        <a:pt x="2785" y="1365"/>
                      </a:lnTo>
                      <a:lnTo>
                        <a:pt x="2932" y="1385"/>
                      </a:lnTo>
                      <a:lnTo>
                        <a:pt x="3072" y="1409"/>
                      </a:lnTo>
                      <a:lnTo>
                        <a:pt x="3212" y="1430"/>
                      </a:lnTo>
                      <a:lnTo>
                        <a:pt x="3342" y="1454"/>
                      </a:lnTo>
                      <a:lnTo>
                        <a:pt x="3469" y="1481"/>
                      </a:lnTo>
                      <a:lnTo>
                        <a:pt x="3589" y="1508"/>
                      </a:lnTo>
                      <a:lnTo>
                        <a:pt x="3702" y="1536"/>
                      </a:lnTo>
                      <a:lnTo>
                        <a:pt x="3808" y="1563"/>
                      </a:lnTo>
                      <a:lnTo>
                        <a:pt x="3903" y="1594"/>
                      </a:lnTo>
                      <a:lnTo>
                        <a:pt x="3992" y="1625"/>
                      </a:lnTo>
                      <a:lnTo>
                        <a:pt x="4068" y="1659"/>
                      </a:lnTo>
                      <a:lnTo>
                        <a:pt x="4136" y="1693"/>
                      </a:lnTo>
                      <a:lnTo>
                        <a:pt x="4136" y="1693"/>
                      </a:lnTo>
                      <a:lnTo>
                        <a:pt x="4177" y="1690"/>
                      </a:lnTo>
                      <a:lnTo>
                        <a:pt x="4222" y="1683"/>
                      </a:lnTo>
                      <a:lnTo>
                        <a:pt x="4266" y="1679"/>
                      </a:lnTo>
                      <a:lnTo>
                        <a:pt x="4307" y="1679"/>
                      </a:lnTo>
                      <a:lnTo>
                        <a:pt x="4352" y="1676"/>
                      </a:lnTo>
                      <a:lnTo>
                        <a:pt x="4393" y="1676"/>
                      </a:lnTo>
                      <a:lnTo>
                        <a:pt x="4437" y="1676"/>
                      </a:lnTo>
                      <a:lnTo>
                        <a:pt x="4478" y="1676"/>
                      </a:lnTo>
                      <a:lnTo>
                        <a:pt x="4516" y="1676"/>
                      </a:lnTo>
                      <a:lnTo>
                        <a:pt x="4557" y="1679"/>
                      </a:lnTo>
                      <a:lnTo>
                        <a:pt x="4595" y="1683"/>
                      </a:lnTo>
                      <a:lnTo>
                        <a:pt x="4629" y="1686"/>
                      </a:lnTo>
                      <a:lnTo>
                        <a:pt x="4663" y="1690"/>
                      </a:lnTo>
                      <a:lnTo>
                        <a:pt x="4694" y="1693"/>
                      </a:lnTo>
                      <a:lnTo>
                        <a:pt x="4725" y="1700"/>
                      </a:lnTo>
                      <a:lnTo>
                        <a:pt x="4752" y="1707"/>
                      </a:lnTo>
                      <a:lnTo>
                        <a:pt x="4800" y="1717"/>
                      </a:lnTo>
                      <a:lnTo>
                        <a:pt x="4851" y="1724"/>
                      </a:lnTo>
                      <a:lnTo>
                        <a:pt x="4906" y="1727"/>
                      </a:lnTo>
                      <a:lnTo>
                        <a:pt x="4961" y="1731"/>
                      </a:lnTo>
                      <a:lnTo>
                        <a:pt x="5019" y="1727"/>
                      </a:lnTo>
                      <a:lnTo>
                        <a:pt x="5077" y="1727"/>
                      </a:lnTo>
                      <a:lnTo>
                        <a:pt x="5135" y="1724"/>
                      </a:lnTo>
                      <a:lnTo>
                        <a:pt x="5193" y="1717"/>
                      </a:lnTo>
                      <a:lnTo>
                        <a:pt x="5248" y="1710"/>
                      </a:lnTo>
                      <a:lnTo>
                        <a:pt x="5303" y="1703"/>
                      </a:lnTo>
                      <a:lnTo>
                        <a:pt x="5354" y="1696"/>
                      </a:lnTo>
                      <a:lnTo>
                        <a:pt x="5402" y="1690"/>
                      </a:lnTo>
                      <a:lnTo>
                        <a:pt x="5443" y="1683"/>
                      </a:lnTo>
                      <a:lnTo>
                        <a:pt x="5484" y="1679"/>
                      </a:lnTo>
                      <a:lnTo>
                        <a:pt x="5515" y="1672"/>
                      </a:lnTo>
                      <a:lnTo>
                        <a:pt x="5542" y="1669"/>
                      </a:lnTo>
                      <a:lnTo>
                        <a:pt x="5607" y="1642"/>
                      </a:lnTo>
                      <a:lnTo>
                        <a:pt x="5672" y="1614"/>
                      </a:lnTo>
                      <a:lnTo>
                        <a:pt x="5741" y="1587"/>
                      </a:lnTo>
                      <a:lnTo>
                        <a:pt x="5809" y="1563"/>
                      </a:lnTo>
                      <a:lnTo>
                        <a:pt x="5881" y="1539"/>
                      </a:lnTo>
                      <a:lnTo>
                        <a:pt x="5953" y="1515"/>
                      </a:lnTo>
                      <a:lnTo>
                        <a:pt x="6028" y="1495"/>
                      </a:lnTo>
                      <a:lnTo>
                        <a:pt x="6103" y="1474"/>
                      </a:lnTo>
                      <a:lnTo>
                        <a:pt x="6179" y="1454"/>
                      </a:lnTo>
                      <a:lnTo>
                        <a:pt x="6257" y="1436"/>
                      </a:lnTo>
                      <a:lnTo>
                        <a:pt x="6333" y="1419"/>
                      </a:lnTo>
                      <a:lnTo>
                        <a:pt x="6411" y="1406"/>
                      </a:lnTo>
                      <a:lnTo>
                        <a:pt x="6490" y="1389"/>
                      </a:lnTo>
                      <a:lnTo>
                        <a:pt x="6569" y="1375"/>
                      </a:lnTo>
                      <a:lnTo>
                        <a:pt x="6648" y="1361"/>
                      </a:lnTo>
                      <a:lnTo>
                        <a:pt x="6730" y="1351"/>
                      </a:lnTo>
                      <a:lnTo>
                        <a:pt x="6808" y="1337"/>
                      </a:lnTo>
                      <a:lnTo>
                        <a:pt x="6887" y="1327"/>
                      </a:lnTo>
                      <a:lnTo>
                        <a:pt x="6966" y="1320"/>
                      </a:lnTo>
                      <a:lnTo>
                        <a:pt x="7041" y="1310"/>
                      </a:lnTo>
                      <a:lnTo>
                        <a:pt x="7120" y="1303"/>
                      </a:lnTo>
                      <a:lnTo>
                        <a:pt x="7195" y="1293"/>
                      </a:lnTo>
                      <a:lnTo>
                        <a:pt x="7270" y="1286"/>
                      </a:lnTo>
                      <a:lnTo>
                        <a:pt x="7345" y="1283"/>
                      </a:lnTo>
                      <a:lnTo>
                        <a:pt x="7421" y="1276"/>
                      </a:lnTo>
                      <a:lnTo>
                        <a:pt x="7493" y="1272"/>
                      </a:lnTo>
                      <a:lnTo>
                        <a:pt x="7561" y="1265"/>
                      </a:lnTo>
                      <a:lnTo>
                        <a:pt x="7629" y="1262"/>
                      </a:lnTo>
                      <a:lnTo>
                        <a:pt x="7698" y="1259"/>
                      </a:lnTo>
                      <a:lnTo>
                        <a:pt x="7763" y="1255"/>
                      </a:lnTo>
                      <a:lnTo>
                        <a:pt x="7825" y="1255"/>
                      </a:lnTo>
                      <a:lnTo>
                        <a:pt x="7886" y="1252"/>
                      </a:lnTo>
                      <a:lnTo>
                        <a:pt x="7886" y="0"/>
                      </a:lnTo>
                      <a:close/>
                    </a:path>
                  </a:pathLst>
                </a:custGeom>
                <a:solidFill>
                  <a:srgbClr val="0c4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3413520" y="4267080"/>
                  <a:ext cx="1351440" cy="559080"/>
                </a:xfrm>
                <a:custGeom>
                  <a:avLst/>
                  <a:gdLst/>
                  <a:ahLst/>
                  <a:rect l="l" t="t" r="r" b="b"/>
                  <a:pathLst>
                    <a:path w="7886" h="2770">
                      <a:moveTo>
                        <a:pt x="3722" y="17"/>
                      </a:moveTo>
                      <a:lnTo>
                        <a:pt x="3551" y="6"/>
                      </a:lnTo>
                      <a:lnTo>
                        <a:pt x="3380" y="0"/>
                      </a:lnTo>
                      <a:lnTo>
                        <a:pt x="3216" y="0"/>
                      </a:lnTo>
                      <a:lnTo>
                        <a:pt x="3055" y="3"/>
                      </a:lnTo>
                      <a:lnTo>
                        <a:pt x="2894" y="10"/>
                      </a:lnTo>
                      <a:lnTo>
                        <a:pt x="2740" y="20"/>
                      </a:lnTo>
                      <a:lnTo>
                        <a:pt x="2590" y="34"/>
                      </a:lnTo>
                      <a:lnTo>
                        <a:pt x="2443" y="51"/>
                      </a:lnTo>
                      <a:lnTo>
                        <a:pt x="2299" y="71"/>
                      </a:lnTo>
                      <a:lnTo>
                        <a:pt x="2162" y="95"/>
                      </a:lnTo>
                      <a:lnTo>
                        <a:pt x="2025" y="123"/>
                      </a:lnTo>
                      <a:lnTo>
                        <a:pt x="1892" y="150"/>
                      </a:lnTo>
                      <a:lnTo>
                        <a:pt x="1765" y="181"/>
                      </a:lnTo>
                      <a:lnTo>
                        <a:pt x="1638" y="212"/>
                      </a:lnTo>
                      <a:lnTo>
                        <a:pt x="1515" y="249"/>
                      </a:lnTo>
                      <a:lnTo>
                        <a:pt x="1399" y="283"/>
                      </a:lnTo>
                      <a:lnTo>
                        <a:pt x="1286" y="321"/>
                      </a:lnTo>
                      <a:lnTo>
                        <a:pt x="1173" y="359"/>
                      </a:lnTo>
                      <a:lnTo>
                        <a:pt x="1067" y="400"/>
                      </a:lnTo>
                      <a:lnTo>
                        <a:pt x="964" y="441"/>
                      </a:lnTo>
                      <a:lnTo>
                        <a:pt x="862" y="482"/>
                      </a:lnTo>
                      <a:lnTo>
                        <a:pt x="766" y="523"/>
                      </a:lnTo>
                      <a:lnTo>
                        <a:pt x="674" y="564"/>
                      </a:lnTo>
                      <a:lnTo>
                        <a:pt x="585" y="608"/>
                      </a:lnTo>
                      <a:lnTo>
                        <a:pt x="499" y="649"/>
                      </a:lnTo>
                      <a:lnTo>
                        <a:pt x="417" y="691"/>
                      </a:lnTo>
                      <a:lnTo>
                        <a:pt x="338" y="728"/>
                      </a:lnTo>
                      <a:lnTo>
                        <a:pt x="263" y="769"/>
                      </a:lnTo>
                      <a:lnTo>
                        <a:pt x="191" y="807"/>
                      </a:lnTo>
                      <a:lnTo>
                        <a:pt x="126" y="844"/>
                      </a:lnTo>
                      <a:lnTo>
                        <a:pt x="61" y="879"/>
                      </a:lnTo>
                      <a:lnTo>
                        <a:pt x="0" y="913"/>
                      </a:lnTo>
                      <a:lnTo>
                        <a:pt x="0" y="2770"/>
                      </a:lnTo>
                      <a:lnTo>
                        <a:pt x="7886" y="2770"/>
                      </a:lnTo>
                      <a:lnTo>
                        <a:pt x="7886" y="277"/>
                      </a:lnTo>
                      <a:lnTo>
                        <a:pt x="7804" y="273"/>
                      </a:lnTo>
                      <a:lnTo>
                        <a:pt x="7722" y="270"/>
                      </a:lnTo>
                      <a:lnTo>
                        <a:pt x="7633" y="266"/>
                      </a:lnTo>
                      <a:lnTo>
                        <a:pt x="7541" y="263"/>
                      </a:lnTo>
                      <a:lnTo>
                        <a:pt x="7445" y="256"/>
                      </a:lnTo>
                      <a:lnTo>
                        <a:pt x="7345" y="253"/>
                      </a:lnTo>
                      <a:lnTo>
                        <a:pt x="7246" y="246"/>
                      </a:lnTo>
                      <a:lnTo>
                        <a:pt x="7144" y="242"/>
                      </a:lnTo>
                      <a:lnTo>
                        <a:pt x="7041" y="236"/>
                      </a:lnTo>
                      <a:lnTo>
                        <a:pt x="6935" y="229"/>
                      </a:lnTo>
                      <a:lnTo>
                        <a:pt x="6832" y="222"/>
                      </a:lnTo>
                      <a:lnTo>
                        <a:pt x="6726" y="215"/>
                      </a:lnTo>
                      <a:lnTo>
                        <a:pt x="6620" y="212"/>
                      </a:lnTo>
                      <a:lnTo>
                        <a:pt x="6517" y="205"/>
                      </a:lnTo>
                      <a:lnTo>
                        <a:pt x="6411" y="198"/>
                      </a:lnTo>
                      <a:lnTo>
                        <a:pt x="6309" y="191"/>
                      </a:lnTo>
                      <a:lnTo>
                        <a:pt x="6210" y="184"/>
                      </a:lnTo>
                      <a:lnTo>
                        <a:pt x="6110" y="177"/>
                      </a:lnTo>
                      <a:lnTo>
                        <a:pt x="6015" y="171"/>
                      </a:lnTo>
                      <a:lnTo>
                        <a:pt x="5922" y="164"/>
                      </a:lnTo>
                      <a:lnTo>
                        <a:pt x="5830" y="157"/>
                      </a:lnTo>
                      <a:lnTo>
                        <a:pt x="5744" y="154"/>
                      </a:lnTo>
                      <a:lnTo>
                        <a:pt x="5662" y="147"/>
                      </a:lnTo>
                      <a:lnTo>
                        <a:pt x="5583" y="140"/>
                      </a:lnTo>
                      <a:lnTo>
                        <a:pt x="5512" y="136"/>
                      </a:lnTo>
                      <a:lnTo>
                        <a:pt x="5443" y="130"/>
                      </a:lnTo>
                      <a:lnTo>
                        <a:pt x="5382" y="126"/>
                      </a:lnTo>
                      <a:lnTo>
                        <a:pt x="5327" y="123"/>
                      </a:lnTo>
                      <a:lnTo>
                        <a:pt x="5275" y="119"/>
                      </a:lnTo>
                      <a:lnTo>
                        <a:pt x="5234" y="116"/>
                      </a:lnTo>
                      <a:lnTo>
                        <a:pt x="5197" y="112"/>
                      </a:lnTo>
                      <a:lnTo>
                        <a:pt x="5169" y="109"/>
                      </a:lnTo>
                      <a:lnTo>
                        <a:pt x="5104" y="102"/>
                      </a:lnTo>
                      <a:lnTo>
                        <a:pt x="5026" y="99"/>
                      </a:lnTo>
                      <a:lnTo>
                        <a:pt x="4940" y="92"/>
                      </a:lnTo>
                      <a:lnTo>
                        <a:pt x="4848" y="85"/>
                      </a:lnTo>
                      <a:lnTo>
                        <a:pt x="4749" y="78"/>
                      </a:lnTo>
                      <a:lnTo>
                        <a:pt x="4643" y="71"/>
                      </a:lnTo>
                      <a:lnTo>
                        <a:pt x="4536" y="65"/>
                      </a:lnTo>
                      <a:lnTo>
                        <a:pt x="4430" y="58"/>
                      </a:lnTo>
                      <a:lnTo>
                        <a:pt x="4324" y="54"/>
                      </a:lnTo>
                      <a:lnTo>
                        <a:pt x="4218" y="48"/>
                      </a:lnTo>
                      <a:lnTo>
                        <a:pt x="4119" y="41"/>
                      </a:lnTo>
                      <a:lnTo>
                        <a:pt x="4023" y="34"/>
                      </a:lnTo>
                      <a:lnTo>
                        <a:pt x="3934" y="30"/>
                      </a:lnTo>
                      <a:lnTo>
                        <a:pt x="3852" y="27"/>
                      </a:lnTo>
                      <a:lnTo>
                        <a:pt x="3780" y="20"/>
                      </a:lnTo>
                      <a:lnTo>
                        <a:pt x="3722" y="17"/>
                      </a:lnTo>
                      <a:close/>
                    </a:path>
                  </a:pathLst>
                </a:custGeom>
                <a:solidFill>
                  <a:srgbClr val="e8f9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3364200" y="4049640"/>
                  <a:ext cx="67320" cy="50040"/>
                </a:xfrm>
                <a:custGeom>
                  <a:avLst/>
                  <a:gdLst/>
                  <a:ahLst/>
                  <a:rect l="l" t="t" r="r" b="b"/>
                  <a:pathLst>
                    <a:path w="246" h="249">
                      <a:moveTo>
                        <a:pt x="123" y="0"/>
                      </a:moveTo>
                      <a:lnTo>
                        <a:pt x="137" y="82"/>
                      </a:lnTo>
                      <a:lnTo>
                        <a:pt x="140" y="89"/>
                      </a:lnTo>
                      <a:lnTo>
                        <a:pt x="195" y="55"/>
                      </a:lnTo>
                      <a:lnTo>
                        <a:pt x="195" y="55"/>
                      </a:lnTo>
                      <a:lnTo>
                        <a:pt x="161" y="109"/>
                      </a:lnTo>
                      <a:lnTo>
                        <a:pt x="161" y="109"/>
                      </a:lnTo>
                      <a:lnTo>
                        <a:pt x="246" y="126"/>
                      </a:lnTo>
                      <a:lnTo>
                        <a:pt x="246" y="126"/>
                      </a:lnTo>
                      <a:lnTo>
                        <a:pt x="164" y="140"/>
                      </a:lnTo>
                      <a:lnTo>
                        <a:pt x="161" y="140"/>
                      </a:lnTo>
                      <a:lnTo>
                        <a:pt x="195" y="195"/>
                      </a:lnTo>
                      <a:lnTo>
                        <a:pt x="195" y="195"/>
                      </a:lnTo>
                      <a:lnTo>
                        <a:pt x="140" y="164"/>
                      </a:lnTo>
                      <a:lnTo>
                        <a:pt x="140" y="164"/>
                      </a:lnTo>
                      <a:lnTo>
                        <a:pt x="123" y="246"/>
                      </a:lnTo>
                      <a:lnTo>
                        <a:pt x="123" y="249"/>
                      </a:lnTo>
                      <a:lnTo>
                        <a:pt x="109" y="167"/>
                      </a:lnTo>
                      <a:lnTo>
                        <a:pt x="109" y="164"/>
                      </a:lnTo>
                      <a:lnTo>
                        <a:pt x="51" y="195"/>
                      </a:lnTo>
                      <a:lnTo>
                        <a:pt x="51" y="195"/>
                      </a:lnTo>
                      <a:lnTo>
                        <a:pt x="85" y="140"/>
                      </a:lnTo>
                      <a:lnTo>
                        <a:pt x="85" y="140"/>
                      </a:lnTo>
                      <a:lnTo>
                        <a:pt x="0" y="126"/>
                      </a:lnTo>
                      <a:lnTo>
                        <a:pt x="0" y="126"/>
                      </a:lnTo>
                      <a:lnTo>
                        <a:pt x="82" y="109"/>
                      </a:lnTo>
                      <a:lnTo>
                        <a:pt x="85" y="109"/>
                      </a:lnTo>
                      <a:lnTo>
                        <a:pt x="51" y="55"/>
                      </a:lnTo>
                      <a:lnTo>
                        <a:pt x="51" y="55"/>
                      </a:lnTo>
                      <a:lnTo>
                        <a:pt x="106" y="85"/>
                      </a:lnTo>
                      <a:lnTo>
                        <a:pt x="109" y="85"/>
                      </a:lnTo>
                      <a:lnTo>
                        <a:pt x="123" y="0"/>
                      </a:lnTo>
                      <a:close/>
                    </a:path>
                  </a:pathLst>
                </a:custGeom>
                <a:solidFill>
                  <a:srgbClr val="5e87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240440" y="4158360"/>
                  <a:ext cx="449280" cy="468720"/>
                </a:xfrm>
                <a:custGeom>
                  <a:avLst/>
                  <a:gdLst/>
                  <a:ahLst/>
                  <a:rect l="l" t="t" r="r" b="b"/>
                  <a:pathLst>
                    <a:path w="1639" h="2322">
                      <a:moveTo>
                        <a:pt x="586" y="0"/>
                      </a:moveTo>
                      <a:lnTo>
                        <a:pt x="582" y="37"/>
                      </a:lnTo>
                      <a:lnTo>
                        <a:pt x="565" y="113"/>
                      </a:lnTo>
                      <a:lnTo>
                        <a:pt x="538" y="208"/>
                      </a:lnTo>
                      <a:lnTo>
                        <a:pt x="500" y="314"/>
                      </a:lnTo>
                      <a:lnTo>
                        <a:pt x="462" y="424"/>
                      </a:lnTo>
                      <a:lnTo>
                        <a:pt x="425" y="520"/>
                      </a:lnTo>
                      <a:lnTo>
                        <a:pt x="394" y="591"/>
                      </a:lnTo>
                      <a:lnTo>
                        <a:pt x="370" y="632"/>
                      </a:lnTo>
                      <a:lnTo>
                        <a:pt x="401" y="629"/>
                      </a:lnTo>
                      <a:lnTo>
                        <a:pt x="425" y="619"/>
                      </a:lnTo>
                      <a:lnTo>
                        <a:pt x="442" y="608"/>
                      </a:lnTo>
                      <a:lnTo>
                        <a:pt x="445" y="605"/>
                      </a:lnTo>
                      <a:lnTo>
                        <a:pt x="432" y="663"/>
                      </a:lnTo>
                      <a:lnTo>
                        <a:pt x="411" y="732"/>
                      </a:lnTo>
                      <a:lnTo>
                        <a:pt x="387" y="807"/>
                      </a:lnTo>
                      <a:lnTo>
                        <a:pt x="356" y="882"/>
                      </a:lnTo>
                      <a:lnTo>
                        <a:pt x="326" y="957"/>
                      </a:lnTo>
                      <a:lnTo>
                        <a:pt x="295" y="1022"/>
                      </a:lnTo>
                      <a:lnTo>
                        <a:pt x="264" y="1080"/>
                      </a:lnTo>
                      <a:lnTo>
                        <a:pt x="237" y="1125"/>
                      </a:lnTo>
                      <a:lnTo>
                        <a:pt x="267" y="1132"/>
                      </a:lnTo>
                      <a:lnTo>
                        <a:pt x="291" y="1132"/>
                      </a:lnTo>
                      <a:lnTo>
                        <a:pt x="315" y="1125"/>
                      </a:lnTo>
                      <a:lnTo>
                        <a:pt x="332" y="1115"/>
                      </a:lnTo>
                      <a:lnTo>
                        <a:pt x="346" y="1104"/>
                      </a:lnTo>
                      <a:lnTo>
                        <a:pt x="356" y="1091"/>
                      </a:lnTo>
                      <a:lnTo>
                        <a:pt x="360" y="1084"/>
                      </a:lnTo>
                      <a:lnTo>
                        <a:pt x="363" y="1080"/>
                      </a:lnTo>
                      <a:lnTo>
                        <a:pt x="343" y="1145"/>
                      </a:lnTo>
                      <a:lnTo>
                        <a:pt x="319" y="1221"/>
                      </a:lnTo>
                      <a:lnTo>
                        <a:pt x="288" y="1299"/>
                      </a:lnTo>
                      <a:lnTo>
                        <a:pt x="257" y="1378"/>
                      </a:lnTo>
                      <a:lnTo>
                        <a:pt x="226" y="1453"/>
                      </a:lnTo>
                      <a:lnTo>
                        <a:pt x="196" y="1518"/>
                      </a:lnTo>
                      <a:lnTo>
                        <a:pt x="168" y="1570"/>
                      </a:lnTo>
                      <a:lnTo>
                        <a:pt x="148" y="1604"/>
                      </a:lnTo>
                      <a:lnTo>
                        <a:pt x="182" y="1611"/>
                      </a:lnTo>
                      <a:lnTo>
                        <a:pt x="206" y="1607"/>
                      </a:lnTo>
                      <a:lnTo>
                        <a:pt x="226" y="1604"/>
                      </a:lnTo>
                      <a:lnTo>
                        <a:pt x="243" y="1593"/>
                      </a:lnTo>
                      <a:lnTo>
                        <a:pt x="254" y="1583"/>
                      </a:lnTo>
                      <a:lnTo>
                        <a:pt x="261" y="1573"/>
                      </a:lnTo>
                      <a:lnTo>
                        <a:pt x="264" y="1566"/>
                      </a:lnTo>
                      <a:lnTo>
                        <a:pt x="264" y="1563"/>
                      </a:lnTo>
                      <a:lnTo>
                        <a:pt x="243" y="1628"/>
                      </a:lnTo>
                      <a:lnTo>
                        <a:pt x="213" y="1703"/>
                      </a:lnTo>
                      <a:lnTo>
                        <a:pt x="178" y="1782"/>
                      </a:lnTo>
                      <a:lnTo>
                        <a:pt x="137" y="1864"/>
                      </a:lnTo>
                      <a:lnTo>
                        <a:pt x="100" y="1939"/>
                      </a:lnTo>
                      <a:lnTo>
                        <a:pt x="62" y="2007"/>
                      </a:lnTo>
                      <a:lnTo>
                        <a:pt x="28" y="2059"/>
                      </a:lnTo>
                      <a:lnTo>
                        <a:pt x="0" y="2089"/>
                      </a:lnTo>
                      <a:lnTo>
                        <a:pt x="21" y="2086"/>
                      </a:lnTo>
                      <a:lnTo>
                        <a:pt x="45" y="2079"/>
                      </a:lnTo>
                      <a:lnTo>
                        <a:pt x="65" y="2072"/>
                      </a:lnTo>
                      <a:lnTo>
                        <a:pt x="86" y="2065"/>
                      </a:lnTo>
                      <a:lnTo>
                        <a:pt x="103" y="2059"/>
                      </a:lnTo>
                      <a:lnTo>
                        <a:pt x="117" y="2055"/>
                      </a:lnTo>
                      <a:lnTo>
                        <a:pt x="124" y="2048"/>
                      </a:lnTo>
                      <a:lnTo>
                        <a:pt x="127" y="2048"/>
                      </a:lnTo>
                      <a:lnTo>
                        <a:pt x="110" y="2148"/>
                      </a:lnTo>
                      <a:lnTo>
                        <a:pt x="89" y="2209"/>
                      </a:lnTo>
                      <a:lnTo>
                        <a:pt x="65" y="2247"/>
                      </a:lnTo>
                      <a:lnTo>
                        <a:pt x="45" y="2278"/>
                      </a:lnTo>
                      <a:lnTo>
                        <a:pt x="69" y="2288"/>
                      </a:lnTo>
                      <a:lnTo>
                        <a:pt x="96" y="2295"/>
                      </a:lnTo>
                      <a:lnTo>
                        <a:pt x="127" y="2301"/>
                      </a:lnTo>
                      <a:lnTo>
                        <a:pt x="161" y="2308"/>
                      </a:lnTo>
                      <a:lnTo>
                        <a:pt x="196" y="2312"/>
                      </a:lnTo>
                      <a:lnTo>
                        <a:pt x="237" y="2315"/>
                      </a:lnTo>
                      <a:lnTo>
                        <a:pt x="278" y="2319"/>
                      </a:lnTo>
                      <a:lnTo>
                        <a:pt x="319" y="2322"/>
                      </a:lnTo>
                      <a:lnTo>
                        <a:pt x="363" y="2322"/>
                      </a:lnTo>
                      <a:lnTo>
                        <a:pt x="411" y="2322"/>
                      </a:lnTo>
                      <a:lnTo>
                        <a:pt x="459" y="2322"/>
                      </a:lnTo>
                      <a:lnTo>
                        <a:pt x="510" y="2319"/>
                      </a:lnTo>
                      <a:lnTo>
                        <a:pt x="565" y="2315"/>
                      </a:lnTo>
                      <a:lnTo>
                        <a:pt x="616" y="2312"/>
                      </a:lnTo>
                      <a:lnTo>
                        <a:pt x="671" y="2305"/>
                      </a:lnTo>
                      <a:lnTo>
                        <a:pt x="729" y="2298"/>
                      </a:lnTo>
                      <a:lnTo>
                        <a:pt x="787" y="2288"/>
                      </a:lnTo>
                      <a:lnTo>
                        <a:pt x="849" y="2278"/>
                      </a:lnTo>
                      <a:lnTo>
                        <a:pt x="914" y="2264"/>
                      </a:lnTo>
                      <a:lnTo>
                        <a:pt x="982" y="2247"/>
                      </a:lnTo>
                      <a:lnTo>
                        <a:pt x="1051" y="2233"/>
                      </a:lnTo>
                      <a:lnTo>
                        <a:pt x="1119" y="2216"/>
                      </a:lnTo>
                      <a:lnTo>
                        <a:pt x="1184" y="2199"/>
                      </a:lnTo>
                      <a:lnTo>
                        <a:pt x="1253" y="2182"/>
                      </a:lnTo>
                      <a:lnTo>
                        <a:pt x="1314" y="2165"/>
                      </a:lnTo>
                      <a:lnTo>
                        <a:pt x="1376" y="2151"/>
                      </a:lnTo>
                      <a:lnTo>
                        <a:pt x="1434" y="2137"/>
                      </a:lnTo>
                      <a:lnTo>
                        <a:pt x="1485" y="2124"/>
                      </a:lnTo>
                      <a:lnTo>
                        <a:pt x="1533" y="2117"/>
                      </a:lnTo>
                      <a:lnTo>
                        <a:pt x="1578" y="2110"/>
                      </a:lnTo>
                      <a:lnTo>
                        <a:pt x="1612" y="2107"/>
                      </a:lnTo>
                      <a:lnTo>
                        <a:pt x="1639" y="2110"/>
                      </a:lnTo>
                      <a:lnTo>
                        <a:pt x="1633" y="2103"/>
                      </a:lnTo>
                      <a:lnTo>
                        <a:pt x="1612" y="2083"/>
                      </a:lnTo>
                      <a:lnTo>
                        <a:pt x="1585" y="2052"/>
                      </a:lnTo>
                      <a:lnTo>
                        <a:pt x="1550" y="2014"/>
                      </a:lnTo>
                      <a:lnTo>
                        <a:pt x="1516" y="1970"/>
                      </a:lnTo>
                      <a:lnTo>
                        <a:pt x="1482" y="1925"/>
                      </a:lnTo>
                      <a:lnTo>
                        <a:pt x="1451" y="1884"/>
                      </a:lnTo>
                      <a:lnTo>
                        <a:pt x="1431" y="1847"/>
                      </a:lnTo>
                      <a:lnTo>
                        <a:pt x="1451" y="1853"/>
                      </a:lnTo>
                      <a:lnTo>
                        <a:pt x="1472" y="1860"/>
                      </a:lnTo>
                      <a:lnTo>
                        <a:pt x="1489" y="1864"/>
                      </a:lnTo>
                      <a:lnTo>
                        <a:pt x="1506" y="1864"/>
                      </a:lnTo>
                      <a:lnTo>
                        <a:pt x="1520" y="1864"/>
                      </a:lnTo>
                      <a:lnTo>
                        <a:pt x="1530" y="1860"/>
                      </a:lnTo>
                      <a:lnTo>
                        <a:pt x="1537" y="1860"/>
                      </a:lnTo>
                      <a:lnTo>
                        <a:pt x="1540" y="1860"/>
                      </a:lnTo>
                      <a:lnTo>
                        <a:pt x="1496" y="1823"/>
                      </a:lnTo>
                      <a:lnTo>
                        <a:pt x="1451" y="1771"/>
                      </a:lnTo>
                      <a:lnTo>
                        <a:pt x="1407" y="1717"/>
                      </a:lnTo>
                      <a:lnTo>
                        <a:pt x="1362" y="1658"/>
                      </a:lnTo>
                      <a:lnTo>
                        <a:pt x="1321" y="1600"/>
                      </a:lnTo>
                      <a:lnTo>
                        <a:pt x="1284" y="1546"/>
                      </a:lnTo>
                      <a:lnTo>
                        <a:pt x="1253" y="1494"/>
                      </a:lnTo>
                      <a:lnTo>
                        <a:pt x="1229" y="1453"/>
                      </a:lnTo>
                      <a:lnTo>
                        <a:pt x="1260" y="1457"/>
                      </a:lnTo>
                      <a:lnTo>
                        <a:pt x="1284" y="1457"/>
                      </a:lnTo>
                      <a:lnTo>
                        <a:pt x="1297" y="1453"/>
                      </a:lnTo>
                      <a:lnTo>
                        <a:pt x="1304" y="1453"/>
                      </a:lnTo>
                      <a:lnTo>
                        <a:pt x="1263" y="1412"/>
                      </a:lnTo>
                      <a:lnTo>
                        <a:pt x="1222" y="1361"/>
                      </a:lnTo>
                      <a:lnTo>
                        <a:pt x="1184" y="1299"/>
                      </a:lnTo>
                      <a:lnTo>
                        <a:pt x="1150" y="1234"/>
                      </a:lnTo>
                      <a:lnTo>
                        <a:pt x="1119" y="1169"/>
                      </a:lnTo>
                      <a:lnTo>
                        <a:pt x="1095" y="1111"/>
                      </a:lnTo>
                      <a:lnTo>
                        <a:pt x="1078" y="1063"/>
                      </a:lnTo>
                      <a:lnTo>
                        <a:pt x="1068" y="1033"/>
                      </a:lnTo>
                      <a:lnTo>
                        <a:pt x="1085" y="1043"/>
                      </a:lnTo>
                      <a:lnTo>
                        <a:pt x="1106" y="1050"/>
                      </a:lnTo>
                      <a:lnTo>
                        <a:pt x="1126" y="1056"/>
                      </a:lnTo>
                      <a:lnTo>
                        <a:pt x="1147" y="1060"/>
                      </a:lnTo>
                      <a:lnTo>
                        <a:pt x="1167" y="1060"/>
                      </a:lnTo>
                      <a:lnTo>
                        <a:pt x="1181" y="1060"/>
                      </a:lnTo>
                      <a:lnTo>
                        <a:pt x="1191" y="1060"/>
                      </a:lnTo>
                      <a:lnTo>
                        <a:pt x="1195" y="1060"/>
                      </a:lnTo>
                      <a:lnTo>
                        <a:pt x="1160" y="1022"/>
                      </a:lnTo>
                      <a:lnTo>
                        <a:pt x="1116" y="964"/>
                      </a:lnTo>
                      <a:lnTo>
                        <a:pt x="1068" y="896"/>
                      </a:lnTo>
                      <a:lnTo>
                        <a:pt x="1020" y="820"/>
                      </a:lnTo>
                      <a:lnTo>
                        <a:pt x="972" y="745"/>
                      </a:lnTo>
                      <a:lnTo>
                        <a:pt x="931" y="677"/>
                      </a:lnTo>
                      <a:lnTo>
                        <a:pt x="897" y="619"/>
                      </a:lnTo>
                      <a:lnTo>
                        <a:pt x="876" y="581"/>
                      </a:lnTo>
                      <a:lnTo>
                        <a:pt x="900" y="591"/>
                      </a:lnTo>
                      <a:lnTo>
                        <a:pt x="928" y="595"/>
                      </a:lnTo>
                      <a:lnTo>
                        <a:pt x="948" y="598"/>
                      </a:lnTo>
                      <a:lnTo>
                        <a:pt x="958" y="598"/>
                      </a:lnTo>
                      <a:lnTo>
                        <a:pt x="917" y="550"/>
                      </a:lnTo>
                      <a:lnTo>
                        <a:pt x="870" y="482"/>
                      </a:lnTo>
                      <a:lnTo>
                        <a:pt x="815" y="400"/>
                      </a:lnTo>
                      <a:lnTo>
                        <a:pt x="760" y="307"/>
                      </a:lnTo>
                      <a:lnTo>
                        <a:pt x="705" y="219"/>
                      </a:lnTo>
                      <a:lnTo>
                        <a:pt x="657" y="133"/>
                      </a:lnTo>
                      <a:lnTo>
                        <a:pt x="616" y="58"/>
                      </a:lnTo>
                      <a:lnTo>
                        <a:pt x="586" y="0"/>
                      </a:lnTo>
                      <a:close/>
                    </a:path>
                  </a:pathLst>
                </a:custGeom>
                <a:solidFill>
                  <a:srgbClr val="7fe8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480560" y="4039560"/>
                  <a:ext cx="315360" cy="549000"/>
                </a:xfrm>
                <a:custGeom>
                  <a:avLst/>
                  <a:gdLst/>
                  <a:ahLst/>
                  <a:rect l="l" t="t" r="r" b="b"/>
                  <a:pathLst>
                    <a:path w="1150" h="2719">
                      <a:moveTo>
                        <a:pt x="763" y="2699"/>
                      </a:moveTo>
                      <a:lnTo>
                        <a:pt x="757" y="2692"/>
                      </a:lnTo>
                      <a:lnTo>
                        <a:pt x="736" y="2672"/>
                      </a:lnTo>
                      <a:lnTo>
                        <a:pt x="709" y="2641"/>
                      </a:lnTo>
                      <a:lnTo>
                        <a:pt x="674" y="2603"/>
                      </a:lnTo>
                      <a:lnTo>
                        <a:pt x="640" y="2559"/>
                      </a:lnTo>
                      <a:lnTo>
                        <a:pt x="606" y="2514"/>
                      </a:lnTo>
                      <a:lnTo>
                        <a:pt x="575" y="2473"/>
                      </a:lnTo>
                      <a:lnTo>
                        <a:pt x="555" y="2436"/>
                      </a:lnTo>
                      <a:lnTo>
                        <a:pt x="575" y="2442"/>
                      </a:lnTo>
                      <a:lnTo>
                        <a:pt x="596" y="2449"/>
                      </a:lnTo>
                      <a:lnTo>
                        <a:pt x="613" y="2453"/>
                      </a:lnTo>
                      <a:lnTo>
                        <a:pt x="630" y="2453"/>
                      </a:lnTo>
                      <a:lnTo>
                        <a:pt x="644" y="2453"/>
                      </a:lnTo>
                      <a:lnTo>
                        <a:pt x="654" y="2449"/>
                      </a:lnTo>
                      <a:lnTo>
                        <a:pt x="661" y="2449"/>
                      </a:lnTo>
                      <a:lnTo>
                        <a:pt x="664" y="2449"/>
                      </a:lnTo>
                      <a:lnTo>
                        <a:pt x="620" y="2412"/>
                      </a:lnTo>
                      <a:lnTo>
                        <a:pt x="575" y="2360"/>
                      </a:lnTo>
                      <a:lnTo>
                        <a:pt x="531" y="2306"/>
                      </a:lnTo>
                      <a:lnTo>
                        <a:pt x="486" y="2247"/>
                      </a:lnTo>
                      <a:lnTo>
                        <a:pt x="445" y="2189"/>
                      </a:lnTo>
                      <a:lnTo>
                        <a:pt x="408" y="2135"/>
                      </a:lnTo>
                      <a:lnTo>
                        <a:pt x="377" y="2083"/>
                      </a:lnTo>
                      <a:lnTo>
                        <a:pt x="353" y="2042"/>
                      </a:lnTo>
                      <a:lnTo>
                        <a:pt x="384" y="2046"/>
                      </a:lnTo>
                      <a:lnTo>
                        <a:pt x="408" y="2046"/>
                      </a:lnTo>
                      <a:lnTo>
                        <a:pt x="421" y="2042"/>
                      </a:lnTo>
                      <a:lnTo>
                        <a:pt x="428" y="2042"/>
                      </a:lnTo>
                      <a:lnTo>
                        <a:pt x="387" y="2001"/>
                      </a:lnTo>
                      <a:lnTo>
                        <a:pt x="346" y="1950"/>
                      </a:lnTo>
                      <a:lnTo>
                        <a:pt x="308" y="1888"/>
                      </a:lnTo>
                      <a:lnTo>
                        <a:pt x="274" y="1823"/>
                      </a:lnTo>
                      <a:lnTo>
                        <a:pt x="243" y="1758"/>
                      </a:lnTo>
                      <a:lnTo>
                        <a:pt x="219" y="1700"/>
                      </a:lnTo>
                      <a:lnTo>
                        <a:pt x="202" y="1652"/>
                      </a:lnTo>
                      <a:lnTo>
                        <a:pt x="192" y="1622"/>
                      </a:lnTo>
                      <a:lnTo>
                        <a:pt x="209" y="1632"/>
                      </a:lnTo>
                      <a:lnTo>
                        <a:pt x="230" y="1639"/>
                      </a:lnTo>
                      <a:lnTo>
                        <a:pt x="250" y="1645"/>
                      </a:lnTo>
                      <a:lnTo>
                        <a:pt x="271" y="1649"/>
                      </a:lnTo>
                      <a:lnTo>
                        <a:pt x="291" y="1649"/>
                      </a:lnTo>
                      <a:lnTo>
                        <a:pt x="305" y="1649"/>
                      </a:lnTo>
                      <a:lnTo>
                        <a:pt x="315" y="1649"/>
                      </a:lnTo>
                      <a:lnTo>
                        <a:pt x="319" y="1649"/>
                      </a:lnTo>
                      <a:lnTo>
                        <a:pt x="284" y="1611"/>
                      </a:lnTo>
                      <a:lnTo>
                        <a:pt x="240" y="1553"/>
                      </a:lnTo>
                      <a:lnTo>
                        <a:pt x="192" y="1485"/>
                      </a:lnTo>
                      <a:lnTo>
                        <a:pt x="144" y="1409"/>
                      </a:lnTo>
                      <a:lnTo>
                        <a:pt x="96" y="1334"/>
                      </a:lnTo>
                      <a:lnTo>
                        <a:pt x="55" y="1266"/>
                      </a:lnTo>
                      <a:lnTo>
                        <a:pt x="21" y="1208"/>
                      </a:lnTo>
                      <a:lnTo>
                        <a:pt x="0" y="1170"/>
                      </a:lnTo>
                      <a:lnTo>
                        <a:pt x="24" y="1180"/>
                      </a:lnTo>
                      <a:lnTo>
                        <a:pt x="52" y="1184"/>
                      </a:lnTo>
                      <a:lnTo>
                        <a:pt x="72" y="1187"/>
                      </a:lnTo>
                      <a:lnTo>
                        <a:pt x="82" y="1187"/>
                      </a:lnTo>
                      <a:lnTo>
                        <a:pt x="72" y="1174"/>
                      </a:lnTo>
                      <a:lnTo>
                        <a:pt x="59" y="1160"/>
                      </a:lnTo>
                      <a:lnTo>
                        <a:pt x="41" y="1143"/>
                      </a:lnTo>
                      <a:lnTo>
                        <a:pt x="28" y="1122"/>
                      </a:lnTo>
                      <a:lnTo>
                        <a:pt x="28" y="1102"/>
                      </a:lnTo>
                      <a:lnTo>
                        <a:pt x="52" y="1078"/>
                      </a:lnTo>
                      <a:lnTo>
                        <a:pt x="76" y="1047"/>
                      </a:lnTo>
                      <a:lnTo>
                        <a:pt x="100" y="1013"/>
                      </a:lnTo>
                      <a:lnTo>
                        <a:pt x="124" y="972"/>
                      </a:lnTo>
                      <a:lnTo>
                        <a:pt x="144" y="931"/>
                      </a:lnTo>
                      <a:lnTo>
                        <a:pt x="165" y="893"/>
                      </a:lnTo>
                      <a:lnTo>
                        <a:pt x="178" y="859"/>
                      </a:lnTo>
                      <a:lnTo>
                        <a:pt x="192" y="831"/>
                      </a:lnTo>
                      <a:lnTo>
                        <a:pt x="182" y="835"/>
                      </a:lnTo>
                      <a:lnTo>
                        <a:pt x="161" y="845"/>
                      </a:lnTo>
                      <a:lnTo>
                        <a:pt x="134" y="855"/>
                      </a:lnTo>
                      <a:lnTo>
                        <a:pt x="110" y="859"/>
                      </a:lnTo>
                      <a:lnTo>
                        <a:pt x="130" y="831"/>
                      </a:lnTo>
                      <a:lnTo>
                        <a:pt x="151" y="794"/>
                      </a:lnTo>
                      <a:lnTo>
                        <a:pt x="175" y="746"/>
                      </a:lnTo>
                      <a:lnTo>
                        <a:pt x="195" y="695"/>
                      </a:lnTo>
                      <a:lnTo>
                        <a:pt x="216" y="640"/>
                      </a:lnTo>
                      <a:lnTo>
                        <a:pt x="236" y="589"/>
                      </a:lnTo>
                      <a:lnTo>
                        <a:pt x="250" y="548"/>
                      </a:lnTo>
                      <a:lnTo>
                        <a:pt x="257" y="513"/>
                      </a:lnTo>
                      <a:lnTo>
                        <a:pt x="250" y="517"/>
                      </a:lnTo>
                      <a:lnTo>
                        <a:pt x="233" y="527"/>
                      </a:lnTo>
                      <a:lnTo>
                        <a:pt x="209" y="541"/>
                      </a:lnTo>
                      <a:lnTo>
                        <a:pt x="178" y="548"/>
                      </a:lnTo>
                      <a:lnTo>
                        <a:pt x="206" y="507"/>
                      </a:lnTo>
                      <a:lnTo>
                        <a:pt x="236" y="442"/>
                      </a:lnTo>
                      <a:lnTo>
                        <a:pt x="271" y="363"/>
                      </a:lnTo>
                      <a:lnTo>
                        <a:pt x="305" y="277"/>
                      </a:lnTo>
                      <a:lnTo>
                        <a:pt x="332" y="188"/>
                      </a:lnTo>
                      <a:lnTo>
                        <a:pt x="356" y="110"/>
                      </a:lnTo>
                      <a:lnTo>
                        <a:pt x="373" y="45"/>
                      </a:lnTo>
                      <a:lnTo>
                        <a:pt x="380" y="0"/>
                      </a:lnTo>
                      <a:lnTo>
                        <a:pt x="394" y="45"/>
                      </a:lnTo>
                      <a:lnTo>
                        <a:pt x="414" y="106"/>
                      </a:lnTo>
                      <a:lnTo>
                        <a:pt x="435" y="178"/>
                      </a:lnTo>
                      <a:lnTo>
                        <a:pt x="462" y="257"/>
                      </a:lnTo>
                      <a:lnTo>
                        <a:pt x="493" y="336"/>
                      </a:lnTo>
                      <a:lnTo>
                        <a:pt x="524" y="407"/>
                      </a:lnTo>
                      <a:lnTo>
                        <a:pt x="551" y="469"/>
                      </a:lnTo>
                      <a:lnTo>
                        <a:pt x="582" y="513"/>
                      </a:lnTo>
                      <a:lnTo>
                        <a:pt x="551" y="500"/>
                      </a:lnTo>
                      <a:lnTo>
                        <a:pt x="527" y="486"/>
                      </a:lnTo>
                      <a:lnTo>
                        <a:pt x="510" y="476"/>
                      </a:lnTo>
                      <a:lnTo>
                        <a:pt x="507" y="472"/>
                      </a:lnTo>
                      <a:lnTo>
                        <a:pt x="514" y="513"/>
                      </a:lnTo>
                      <a:lnTo>
                        <a:pt x="527" y="558"/>
                      </a:lnTo>
                      <a:lnTo>
                        <a:pt x="548" y="606"/>
                      </a:lnTo>
                      <a:lnTo>
                        <a:pt x="572" y="654"/>
                      </a:lnTo>
                      <a:lnTo>
                        <a:pt x="596" y="702"/>
                      </a:lnTo>
                      <a:lnTo>
                        <a:pt x="623" y="743"/>
                      </a:lnTo>
                      <a:lnTo>
                        <a:pt x="654" y="780"/>
                      </a:lnTo>
                      <a:lnTo>
                        <a:pt x="685" y="811"/>
                      </a:lnTo>
                      <a:lnTo>
                        <a:pt x="664" y="811"/>
                      </a:lnTo>
                      <a:lnTo>
                        <a:pt x="640" y="811"/>
                      </a:lnTo>
                      <a:lnTo>
                        <a:pt x="620" y="811"/>
                      </a:lnTo>
                      <a:lnTo>
                        <a:pt x="609" y="811"/>
                      </a:lnTo>
                      <a:lnTo>
                        <a:pt x="630" y="855"/>
                      </a:lnTo>
                      <a:lnTo>
                        <a:pt x="654" y="903"/>
                      </a:lnTo>
                      <a:lnTo>
                        <a:pt x="681" y="958"/>
                      </a:lnTo>
                      <a:lnTo>
                        <a:pt x="715" y="1009"/>
                      </a:lnTo>
                      <a:lnTo>
                        <a:pt x="750" y="1064"/>
                      </a:lnTo>
                      <a:lnTo>
                        <a:pt x="791" y="1115"/>
                      </a:lnTo>
                      <a:lnTo>
                        <a:pt x="839" y="1167"/>
                      </a:lnTo>
                      <a:lnTo>
                        <a:pt x="887" y="1215"/>
                      </a:lnTo>
                      <a:lnTo>
                        <a:pt x="869" y="1218"/>
                      </a:lnTo>
                      <a:lnTo>
                        <a:pt x="852" y="1215"/>
                      </a:lnTo>
                      <a:lnTo>
                        <a:pt x="832" y="1208"/>
                      </a:lnTo>
                      <a:lnTo>
                        <a:pt x="815" y="1201"/>
                      </a:lnTo>
                      <a:lnTo>
                        <a:pt x="798" y="1194"/>
                      </a:lnTo>
                      <a:lnTo>
                        <a:pt x="784" y="1184"/>
                      </a:lnTo>
                      <a:lnTo>
                        <a:pt x="774" y="1180"/>
                      </a:lnTo>
                      <a:lnTo>
                        <a:pt x="770" y="1177"/>
                      </a:lnTo>
                      <a:lnTo>
                        <a:pt x="784" y="1221"/>
                      </a:lnTo>
                      <a:lnTo>
                        <a:pt x="804" y="1273"/>
                      </a:lnTo>
                      <a:lnTo>
                        <a:pt x="828" y="1334"/>
                      </a:lnTo>
                      <a:lnTo>
                        <a:pt x="863" y="1399"/>
                      </a:lnTo>
                      <a:lnTo>
                        <a:pt x="897" y="1464"/>
                      </a:lnTo>
                      <a:lnTo>
                        <a:pt x="938" y="1526"/>
                      </a:lnTo>
                      <a:lnTo>
                        <a:pt x="979" y="1581"/>
                      </a:lnTo>
                      <a:lnTo>
                        <a:pt x="1027" y="1628"/>
                      </a:lnTo>
                      <a:lnTo>
                        <a:pt x="1006" y="1628"/>
                      </a:lnTo>
                      <a:lnTo>
                        <a:pt x="986" y="1625"/>
                      </a:lnTo>
                      <a:lnTo>
                        <a:pt x="962" y="1622"/>
                      </a:lnTo>
                      <a:lnTo>
                        <a:pt x="941" y="1615"/>
                      </a:lnTo>
                      <a:lnTo>
                        <a:pt x="921" y="1608"/>
                      </a:lnTo>
                      <a:lnTo>
                        <a:pt x="900" y="1598"/>
                      </a:lnTo>
                      <a:lnTo>
                        <a:pt x="887" y="1587"/>
                      </a:lnTo>
                      <a:lnTo>
                        <a:pt x="873" y="1581"/>
                      </a:lnTo>
                      <a:lnTo>
                        <a:pt x="887" y="1622"/>
                      </a:lnTo>
                      <a:lnTo>
                        <a:pt x="904" y="1676"/>
                      </a:lnTo>
                      <a:lnTo>
                        <a:pt x="924" y="1734"/>
                      </a:lnTo>
                      <a:lnTo>
                        <a:pt x="945" y="1796"/>
                      </a:lnTo>
                      <a:lnTo>
                        <a:pt x="972" y="1854"/>
                      </a:lnTo>
                      <a:lnTo>
                        <a:pt x="999" y="1912"/>
                      </a:lnTo>
                      <a:lnTo>
                        <a:pt x="1034" y="1964"/>
                      </a:lnTo>
                      <a:lnTo>
                        <a:pt x="1068" y="2001"/>
                      </a:lnTo>
                      <a:lnTo>
                        <a:pt x="1051" y="1998"/>
                      </a:lnTo>
                      <a:lnTo>
                        <a:pt x="1030" y="1991"/>
                      </a:lnTo>
                      <a:lnTo>
                        <a:pt x="1013" y="1988"/>
                      </a:lnTo>
                      <a:lnTo>
                        <a:pt x="996" y="1981"/>
                      </a:lnTo>
                      <a:lnTo>
                        <a:pt x="982" y="1974"/>
                      </a:lnTo>
                      <a:lnTo>
                        <a:pt x="972" y="1967"/>
                      </a:lnTo>
                      <a:lnTo>
                        <a:pt x="965" y="1964"/>
                      </a:lnTo>
                      <a:lnTo>
                        <a:pt x="962" y="1964"/>
                      </a:lnTo>
                      <a:lnTo>
                        <a:pt x="972" y="2011"/>
                      </a:lnTo>
                      <a:lnTo>
                        <a:pt x="986" y="2073"/>
                      </a:lnTo>
                      <a:lnTo>
                        <a:pt x="999" y="2141"/>
                      </a:lnTo>
                      <a:lnTo>
                        <a:pt x="1020" y="2213"/>
                      </a:lnTo>
                      <a:lnTo>
                        <a:pt x="1041" y="2282"/>
                      </a:lnTo>
                      <a:lnTo>
                        <a:pt x="1064" y="2347"/>
                      </a:lnTo>
                      <a:lnTo>
                        <a:pt x="1092" y="2395"/>
                      </a:lnTo>
                      <a:lnTo>
                        <a:pt x="1123" y="2429"/>
                      </a:lnTo>
                      <a:lnTo>
                        <a:pt x="1102" y="2425"/>
                      </a:lnTo>
                      <a:lnTo>
                        <a:pt x="1082" y="2425"/>
                      </a:lnTo>
                      <a:lnTo>
                        <a:pt x="1064" y="2422"/>
                      </a:lnTo>
                      <a:lnTo>
                        <a:pt x="1047" y="2418"/>
                      </a:lnTo>
                      <a:lnTo>
                        <a:pt x="1034" y="2418"/>
                      </a:lnTo>
                      <a:lnTo>
                        <a:pt x="1023" y="2415"/>
                      </a:lnTo>
                      <a:lnTo>
                        <a:pt x="1017" y="2415"/>
                      </a:lnTo>
                      <a:lnTo>
                        <a:pt x="1013" y="2415"/>
                      </a:lnTo>
                      <a:lnTo>
                        <a:pt x="1020" y="2439"/>
                      </a:lnTo>
                      <a:lnTo>
                        <a:pt x="1030" y="2473"/>
                      </a:lnTo>
                      <a:lnTo>
                        <a:pt x="1044" y="2518"/>
                      </a:lnTo>
                      <a:lnTo>
                        <a:pt x="1061" y="2566"/>
                      </a:lnTo>
                      <a:lnTo>
                        <a:pt x="1082" y="2617"/>
                      </a:lnTo>
                      <a:lnTo>
                        <a:pt x="1102" y="2661"/>
                      </a:lnTo>
                      <a:lnTo>
                        <a:pt x="1126" y="2696"/>
                      </a:lnTo>
                      <a:lnTo>
                        <a:pt x="1150" y="2719"/>
                      </a:lnTo>
                      <a:lnTo>
                        <a:pt x="1123" y="2716"/>
                      </a:lnTo>
                      <a:lnTo>
                        <a:pt x="1082" y="2709"/>
                      </a:lnTo>
                      <a:lnTo>
                        <a:pt x="1030" y="2706"/>
                      </a:lnTo>
                      <a:lnTo>
                        <a:pt x="972" y="2702"/>
                      </a:lnTo>
                      <a:lnTo>
                        <a:pt x="914" y="2699"/>
                      </a:lnTo>
                      <a:lnTo>
                        <a:pt x="856" y="2699"/>
                      </a:lnTo>
                      <a:lnTo>
                        <a:pt x="804" y="2699"/>
                      </a:lnTo>
                      <a:lnTo>
                        <a:pt x="763" y="2699"/>
                      </a:lnTo>
                      <a:close/>
                    </a:path>
                  </a:pathLst>
                </a:custGeom>
                <a:solidFill>
                  <a:srgbClr val="7fe8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4240440" y="4158360"/>
                  <a:ext cx="233640" cy="468720"/>
                </a:xfrm>
                <a:custGeom>
                  <a:avLst/>
                  <a:gdLst/>
                  <a:ahLst/>
                  <a:rect l="l" t="t" r="r" b="b"/>
                  <a:pathLst>
                    <a:path w="852" h="2322">
                      <a:moveTo>
                        <a:pt x="729" y="2298"/>
                      </a:moveTo>
                      <a:lnTo>
                        <a:pt x="671" y="2305"/>
                      </a:lnTo>
                      <a:lnTo>
                        <a:pt x="616" y="2312"/>
                      </a:lnTo>
                      <a:lnTo>
                        <a:pt x="565" y="2315"/>
                      </a:lnTo>
                      <a:lnTo>
                        <a:pt x="510" y="2319"/>
                      </a:lnTo>
                      <a:lnTo>
                        <a:pt x="459" y="2322"/>
                      </a:lnTo>
                      <a:lnTo>
                        <a:pt x="411" y="2322"/>
                      </a:lnTo>
                      <a:lnTo>
                        <a:pt x="363" y="2322"/>
                      </a:lnTo>
                      <a:lnTo>
                        <a:pt x="319" y="2322"/>
                      </a:lnTo>
                      <a:lnTo>
                        <a:pt x="278" y="2319"/>
                      </a:lnTo>
                      <a:lnTo>
                        <a:pt x="237" y="2315"/>
                      </a:lnTo>
                      <a:lnTo>
                        <a:pt x="196" y="2312"/>
                      </a:lnTo>
                      <a:lnTo>
                        <a:pt x="161" y="2308"/>
                      </a:lnTo>
                      <a:lnTo>
                        <a:pt x="127" y="2301"/>
                      </a:lnTo>
                      <a:lnTo>
                        <a:pt x="96" y="2295"/>
                      </a:lnTo>
                      <a:lnTo>
                        <a:pt x="69" y="2288"/>
                      </a:lnTo>
                      <a:lnTo>
                        <a:pt x="45" y="2278"/>
                      </a:lnTo>
                      <a:lnTo>
                        <a:pt x="65" y="2247"/>
                      </a:lnTo>
                      <a:lnTo>
                        <a:pt x="89" y="2209"/>
                      </a:lnTo>
                      <a:lnTo>
                        <a:pt x="110" y="2148"/>
                      </a:lnTo>
                      <a:lnTo>
                        <a:pt x="127" y="2048"/>
                      </a:lnTo>
                      <a:lnTo>
                        <a:pt x="124" y="2048"/>
                      </a:lnTo>
                      <a:lnTo>
                        <a:pt x="117" y="2055"/>
                      </a:lnTo>
                      <a:lnTo>
                        <a:pt x="103" y="2059"/>
                      </a:lnTo>
                      <a:lnTo>
                        <a:pt x="86" y="2065"/>
                      </a:lnTo>
                      <a:lnTo>
                        <a:pt x="65" y="2072"/>
                      </a:lnTo>
                      <a:lnTo>
                        <a:pt x="45" y="2079"/>
                      </a:lnTo>
                      <a:lnTo>
                        <a:pt x="21" y="2086"/>
                      </a:lnTo>
                      <a:lnTo>
                        <a:pt x="0" y="2089"/>
                      </a:lnTo>
                      <a:lnTo>
                        <a:pt x="28" y="2059"/>
                      </a:lnTo>
                      <a:lnTo>
                        <a:pt x="62" y="2007"/>
                      </a:lnTo>
                      <a:lnTo>
                        <a:pt x="100" y="1939"/>
                      </a:lnTo>
                      <a:lnTo>
                        <a:pt x="137" y="1864"/>
                      </a:lnTo>
                      <a:lnTo>
                        <a:pt x="178" y="1782"/>
                      </a:lnTo>
                      <a:lnTo>
                        <a:pt x="213" y="1703"/>
                      </a:lnTo>
                      <a:lnTo>
                        <a:pt x="243" y="1628"/>
                      </a:lnTo>
                      <a:lnTo>
                        <a:pt x="264" y="1563"/>
                      </a:lnTo>
                      <a:lnTo>
                        <a:pt x="264" y="1566"/>
                      </a:lnTo>
                      <a:lnTo>
                        <a:pt x="261" y="1573"/>
                      </a:lnTo>
                      <a:lnTo>
                        <a:pt x="254" y="1583"/>
                      </a:lnTo>
                      <a:lnTo>
                        <a:pt x="243" y="1593"/>
                      </a:lnTo>
                      <a:lnTo>
                        <a:pt x="226" y="1604"/>
                      </a:lnTo>
                      <a:lnTo>
                        <a:pt x="206" y="1607"/>
                      </a:lnTo>
                      <a:lnTo>
                        <a:pt x="182" y="1611"/>
                      </a:lnTo>
                      <a:lnTo>
                        <a:pt x="148" y="1604"/>
                      </a:lnTo>
                      <a:lnTo>
                        <a:pt x="168" y="1570"/>
                      </a:lnTo>
                      <a:lnTo>
                        <a:pt x="196" y="1518"/>
                      </a:lnTo>
                      <a:lnTo>
                        <a:pt x="226" y="1453"/>
                      </a:lnTo>
                      <a:lnTo>
                        <a:pt x="257" y="1378"/>
                      </a:lnTo>
                      <a:lnTo>
                        <a:pt x="288" y="1299"/>
                      </a:lnTo>
                      <a:lnTo>
                        <a:pt x="319" y="1221"/>
                      </a:lnTo>
                      <a:lnTo>
                        <a:pt x="343" y="1145"/>
                      </a:lnTo>
                      <a:lnTo>
                        <a:pt x="363" y="1080"/>
                      </a:lnTo>
                      <a:lnTo>
                        <a:pt x="360" y="1084"/>
                      </a:lnTo>
                      <a:lnTo>
                        <a:pt x="356" y="1091"/>
                      </a:lnTo>
                      <a:lnTo>
                        <a:pt x="346" y="1104"/>
                      </a:lnTo>
                      <a:lnTo>
                        <a:pt x="332" y="1115"/>
                      </a:lnTo>
                      <a:lnTo>
                        <a:pt x="315" y="1125"/>
                      </a:lnTo>
                      <a:lnTo>
                        <a:pt x="291" y="1132"/>
                      </a:lnTo>
                      <a:lnTo>
                        <a:pt x="267" y="1132"/>
                      </a:lnTo>
                      <a:lnTo>
                        <a:pt x="237" y="1125"/>
                      </a:lnTo>
                      <a:lnTo>
                        <a:pt x="264" y="1080"/>
                      </a:lnTo>
                      <a:lnTo>
                        <a:pt x="295" y="1022"/>
                      </a:lnTo>
                      <a:lnTo>
                        <a:pt x="326" y="957"/>
                      </a:lnTo>
                      <a:lnTo>
                        <a:pt x="356" y="882"/>
                      </a:lnTo>
                      <a:lnTo>
                        <a:pt x="387" y="807"/>
                      </a:lnTo>
                      <a:lnTo>
                        <a:pt x="411" y="732"/>
                      </a:lnTo>
                      <a:lnTo>
                        <a:pt x="432" y="663"/>
                      </a:lnTo>
                      <a:lnTo>
                        <a:pt x="445" y="605"/>
                      </a:lnTo>
                      <a:lnTo>
                        <a:pt x="442" y="608"/>
                      </a:lnTo>
                      <a:lnTo>
                        <a:pt x="425" y="619"/>
                      </a:lnTo>
                      <a:lnTo>
                        <a:pt x="401" y="629"/>
                      </a:lnTo>
                      <a:lnTo>
                        <a:pt x="370" y="632"/>
                      </a:lnTo>
                      <a:lnTo>
                        <a:pt x="394" y="591"/>
                      </a:lnTo>
                      <a:lnTo>
                        <a:pt x="425" y="520"/>
                      </a:lnTo>
                      <a:lnTo>
                        <a:pt x="462" y="424"/>
                      </a:lnTo>
                      <a:lnTo>
                        <a:pt x="500" y="314"/>
                      </a:lnTo>
                      <a:lnTo>
                        <a:pt x="538" y="208"/>
                      </a:lnTo>
                      <a:lnTo>
                        <a:pt x="565" y="113"/>
                      </a:lnTo>
                      <a:lnTo>
                        <a:pt x="582" y="37"/>
                      </a:lnTo>
                      <a:lnTo>
                        <a:pt x="586" y="0"/>
                      </a:lnTo>
                      <a:lnTo>
                        <a:pt x="589" y="41"/>
                      </a:lnTo>
                      <a:lnTo>
                        <a:pt x="582" y="102"/>
                      </a:lnTo>
                      <a:lnTo>
                        <a:pt x="572" y="177"/>
                      </a:lnTo>
                      <a:lnTo>
                        <a:pt x="555" y="260"/>
                      </a:lnTo>
                      <a:lnTo>
                        <a:pt x="531" y="345"/>
                      </a:lnTo>
                      <a:lnTo>
                        <a:pt x="507" y="424"/>
                      </a:lnTo>
                      <a:lnTo>
                        <a:pt x="483" y="492"/>
                      </a:lnTo>
                      <a:lnTo>
                        <a:pt x="459" y="540"/>
                      </a:lnTo>
                      <a:lnTo>
                        <a:pt x="479" y="533"/>
                      </a:lnTo>
                      <a:lnTo>
                        <a:pt x="500" y="523"/>
                      </a:lnTo>
                      <a:lnTo>
                        <a:pt x="517" y="513"/>
                      </a:lnTo>
                      <a:lnTo>
                        <a:pt x="534" y="502"/>
                      </a:lnTo>
                      <a:lnTo>
                        <a:pt x="544" y="492"/>
                      </a:lnTo>
                      <a:lnTo>
                        <a:pt x="555" y="485"/>
                      </a:lnTo>
                      <a:lnTo>
                        <a:pt x="562" y="482"/>
                      </a:lnTo>
                      <a:lnTo>
                        <a:pt x="565" y="478"/>
                      </a:lnTo>
                      <a:lnTo>
                        <a:pt x="558" y="526"/>
                      </a:lnTo>
                      <a:lnTo>
                        <a:pt x="544" y="581"/>
                      </a:lnTo>
                      <a:lnTo>
                        <a:pt x="527" y="643"/>
                      </a:lnTo>
                      <a:lnTo>
                        <a:pt x="510" y="708"/>
                      </a:lnTo>
                      <a:lnTo>
                        <a:pt x="486" y="769"/>
                      </a:lnTo>
                      <a:lnTo>
                        <a:pt x="462" y="831"/>
                      </a:lnTo>
                      <a:lnTo>
                        <a:pt x="438" y="882"/>
                      </a:lnTo>
                      <a:lnTo>
                        <a:pt x="411" y="923"/>
                      </a:lnTo>
                      <a:lnTo>
                        <a:pt x="428" y="920"/>
                      </a:lnTo>
                      <a:lnTo>
                        <a:pt x="452" y="903"/>
                      </a:lnTo>
                      <a:lnTo>
                        <a:pt x="479" y="879"/>
                      </a:lnTo>
                      <a:lnTo>
                        <a:pt x="507" y="848"/>
                      </a:lnTo>
                      <a:lnTo>
                        <a:pt x="534" y="814"/>
                      </a:lnTo>
                      <a:lnTo>
                        <a:pt x="562" y="779"/>
                      </a:lnTo>
                      <a:lnTo>
                        <a:pt x="582" y="745"/>
                      </a:lnTo>
                      <a:lnTo>
                        <a:pt x="599" y="714"/>
                      </a:lnTo>
                      <a:lnTo>
                        <a:pt x="606" y="762"/>
                      </a:lnTo>
                      <a:lnTo>
                        <a:pt x="613" y="820"/>
                      </a:lnTo>
                      <a:lnTo>
                        <a:pt x="616" y="868"/>
                      </a:lnTo>
                      <a:lnTo>
                        <a:pt x="620" y="889"/>
                      </a:lnTo>
                      <a:lnTo>
                        <a:pt x="640" y="841"/>
                      </a:lnTo>
                      <a:lnTo>
                        <a:pt x="661" y="790"/>
                      </a:lnTo>
                      <a:lnTo>
                        <a:pt x="675" y="752"/>
                      </a:lnTo>
                      <a:lnTo>
                        <a:pt x="681" y="735"/>
                      </a:lnTo>
                      <a:lnTo>
                        <a:pt x="695" y="810"/>
                      </a:lnTo>
                      <a:lnTo>
                        <a:pt x="698" y="906"/>
                      </a:lnTo>
                      <a:lnTo>
                        <a:pt x="695" y="1005"/>
                      </a:lnTo>
                      <a:lnTo>
                        <a:pt x="681" y="1094"/>
                      </a:lnTo>
                      <a:lnTo>
                        <a:pt x="681" y="1063"/>
                      </a:lnTo>
                      <a:lnTo>
                        <a:pt x="671" y="1015"/>
                      </a:lnTo>
                      <a:lnTo>
                        <a:pt x="654" y="971"/>
                      </a:lnTo>
                      <a:lnTo>
                        <a:pt x="647" y="950"/>
                      </a:lnTo>
                      <a:lnTo>
                        <a:pt x="633" y="978"/>
                      </a:lnTo>
                      <a:lnTo>
                        <a:pt x="616" y="1009"/>
                      </a:lnTo>
                      <a:lnTo>
                        <a:pt x="599" y="1036"/>
                      </a:lnTo>
                      <a:lnTo>
                        <a:pt x="582" y="1060"/>
                      </a:lnTo>
                      <a:lnTo>
                        <a:pt x="562" y="1084"/>
                      </a:lnTo>
                      <a:lnTo>
                        <a:pt x="548" y="1101"/>
                      </a:lnTo>
                      <a:lnTo>
                        <a:pt x="538" y="1111"/>
                      </a:lnTo>
                      <a:lnTo>
                        <a:pt x="534" y="1115"/>
                      </a:lnTo>
                      <a:lnTo>
                        <a:pt x="538" y="1067"/>
                      </a:lnTo>
                      <a:lnTo>
                        <a:pt x="531" y="1026"/>
                      </a:lnTo>
                      <a:lnTo>
                        <a:pt x="514" y="998"/>
                      </a:lnTo>
                      <a:lnTo>
                        <a:pt x="493" y="971"/>
                      </a:lnTo>
                      <a:lnTo>
                        <a:pt x="483" y="1019"/>
                      </a:lnTo>
                      <a:lnTo>
                        <a:pt x="462" y="1084"/>
                      </a:lnTo>
                      <a:lnTo>
                        <a:pt x="435" y="1159"/>
                      </a:lnTo>
                      <a:lnTo>
                        <a:pt x="401" y="1238"/>
                      </a:lnTo>
                      <a:lnTo>
                        <a:pt x="367" y="1320"/>
                      </a:lnTo>
                      <a:lnTo>
                        <a:pt x="332" y="1392"/>
                      </a:lnTo>
                      <a:lnTo>
                        <a:pt x="302" y="1450"/>
                      </a:lnTo>
                      <a:lnTo>
                        <a:pt x="278" y="1487"/>
                      </a:lnTo>
                      <a:lnTo>
                        <a:pt x="298" y="1484"/>
                      </a:lnTo>
                      <a:lnTo>
                        <a:pt x="322" y="1474"/>
                      </a:lnTo>
                      <a:lnTo>
                        <a:pt x="343" y="1460"/>
                      </a:lnTo>
                      <a:lnTo>
                        <a:pt x="363" y="1443"/>
                      </a:lnTo>
                      <a:lnTo>
                        <a:pt x="380" y="1426"/>
                      </a:lnTo>
                      <a:lnTo>
                        <a:pt x="394" y="1412"/>
                      </a:lnTo>
                      <a:lnTo>
                        <a:pt x="401" y="1402"/>
                      </a:lnTo>
                      <a:lnTo>
                        <a:pt x="404" y="1399"/>
                      </a:lnTo>
                      <a:lnTo>
                        <a:pt x="408" y="1453"/>
                      </a:lnTo>
                      <a:lnTo>
                        <a:pt x="404" y="1505"/>
                      </a:lnTo>
                      <a:lnTo>
                        <a:pt x="394" y="1546"/>
                      </a:lnTo>
                      <a:lnTo>
                        <a:pt x="391" y="1563"/>
                      </a:lnTo>
                      <a:lnTo>
                        <a:pt x="421" y="1542"/>
                      </a:lnTo>
                      <a:lnTo>
                        <a:pt x="456" y="1511"/>
                      </a:lnTo>
                      <a:lnTo>
                        <a:pt x="493" y="1474"/>
                      </a:lnTo>
                      <a:lnTo>
                        <a:pt x="534" y="1436"/>
                      </a:lnTo>
                      <a:lnTo>
                        <a:pt x="568" y="1395"/>
                      </a:lnTo>
                      <a:lnTo>
                        <a:pt x="599" y="1354"/>
                      </a:lnTo>
                      <a:lnTo>
                        <a:pt x="623" y="1320"/>
                      </a:lnTo>
                      <a:lnTo>
                        <a:pt x="633" y="1292"/>
                      </a:lnTo>
                      <a:lnTo>
                        <a:pt x="633" y="1364"/>
                      </a:lnTo>
                      <a:lnTo>
                        <a:pt x="627" y="1457"/>
                      </a:lnTo>
                      <a:lnTo>
                        <a:pt x="610" y="1549"/>
                      </a:lnTo>
                      <a:lnTo>
                        <a:pt x="579" y="1611"/>
                      </a:lnTo>
                      <a:lnTo>
                        <a:pt x="551" y="1501"/>
                      </a:lnTo>
                      <a:lnTo>
                        <a:pt x="531" y="1535"/>
                      </a:lnTo>
                      <a:lnTo>
                        <a:pt x="514" y="1570"/>
                      </a:lnTo>
                      <a:lnTo>
                        <a:pt x="493" y="1600"/>
                      </a:lnTo>
                      <a:lnTo>
                        <a:pt x="476" y="1628"/>
                      </a:lnTo>
                      <a:lnTo>
                        <a:pt x="456" y="1655"/>
                      </a:lnTo>
                      <a:lnTo>
                        <a:pt x="438" y="1679"/>
                      </a:lnTo>
                      <a:lnTo>
                        <a:pt x="418" y="1699"/>
                      </a:lnTo>
                      <a:lnTo>
                        <a:pt x="397" y="1717"/>
                      </a:lnTo>
                      <a:lnTo>
                        <a:pt x="411" y="1682"/>
                      </a:lnTo>
                      <a:lnTo>
                        <a:pt x="418" y="1645"/>
                      </a:lnTo>
                      <a:lnTo>
                        <a:pt x="418" y="1614"/>
                      </a:lnTo>
                      <a:lnTo>
                        <a:pt x="418" y="1604"/>
                      </a:lnTo>
                      <a:lnTo>
                        <a:pt x="397" y="1635"/>
                      </a:lnTo>
                      <a:lnTo>
                        <a:pt x="380" y="1658"/>
                      </a:lnTo>
                      <a:lnTo>
                        <a:pt x="360" y="1679"/>
                      </a:lnTo>
                      <a:lnTo>
                        <a:pt x="336" y="1696"/>
                      </a:lnTo>
                      <a:lnTo>
                        <a:pt x="315" y="1710"/>
                      </a:lnTo>
                      <a:lnTo>
                        <a:pt x="298" y="1720"/>
                      </a:lnTo>
                      <a:lnTo>
                        <a:pt x="281" y="1730"/>
                      </a:lnTo>
                      <a:lnTo>
                        <a:pt x="264" y="1737"/>
                      </a:lnTo>
                      <a:lnTo>
                        <a:pt x="261" y="1764"/>
                      </a:lnTo>
                      <a:lnTo>
                        <a:pt x="254" y="1795"/>
                      </a:lnTo>
                      <a:lnTo>
                        <a:pt x="240" y="1829"/>
                      </a:lnTo>
                      <a:lnTo>
                        <a:pt x="226" y="1864"/>
                      </a:lnTo>
                      <a:lnTo>
                        <a:pt x="206" y="1901"/>
                      </a:lnTo>
                      <a:lnTo>
                        <a:pt x="189" y="1932"/>
                      </a:lnTo>
                      <a:lnTo>
                        <a:pt x="172" y="1956"/>
                      </a:lnTo>
                      <a:lnTo>
                        <a:pt x="154" y="1973"/>
                      </a:lnTo>
                      <a:lnTo>
                        <a:pt x="192" y="1963"/>
                      </a:lnTo>
                      <a:lnTo>
                        <a:pt x="223" y="1946"/>
                      </a:lnTo>
                      <a:lnTo>
                        <a:pt x="254" y="1922"/>
                      </a:lnTo>
                      <a:lnTo>
                        <a:pt x="281" y="1898"/>
                      </a:lnTo>
                      <a:lnTo>
                        <a:pt x="302" y="1874"/>
                      </a:lnTo>
                      <a:lnTo>
                        <a:pt x="322" y="1850"/>
                      </a:lnTo>
                      <a:lnTo>
                        <a:pt x="336" y="1829"/>
                      </a:lnTo>
                      <a:lnTo>
                        <a:pt x="349" y="1812"/>
                      </a:lnTo>
                      <a:lnTo>
                        <a:pt x="346" y="1853"/>
                      </a:lnTo>
                      <a:lnTo>
                        <a:pt x="336" y="1898"/>
                      </a:lnTo>
                      <a:lnTo>
                        <a:pt x="322" y="1939"/>
                      </a:lnTo>
                      <a:lnTo>
                        <a:pt x="305" y="1977"/>
                      </a:lnTo>
                      <a:lnTo>
                        <a:pt x="284" y="2011"/>
                      </a:lnTo>
                      <a:lnTo>
                        <a:pt x="267" y="2045"/>
                      </a:lnTo>
                      <a:lnTo>
                        <a:pt x="250" y="2072"/>
                      </a:lnTo>
                      <a:lnTo>
                        <a:pt x="237" y="2096"/>
                      </a:lnTo>
                      <a:lnTo>
                        <a:pt x="267" y="2079"/>
                      </a:lnTo>
                      <a:lnTo>
                        <a:pt x="305" y="2045"/>
                      </a:lnTo>
                      <a:lnTo>
                        <a:pt x="346" y="1997"/>
                      </a:lnTo>
                      <a:lnTo>
                        <a:pt x="387" y="1942"/>
                      </a:lnTo>
                      <a:lnTo>
                        <a:pt x="428" y="1881"/>
                      </a:lnTo>
                      <a:lnTo>
                        <a:pt x="466" y="1823"/>
                      </a:lnTo>
                      <a:lnTo>
                        <a:pt x="493" y="1771"/>
                      </a:lnTo>
                      <a:lnTo>
                        <a:pt x="507" y="1730"/>
                      </a:lnTo>
                      <a:lnTo>
                        <a:pt x="541" y="1782"/>
                      </a:lnTo>
                      <a:lnTo>
                        <a:pt x="558" y="1881"/>
                      </a:lnTo>
                      <a:lnTo>
                        <a:pt x="565" y="2004"/>
                      </a:lnTo>
                      <a:lnTo>
                        <a:pt x="565" y="2124"/>
                      </a:lnTo>
                      <a:lnTo>
                        <a:pt x="589" y="2089"/>
                      </a:lnTo>
                      <a:lnTo>
                        <a:pt x="623" y="2038"/>
                      </a:lnTo>
                      <a:lnTo>
                        <a:pt x="657" y="1970"/>
                      </a:lnTo>
                      <a:lnTo>
                        <a:pt x="695" y="1891"/>
                      </a:lnTo>
                      <a:lnTo>
                        <a:pt x="729" y="1812"/>
                      </a:lnTo>
                      <a:lnTo>
                        <a:pt x="757" y="1734"/>
                      </a:lnTo>
                      <a:lnTo>
                        <a:pt x="777" y="1665"/>
                      </a:lnTo>
                      <a:lnTo>
                        <a:pt x="784" y="1611"/>
                      </a:lnTo>
                      <a:lnTo>
                        <a:pt x="818" y="1713"/>
                      </a:lnTo>
                      <a:lnTo>
                        <a:pt x="842" y="1864"/>
                      </a:lnTo>
                      <a:lnTo>
                        <a:pt x="852" y="2024"/>
                      </a:lnTo>
                      <a:lnTo>
                        <a:pt x="849" y="2137"/>
                      </a:lnTo>
                      <a:lnTo>
                        <a:pt x="832" y="2083"/>
                      </a:lnTo>
                      <a:lnTo>
                        <a:pt x="805" y="2031"/>
                      </a:lnTo>
                      <a:lnTo>
                        <a:pt x="781" y="1994"/>
                      </a:lnTo>
                      <a:lnTo>
                        <a:pt x="770" y="1980"/>
                      </a:lnTo>
                      <a:lnTo>
                        <a:pt x="770" y="2065"/>
                      </a:lnTo>
                      <a:lnTo>
                        <a:pt x="767" y="2148"/>
                      </a:lnTo>
                      <a:lnTo>
                        <a:pt x="753" y="2230"/>
                      </a:lnTo>
                      <a:lnTo>
                        <a:pt x="729" y="2298"/>
                      </a:lnTo>
                      <a:close/>
                    </a:path>
                  </a:pathLst>
                </a:custGeom>
                <a:solidFill>
                  <a:srgbClr val="00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4480560" y="4039560"/>
                  <a:ext cx="315360" cy="549000"/>
                </a:xfrm>
                <a:custGeom>
                  <a:avLst/>
                  <a:gdLst/>
                  <a:ahLst/>
                  <a:rect l="l" t="t" r="r" b="b"/>
                  <a:pathLst>
                    <a:path w="1150" h="2719">
                      <a:moveTo>
                        <a:pt x="1123" y="2429"/>
                      </a:moveTo>
                      <a:lnTo>
                        <a:pt x="1102" y="2425"/>
                      </a:lnTo>
                      <a:lnTo>
                        <a:pt x="1082" y="2425"/>
                      </a:lnTo>
                      <a:lnTo>
                        <a:pt x="1064" y="2422"/>
                      </a:lnTo>
                      <a:lnTo>
                        <a:pt x="1047" y="2418"/>
                      </a:lnTo>
                      <a:lnTo>
                        <a:pt x="1034" y="2418"/>
                      </a:lnTo>
                      <a:lnTo>
                        <a:pt x="1023" y="2415"/>
                      </a:lnTo>
                      <a:lnTo>
                        <a:pt x="1017" y="2415"/>
                      </a:lnTo>
                      <a:lnTo>
                        <a:pt x="1013" y="2415"/>
                      </a:lnTo>
                      <a:lnTo>
                        <a:pt x="1020" y="2439"/>
                      </a:lnTo>
                      <a:lnTo>
                        <a:pt x="1030" y="2473"/>
                      </a:lnTo>
                      <a:lnTo>
                        <a:pt x="1044" y="2518"/>
                      </a:lnTo>
                      <a:lnTo>
                        <a:pt x="1061" y="2566"/>
                      </a:lnTo>
                      <a:lnTo>
                        <a:pt x="1082" y="2617"/>
                      </a:lnTo>
                      <a:lnTo>
                        <a:pt x="1102" y="2661"/>
                      </a:lnTo>
                      <a:lnTo>
                        <a:pt x="1126" y="2696"/>
                      </a:lnTo>
                      <a:lnTo>
                        <a:pt x="1150" y="2719"/>
                      </a:lnTo>
                      <a:lnTo>
                        <a:pt x="1123" y="2716"/>
                      </a:lnTo>
                      <a:lnTo>
                        <a:pt x="1082" y="2709"/>
                      </a:lnTo>
                      <a:lnTo>
                        <a:pt x="1030" y="2706"/>
                      </a:lnTo>
                      <a:lnTo>
                        <a:pt x="972" y="2702"/>
                      </a:lnTo>
                      <a:lnTo>
                        <a:pt x="914" y="2699"/>
                      </a:lnTo>
                      <a:lnTo>
                        <a:pt x="856" y="2699"/>
                      </a:lnTo>
                      <a:lnTo>
                        <a:pt x="804" y="2699"/>
                      </a:lnTo>
                      <a:lnTo>
                        <a:pt x="763" y="2699"/>
                      </a:lnTo>
                      <a:lnTo>
                        <a:pt x="757" y="2692"/>
                      </a:lnTo>
                      <a:lnTo>
                        <a:pt x="736" y="2672"/>
                      </a:lnTo>
                      <a:lnTo>
                        <a:pt x="709" y="2641"/>
                      </a:lnTo>
                      <a:lnTo>
                        <a:pt x="674" y="2603"/>
                      </a:lnTo>
                      <a:lnTo>
                        <a:pt x="640" y="2559"/>
                      </a:lnTo>
                      <a:lnTo>
                        <a:pt x="606" y="2514"/>
                      </a:lnTo>
                      <a:lnTo>
                        <a:pt x="575" y="2473"/>
                      </a:lnTo>
                      <a:lnTo>
                        <a:pt x="555" y="2436"/>
                      </a:lnTo>
                      <a:lnTo>
                        <a:pt x="575" y="2442"/>
                      </a:lnTo>
                      <a:lnTo>
                        <a:pt x="596" y="2449"/>
                      </a:lnTo>
                      <a:lnTo>
                        <a:pt x="613" y="2453"/>
                      </a:lnTo>
                      <a:lnTo>
                        <a:pt x="630" y="2453"/>
                      </a:lnTo>
                      <a:lnTo>
                        <a:pt x="644" y="2453"/>
                      </a:lnTo>
                      <a:lnTo>
                        <a:pt x="654" y="2449"/>
                      </a:lnTo>
                      <a:lnTo>
                        <a:pt x="661" y="2449"/>
                      </a:lnTo>
                      <a:lnTo>
                        <a:pt x="664" y="2449"/>
                      </a:lnTo>
                      <a:lnTo>
                        <a:pt x="620" y="2412"/>
                      </a:lnTo>
                      <a:lnTo>
                        <a:pt x="575" y="2360"/>
                      </a:lnTo>
                      <a:lnTo>
                        <a:pt x="531" y="2306"/>
                      </a:lnTo>
                      <a:lnTo>
                        <a:pt x="486" y="2247"/>
                      </a:lnTo>
                      <a:lnTo>
                        <a:pt x="445" y="2189"/>
                      </a:lnTo>
                      <a:lnTo>
                        <a:pt x="408" y="2135"/>
                      </a:lnTo>
                      <a:lnTo>
                        <a:pt x="377" y="2083"/>
                      </a:lnTo>
                      <a:lnTo>
                        <a:pt x="353" y="2042"/>
                      </a:lnTo>
                      <a:lnTo>
                        <a:pt x="384" y="2046"/>
                      </a:lnTo>
                      <a:lnTo>
                        <a:pt x="408" y="2046"/>
                      </a:lnTo>
                      <a:lnTo>
                        <a:pt x="421" y="2042"/>
                      </a:lnTo>
                      <a:lnTo>
                        <a:pt x="428" y="2042"/>
                      </a:lnTo>
                      <a:lnTo>
                        <a:pt x="387" y="2001"/>
                      </a:lnTo>
                      <a:lnTo>
                        <a:pt x="346" y="1950"/>
                      </a:lnTo>
                      <a:lnTo>
                        <a:pt x="308" y="1888"/>
                      </a:lnTo>
                      <a:lnTo>
                        <a:pt x="274" y="1823"/>
                      </a:lnTo>
                      <a:lnTo>
                        <a:pt x="243" y="1758"/>
                      </a:lnTo>
                      <a:lnTo>
                        <a:pt x="219" y="1700"/>
                      </a:lnTo>
                      <a:lnTo>
                        <a:pt x="202" y="1652"/>
                      </a:lnTo>
                      <a:lnTo>
                        <a:pt x="192" y="1622"/>
                      </a:lnTo>
                      <a:lnTo>
                        <a:pt x="209" y="1632"/>
                      </a:lnTo>
                      <a:lnTo>
                        <a:pt x="230" y="1639"/>
                      </a:lnTo>
                      <a:lnTo>
                        <a:pt x="250" y="1645"/>
                      </a:lnTo>
                      <a:lnTo>
                        <a:pt x="271" y="1649"/>
                      </a:lnTo>
                      <a:lnTo>
                        <a:pt x="291" y="1649"/>
                      </a:lnTo>
                      <a:lnTo>
                        <a:pt x="305" y="1649"/>
                      </a:lnTo>
                      <a:lnTo>
                        <a:pt x="315" y="1649"/>
                      </a:lnTo>
                      <a:lnTo>
                        <a:pt x="319" y="1649"/>
                      </a:lnTo>
                      <a:lnTo>
                        <a:pt x="284" y="1611"/>
                      </a:lnTo>
                      <a:lnTo>
                        <a:pt x="240" y="1553"/>
                      </a:lnTo>
                      <a:lnTo>
                        <a:pt x="192" y="1485"/>
                      </a:lnTo>
                      <a:lnTo>
                        <a:pt x="144" y="1409"/>
                      </a:lnTo>
                      <a:lnTo>
                        <a:pt x="96" y="1334"/>
                      </a:lnTo>
                      <a:lnTo>
                        <a:pt x="55" y="1266"/>
                      </a:lnTo>
                      <a:lnTo>
                        <a:pt x="21" y="1208"/>
                      </a:lnTo>
                      <a:lnTo>
                        <a:pt x="0" y="1170"/>
                      </a:lnTo>
                      <a:lnTo>
                        <a:pt x="24" y="1180"/>
                      </a:lnTo>
                      <a:lnTo>
                        <a:pt x="52" y="1184"/>
                      </a:lnTo>
                      <a:lnTo>
                        <a:pt x="72" y="1187"/>
                      </a:lnTo>
                      <a:lnTo>
                        <a:pt x="82" y="1187"/>
                      </a:lnTo>
                      <a:lnTo>
                        <a:pt x="72" y="1174"/>
                      </a:lnTo>
                      <a:lnTo>
                        <a:pt x="59" y="1160"/>
                      </a:lnTo>
                      <a:lnTo>
                        <a:pt x="41" y="1143"/>
                      </a:lnTo>
                      <a:lnTo>
                        <a:pt x="28" y="1122"/>
                      </a:lnTo>
                      <a:lnTo>
                        <a:pt x="28" y="1102"/>
                      </a:lnTo>
                      <a:lnTo>
                        <a:pt x="52" y="1078"/>
                      </a:lnTo>
                      <a:lnTo>
                        <a:pt x="76" y="1047"/>
                      </a:lnTo>
                      <a:lnTo>
                        <a:pt x="100" y="1013"/>
                      </a:lnTo>
                      <a:lnTo>
                        <a:pt x="124" y="972"/>
                      </a:lnTo>
                      <a:lnTo>
                        <a:pt x="144" y="931"/>
                      </a:lnTo>
                      <a:lnTo>
                        <a:pt x="165" y="893"/>
                      </a:lnTo>
                      <a:lnTo>
                        <a:pt x="178" y="859"/>
                      </a:lnTo>
                      <a:lnTo>
                        <a:pt x="192" y="831"/>
                      </a:lnTo>
                      <a:lnTo>
                        <a:pt x="182" y="835"/>
                      </a:lnTo>
                      <a:lnTo>
                        <a:pt x="161" y="845"/>
                      </a:lnTo>
                      <a:lnTo>
                        <a:pt x="134" y="855"/>
                      </a:lnTo>
                      <a:lnTo>
                        <a:pt x="110" y="859"/>
                      </a:lnTo>
                      <a:lnTo>
                        <a:pt x="130" y="831"/>
                      </a:lnTo>
                      <a:lnTo>
                        <a:pt x="151" y="794"/>
                      </a:lnTo>
                      <a:lnTo>
                        <a:pt x="175" y="746"/>
                      </a:lnTo>
                      <a:lnTo>
                        <a:pt x="195" y="695"/>
                      </a:lnTo>
                      <a:lnTo>
                        <a:pt x="216" y="640"/>
                      </a:lnTo>
                      <a:lnTo>
                        <a:pt x="236" y="589"/>
                      </a:lnTo>
                      <a:lnTo>
                        <a:pt x="250" y="548"/>
                      </a:lnTo>
                      <a:lnTo>
                        <a:pt x="257" y="513"/>
                      </a:lnTo>
                      <a:lnTo>
                        <a:pt x="250" y="517"/>
                      </a:lnTo>
                      <a:lnTo>
                        <a:pt x="233" y="527"/>
                      </a:lnTo>
                      <a:lnTo>
                        <a:pt x="209" y="541"/>
                      </a:lnTo>
                      <a:lnTo>
                        <a:pt x="178" y="548"/>
                      </a:lnTo>
                      <a:lnTo>
                        <a:pt x="206" y="507"/>
                      </a:lnTo>
                      <a:lnTo>
                        <a:pt x="236" y="442"/>
                      </a:lnTo>
                      <a:lnTo>
                        <a:pt x="271" y="363"/>
                      </a:lnTo>
                      <a:lnTo>
                        <a:pt x="305" y="277"/>
                      </a:lnTo>
                      <a:lnTo>
                        <a:pt x="332" y="188"/>
                      </a:lnTo>
                      <a:lnTo>
                        <a:pt x="356" y="110"/>
                      </a:lnTo>
                      <a:lnTo>
                        <a:pt x="373" y="45"/>
                      </a:lnTo>
                      <a:lnTo>
                        <a:pt x="380" y="0"/>
                      </a:lnTo>
                      <a:lnTo>
                        <a:pt x="384" y="52"/>
                      </a:lnTo>
                      <a:lnTo>
                        <a:pt x="384" y="120"/>
                      </a:lnTo>
                      <a:lnTo>
                        <a:pt x="373" y="199"/>
                      </a:lnTo>
                      <a:lnTo>
                        <a:pt x="363" y="284"/>
                      </a:lnTo>
                      <a:lnTo>
                        <a:pt x="346" y="370"/>
                      </a:lnTo>
                      <a:lnTo>
                        <a:pt x="325" y="452"/>
                      </a:lnTo>
                      <a:lnTo>
                        <a:pt x="301" y="524"/>
                      </a:lnTo>
                      <a:lnTo>
                        <a:pt x="278" y="582"/>
                      </a:lnTo>
                      <a:lnTo>
                        <a:pt x="312" y="572"/>
                      </a:lnTo>
                      <a:lnTo>
                        <a:pt x="343" y="551"/>
                      </a:lnTo>
                      <a:lnTo>
                        <a:pt x="366" y="530"/>
                      </a:lnTo>
                      <a:lnTo>
                        <a:pt x="373" y="520"/>
                      </a:lnTo>
                      <a:lnTo>
                        <a:pt x="370" y="558"/>
                      </a:lnTo>
                      <a:lnTo>
                        <a:pt x="360" y="602"/>
                      </a:lnTo>
                      <a:lnTo>
                        <a:pt x="343" y="654"/>
                      </a:lnTo>
                      <a:lnTo>
                        <a:pt x="325" y="705"/>
                      </a:lnTo>
                      <a:lnTo>
                        <a:pt x="305" y="756"/>
                      </a:lnTo>
                      <a:lnTo>
                        <a:pt x="288" y="801"/>
                      </a:lnTo>
                      <a:lnTo>
                        <a:pt x="271" y="838"/>
                      </a:lnTo>
                      <a:lnTo>
                        <a:pt x="257" y="866"/>
                      </a:lnTo>
                      <a:lnTo>
                        <a:pt x="278" y="862"/>
                      </a:lnTo>
                      <a:lnTo>
                        <a:pt x="298" y="852"/>
                      </a:lnTo>
                      <a:lnTo>
                        <a:pt x="319" y="842"/>
                      </a:lnTo>
                      <a:lnTo>
                        <a:pt x="339" y="831"/>
                      </a:lnTo>
                      <a:lnTo>
                        <a:pt x="356" y="821"/>
                      </a:lnTo>
                      <a:lnTo>
                        <a:pt x="370" y="814"/>
                      </a:lnTo>
                      <a:lnTo>
                        <a:pt x="377" y="808"/>
                      </a:lnTo>
                      <a:lnTo>
                        <a:pt x="380" y="804"/>
                      </a:lnTo>
                      <a:lnTo>
                        <a:pt x="370" y="845"/>
                      </a:lnTo>
                      <a:lnTo>
                        <a:pt x="353" y="900"/>
                      </a:lnTo>
                      <a:lnTo>
                        <a:pt x="329" y="961"/>
                      </a:lnTo>
                      <a:lnTo>
                        <a:pt x="301" y="1026"/>
                      </a:lnTo>
                      <a:lnTo>
                        <a:pt x="274" y="1091"/>
                      </a:lnTo>
                      <a:lnTo>
                        <a:pt x="247" y="1150"/>
                      </a:lnTo>
                      <a:lnTo>
                        <a:pt x="223" y="1201"/>
                      </a:lnTo>
                      <a:lnTo>
                        <a:pt x="202" y="1235"/>
                      </a:lnTo>
                      <a:lnTo>
                        <a:pt x="223" y="1228"/>
                      </a:lnTo>
                      <a:lnTo>
                        <a:pt x="250" y="1215"/>
                      </a:lnTo>
                      <a:lnTo>
                        <a:pt x="278" y="1194"/>
                      </a:lnTo>
                      <a:lnTo>
                        <a:pt x="305" y="1167"/>
                      </a:lnTo>
                      <a:lnTo>
                        <a:pt x="332" y="1139"/>
                      </a:lnTo>
                      <a:lnTo>
                        <a:pt x="360" y="1112"/>
                      </a:lnTo>
                      <a:lnTo>
                        <a:pt x="380" y="1088"/>
                      </a:lnTo>
                      <a:lnTo>
                        <a:pt x="394" y="1067"/>
                      </a:lnTo>
                      <a:lnTo>
                        <a:pt x="394" y="1132"/>
                      </a:lnTo>
                      <a:lnTo>
                        <a:pt x="384" y="1208"/>
                      </a:lnTo>
                      <a:lnTo>
                        <a:pt x="370" y="1286"/>
                      </a:lnTo>
                      <a:lnTo>
                        <a:pt x="353" y="1351"/>
                      </a:lnTo>
                      <a:lnTo>
                        <a:pt x="377" y="1338"/>
                      </a:lnTo>
                      <a:lnTo>
                        <a:pt x="401" y="1321"/>
                      </a:lnTo>
                      <a:lnTo>
                        <a:pt x="425" y="1297"/>
                      </a:lnTo>
                      <a:lnTo>
                        <a:pt x="445" y="1273"/>
                      </a:lnTo>
                      <a:lnTo>
                        <a:pt x="466" y="1245"/>
                      </a:lnTo>
                      <a:lnTo>
                        <a:pt x="483" y="1225"/>
                      </a:lnTo>
                      <a:lnTo>
                        <a:pt x="496" y="1204"/>
                      </a:lnTo>
                      <a:lnTo>
                        <a:pt x="507" y="1187"/>
                      </a:lnTo>
                      <a:lnTo>
                        <a:pt x="514" y="1269"/>
                      </a:lnTo>
                      <a:lnTo>
                        <a:pt x="514" y="1368"/>
                      </a:lnTo>
                      <a:lnTo>
                        <a:pt x="500" y="1464"/>
                      </a:lnTo>
                      <a:lnTo>
                        <a:pt x="486" y="1526"/>
                      </a:lnTo>
                      <a:lnTo>
                        <a:pt x="486" y="1492"/>
                      </a:lnTo>
                      <a:lnTo>
                        <a:pt x="483" y="1451"/>
                      </a:lnTo>
                      <a:lnTo>
                        <a:pt x="473" y="1413"/>
                      </a:lnTo>
                      <a:lnTo>
                        <a:pt x="455" y="1386"/>
                      </a:lnTo>
                      <a:lnTo>
                        <a:pt x="452" y="1420"/>
                      </a:lnTo>
                      <a:lnTo>
                        <a:pt x="438" y="1461"/>
                      </a:lnTo>
                      <a:lnTo>
                        <a:pt x="418" y="1509"/>
                      </a:lnTo>
                      <a:lnTo>
                        <a:pt x="397" y="1560"/>
                      </a:lnTo>
                      <a:lnTo>
                        <a:pt x="370" y="1611"/>
                      </a:lnTo>
                      <a:lnTo>
                        <a:pt x="346" y="1656"/>
                      </a:lnTo>
                      <a:lnTo>
                        <a:pt x="322" y="1693"/>
                      </a:lnTo>
                      <a:lnTo>
                        <a:pt x="305" y="1721"/>
                      </a:lnTo>
                      <a:lnTo>
                        <a:pt x="322" y="1721"/>
                      </a:lnTo>
                      <a:lnTo>
                        <a:pt x="339" y="1714"/>
                      </a:lnTo>
                      <a:lnTo>
                        <a:pt x="356" y="1710"/>
                      </a:lnTo>
                      <a:lnTo>
                        <a:pt x="373" y="1700"/>
                      </a:lnTo>
                      <a:lnTo>
                        <a:pt x="387" y="1693"/>
                      </a:lnTo>
                      <a:lnTo>
                        <a:pt x="397" y="1690"/>
                      </a:lnTo>
                      <a:lnTo>
                        <a:pt x="404" y="1683"/>
                      </a:lnTo>
                      <a:lnTo>
                        <a:pt x="408" y="1683"/>
                      </a:lnTo>
                      <a:lnTo>
                        <a:pt x="404" y="1779"/>
                      </a:lnTo>
                      <a:lnTo>
                        <a:pt x="394" y="1854"/>
                      </a:lnTo>
                      <a:lnTo>
                        <a:pt x="380" y="1909"/>
                      </a:lnTo>
                      <a:lnTo>
                        <a:pt x="366" y="1936"/>
                      </a:lnTo>
                      <a:lnTo>
                        <a:pt x="387" y="1923"/>
                      </a:lnTo>
                      <a:lnTo>
                        <a:pt x="414" y="1899"/>
                      </a:lnTo>
                      <a:lnTo>
                        <a:pt x="442" y="1868"/>
                      </a:lnTo>
                      <a:lnTo>
                        <a:pt x="469" y="1834"/>
                      </a:lnTo>
                      <a:lnTo>
                        <a:pt x="493" y="1799"/>
                      </a:lnTo>
                      <a:lnTo>
                        <a:pt x="514" y="1769"/>
                      </a:lnTo>
                      <a:lnTo>
                        <a:pt x="527" y="1748"/>
                      </a:lnTo>
                      <a:lnTo>
                        <a:pt x="534" y="1741"/>
                      </a:lnTo>
                      <a:lnTo>
                        <a:pt x="531" y="1823"/>
                      </a:lnTo>
                      <a:lnTo>
                        <a:pt x="520" y="1899"/>
                      </a:lnTo>
                      <a:lnTo>
                        <a:pt x="510" y="1957"/>
                      </a:lnTo>
                      <a:lnTo>
                        <a:pt x="507" y="1981"/>
                      </a:lnTo>
                      <a:lnTo>
                        <a:pt x="524" y="1957"/>
                      </a:lnTo>
                      <a:lnTo>
                        <a:pt x="541" y="1929"/>
                      </a:lnTo>
                      <a:lnTo>
                        <a:pt x="558" y="1899"/>
                      </a:lnTo>
                      <a:lnTo>
                        <a:pt x="579" y="1868"/>
                      </a:lnTo>
                      <a:lnTo>
                        <a:pt x="592" y="1840"/>
                      </a:lnTo>
                      <a:lnTo>
                        <a:pt x="606" y="1817"/>
                      </a:lnTo>
                      <a:lnTo>
                        <a:pt x="613" y="1803"/>
                      </a:lnTo>
                      <a:lnTo>
                        <a:pt x="616" y="1796"/>
                      </a:lnTo>
                      <a:lnTo>
                        <a:pt x="623" y="1916"/>
                      </a:lnTo>
                      <a:lnTo>
                        <a:pt x="627" y="2022"/>
                      </a:lnTo>
                      <a:lnTo>
                        <a:pt x="630" y="2111"/>
                      </a:lnTo>
                      <a:lnTo>
                        <a:pt x="623" y="2179"/>
                      </a:lnTo>
                      <a:lnTo>
                        <a:pt x="637" y="2162"/>
                      </a:lnTo>
                      <a:lnTo>
                        <a:pt x="657" y="2135"/>
                      </a:lnTo>
                      <a:lnTo>
                        <a:pt x="681" y="2107"/>
                      </a:lnTo>
                      <a:lnTo>
                        <a:pt x="705" y="2076"/>
                      </a:lnTo>
                      <a:lnTo>
                        <a:pt x="733" y="2046"/>
                      </a:lnTo>
                      <a:lnTo>
                        <a:pt x="753" y="2011"/>
                      </a:lnTo>
                      <a:lnTo>
                        <a:pt x="774" y="1984"/>
                      </a:lnTo>
                      <a:lnTo>
                        <a:pt x="784" y="1957"/>
                      </a:lnTo>
                      <a:lnTo>
                        <a:pt x="794" y="1998"/>
                      </a:lnTo>
                      <a:lnTo>
                        <a:pt x="815" y="2056"/>
                      </a:lnTo>
                      <a:lnTo>
                        <a:pt x="849" y="2121"/>
                      </a:lnTo>
                      <a:lnTo>
                        <a:pt x="893" y="2193"/>
                      </a:lnTo>
                      <a:lnTo>
                        <a:pt x="945" y="2265"/>
                      </a:lnTo>
                      <a:lnTo>
                        <a:pt x="999" y="2333"/>
                      </a:lnTo>
                      <a:lnTo>
                        <a:pt x="1061" y="2388"/>
                      </a:lnTo>
                      <a:lnTo>
                        <a:pt x="1123" y="2429"/>
                      </a:lnTo>
                      <a:close/>
                    </a:path>
                  </a:pathLst>
                </a:custGeom>
                <a:solidFill>
                  <a:srgbClr val="00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3314880" y="4279320"/>
                  <a:ext cx="867240" cy="524880"/>
                </a:xfrm>
                <a:custGeom>
                  <a:avLst/>
                  <a:gdLst/>
                  <a:ahLst/>
                  <a:rect l="l" t="t" r="r" b="b"/>
                  <a:pathLst>
                    <a:path w="4567" h="2600">
                      <a:moveTo>
                        <a:pt x="2603" y="1204"/>
                      </a:moveTo>
                      <a:lnTo>
                        <a:pt x="2593" y="1139"/>
                      </a:lnTo>
                      <a:lnTo>
                        <a:pt x="2573" y="1074"/>
                      </a:lnTo>
                      <a:lnTo>
                        <a:pt x="2552" y="1013"/>
                      </a:lnTo>
                      <a:lnTo>
                        <a:pt x="2538" y="954"/>
                      </a:lnTo>
                      <a:lnTo>
                        <a:pt x="2535" y="896"/>
                      </a:lnTo>
                      <a:lnTo>
                        <a:pt x="2549" y="835"/>
                      </a:lnTo>
                      <a:lnTo>
                        <a:pt x="2590" y="773"/>
                      </a:lnTo>
                      <a:lnTo>
                        <a:pt x="2665" y="712"/>
                      </a:lnTo>
                      <a:lnTo>
                        <a:pt x="2744" y="660"/>
                      </a:lnTo>
                      <a:lnTo>
                        <a:pt x="2805" y="623"/>
                      </a:lnTo>
                      <a:lnTo>
                        <a:pt x="2857" y="602"/>
                      </a:lnTo>
                      <a:lnTo>
                        <a:pt x="2901" y="592"/>
                      </a:lnTo>
                      <a:lnTo>
                        <a:pt x="2946" y="585"/>
                      </a:lnTo>
                      <a:lnTo>
                        <a:pt x="3000" y="578"/>
                      </a:lnTo>
                      <a:lnTo>
                        <a:pt x="3065" y="571"/>
                      </a:lnTo>
                      <a:lnTo>
                        <a:pt x="3154" y="554"/>
                      </a:lnTo>
                      <a:lnTo>
                        <a:pt x="3240" y="537"/>
                      </a:lnTo>
                      <a:lnTo>
                        <a:pt x="3305" y="527"/>
                      </a:lnTo>
                      <a:lnTo>
                        <a:pt x="3353" y="520"/>
                      </a:lnTo>
                      <a:lnTo>
                        <a:pt x="3394" y="513"/>
                      </a:lnTo>
                      <a:lnTo>
                        <a:pt x="3431" y="513"/>
                      </a:lnTo>
                      <a:lnTo>
                        <a:pt x="3476" y="513"/>
                      </a:lnTo>
                      <a:lnTo>
                        <a:pt x="3531" y="513"/>
                      </a:lnTo>
                      <a:lnTo>
                        <a:pt x="3602" y="513"/>
                      </a:lnTo>
                      <a:lnTo>
                        <a:pt x="3644" y="513"/>
                      </a:lnTo>
                      <a:lnTo>
                        <a:pt x="3681" y="520"/>
                      </a:lnTo>
                      <a:lnTo>
                        <a:pt x="3715" y="527"/>
                      </a:lnTo>
                      <a:lnTo>
                        <a:pt x="3750" y="534"/>
                      </a:lnTo>
                      <a:lnTo>
                        <a:pt x="3784" y="544"/>
                      </a:lnTo>
                      <a:lnTo>
                        <a:pt x="3815" y="554"/>
                      </a:lnTo>
                      <a:lnTo>
                        <a:pt x="3842" y="565"/>
                      </a:lnTo>
                      <a:lnTo>
                        <a:pt x="3873" y="575"/>
                      </a:lnTo>
                      <a:lnTo>
                        <a:pt x="3904" y="582"/>
                      </a:lnTo>
                      <a:lnTo>
                        <a:pt x="3934" y="592"/>
                      </a:lnTo>
                      <a:lnTo>
                        <a:pt x="3969" y="599"/>
                      </a:lnTo>
                      <a:lnTo>
                        <a:pt x="3999" y="602"/>
                      </a:lnTo>
                      <a:lnTo>
                        <a:pt x="4037" y="602"/>
                      </a:lnTo>
                      <a:lnTo>
                        <a:pt x="4075" y="602"/>
                      </a:lnTo>
                      <a:lnTo>
                        <a:pt x="4116" y="595"/>
                      </a:lnTo>
                      <a:lnTo>
                        <a:pt x="4160" y="585"/>
                      </a:lnTo>
                      <a:lnTo>
                        <a:pt x="4249" y="568"/>
                      </a:lnTo>
                      <a:lnTo>
                        <a:pt x="4331" y="561"/>
                      </a:lnTo>
                      <a:lnTo>
                        <a:pt x="4403" y="561"/>
                      </a:lnTo>
                      <a:lnTo>
                        <a:pt x="4465" y="561"/>
                      </a:lnTo>
                      <a:lnTo>
                        <a:pt x="4513" y="554"/>
                      </a:lnTo>
                      <a:lnTo>
                        <a:pt x="4547" y="541"/>
                      </a:lnTo>
                      <a:lnTo>
                        <a:pt x="4567" y="513"/>
                      </a:lnTo>
                      <a:lnTo>
                        <a:pt x="4567" y="469"/>
                      </a:lnTo>
                      <a:lnTo>
                        <a:pt x="4561" y="414"/>
                      </a:lnTo>
                      <a:lnTo>
                        <a:pt x="4550" y="359"/>
                      </a:lnTo>
                      <a:lnTo>
                        <a:pt x="4540" y="311"/>
                      </a:lnTo>
                      <a:lnTo>
                        <a:pt x="4530" y="264"/>
                      </a:lnTo>
                      <a:lnTo>
                        <a:pt x="4513" y="226"/>
                      </a:lnTo>
                      <a:lnTo>
                        <a:pt x="4495" y="192"/>
                      </a:lnTo>
                      <a:lnTo>
                        <a:pt x="4468" y="164"/>
                      </a:lnTo>
                      <a:lnTo>
                        <a:pt x="4437" y="147"/>
                      </a:lnTo>
                      <a:lnTo>
                        <a:pt x="4396" y="134"/>
                      </a:lnTo>
                      <a:lnTo>
                        <a:pt x="4352" y="116"/>
                      </a:lnTo>
                      <a:lnTo>
                        <a:pt x="4300" y="99"/>
                      </a:lnTo>
                      <a:lnTo>
                        <a:pt x="4249" y="82"/>
                      </a:lnTo>
                      <a:lnTo>
                        <a:pt x="4198" y="65"/>
                      </a:lnTo>
                      <a:lnTo>
                        <a:pt x="4150" y="55"/>
                      </a:lnTo>
                      <a:lnTo>
                        <a:pt x="4109" y="45"/>
                      </a:lnTo>
                      <a:lnTo>
                        <a:pt x="4075" y="41"/>
                      </a:lnTo>
                      <a:lnTo>
                        <a:pt x="4034" y="41"/>
                      </a:lnTo>
                      <a:lnTo>
                        <a:pt x="3979" y="38"/>
                      </a:lnTo>
                      <a:lnTo>
                        <a:pt x="3910" y="31"/>
                      </a:lnTo>
                      <a:lnTo>
                        <a:pt x="3839" y="24"/>
                      </a:lnTo>
                      <a:lnTo>
                        <a:pt x="3770" y="21"/>
                      </a:lnTo>
                      <a:lnTo>
                        <a:pt x="3712" y="14"/>
                      </a:lnTo>
                      <a:lnTo>
                        <a:pt x="3671" y="10"/>
                      </a:lnTo>
                      <a:lnTo>
                        <a:pt x="3657" y="10"/>
                      </a:lnTo>
                      <a:lnTo>
                        <a:pt x="3561" y="0"/>
                      </a:lnTo>
                      <a:lnTo>
                        <a:pt x="3561" y="4"/>
                      </a:lnTo>
                      <a:lnTo>
                        <a:pt x="3568" y="17"/>
                      </a:lnTo>
                      <a:lnTo>
                        <a:pt x="3575" y="34"/>
                      </a:lnTo>
                      <a:lnTo>
                        <a:pt x="3589" y="55"/>
                      </a:lnTo>
                      <a:lnTo>
                        <a:pt x="3602" y="79"/>
                      </a:lnTo>
                      <a:lnTo>
                        <a:pt x="3623" y="99"/>
                      </a:lnTo>
                      <a:lnTo>
                        <a:pt x="3647" y="116"/>
                      </a:lnTo>
                      <a:lnTo>
                        <a:pt x="3678" y="127"/>
                      </a:lnTo>
                      <a:lnTo>
                        <a:pt x="3712" y="134"/>
                      </a:lnTo>
                      <a:lnTo>
                        <a:pt x="3746" y="137"/>
                      </a:lnTo>
                      <a:lnTo>
                        <a:pt x="3787" y="144"/>
                      </a:lnTo>
                      <a:lnTo>
                        <a:pt x="3828" y="147"/>
                      </a:lnTo>
                      <a:lnTo>
                        <a:pt x="3869" y="158"/>
                      </a:lnTo>
                      <a:lnTo>
                        <a:pt x="3910" y="171"/>
                      </a:lnTo>
                      <a:lnTo>
                        <a:pt x="3955" y="188"/>
                      </a:lnTo>
                      <a:lnTo>
                        <a:pt x="3999" y="212"/>
                      </a:lnTo>
                      <a:lnTo>
                        <a:pt x="4040" y="243"/>
                      </a:lnTo>
                      <a:lnTo>
                        <a:pt x="4075" y="277"/>
                      </a:lnTo>
                      <a:lnTo>
                        <a:pt x="4099" y="315"/>
                      </a:lnTo>
                      <a:lnTo>
                        <a:pt x="4112" y="349"/>
                      </a:lnTo>
                      <a:lnTo>
                        <a:pt x="4112" y="376"/>
                      </a:lnTo>
                      <a:lnTo>
                        <a:pt x="4095" y="394"/>
                      </a:lnTo>
                      <a:lnTo>
                        <a:pt x="4064" y="400"/>
                      </a:lnTo>
                      <a:lnTo>
                        <a:pt x="4010" y="394"/>
                      </a:lnTo>
                      <a:lnTo>
                        <a:pt x="3945" y="376"/>
                      </a:lnTo>
                      <a:lnTo>
                        <a:pt x="3883" y="363"/>
                      </a:lnTo>
                      <a:lnTo>
                        <a:pt x="3821" y="346"/>
                      </a:lnTo>
                      <a:lnTo>
                        <a:pt x="3763" y="329"/>
                      </a:lnTo>
                      <a:lnTo>
                        <a:pt x="3705" y="318"/>
                      </a:lnTo>
                      <a:lnTo>
                        <a:pt x="3647" y="308"/>
                      </a:lnTo>
                      <a:lnTo>
                        <a:pt x="3592" y="301"/>
                      </a:lnTo>
                      <a:lnTo>
                        <a:pt x="3541" y="298"/>
                      </a:lnTo>
                      <a:lnTo>
                        <a:pt x="3514" y="298"/>
                      </a:lnTo>
                      <a:lnTo>
                        <a:pt x="3483" y="298"/>
                      </a:lnTo>
                      <a:lnTo>
                        <a:pt x="3449" y="298"/>
                      </a:lnTo>
                      <a:lnTo>
                        <a:pt x="3414" y="301"/>
                      </a:lnTo>
                      <a:lnTo>
                        <a:pt x="3377" y="301"/>
                      </a:lnTo>
                      <a:lnTo>
                        <a:pt x="3339" y="301"/>
                      </a:lnTo>
                      <a:lnTo>
                        <a:pt x="3298" y="305"/>
                      </a:lnTo>
                      <a:lnTo>
                        <a:pt x="3260" y="305"/>
                      </a:lnTo>
                      <a:lnTo>
                        <a:pt x="3219" y="308"/>
                      </a:lnTo>
                      <a:lnTo>
                        <a:pt x="3182" y="311"/>
                      </a:lnTo>
                      <a:lnTo>
                        <a:pt x="3144" y="311"/>
                      </a:lnTo>
                      <a:lnTo>
                        <a:pt x="3110" y="315"/>
                      </a:lnTo>
                      <a:lnTo>
                        <a:pt x="3076" y="318"/>
                      </a:lnTo>
                      <a:lnTo>
                        <a:pt x="3045" y="322"/>
                      </a:lnTo>
                      <a:lnTo>
                        <a:pt x="3017" y="325"/>
                      </a:lnTo>
                      <a:lnTo>
                        <a:pt x="2993" y="329"/>
                      </a:lnTo>
                      <a:lnTo>
                        <a:pt x="2970" y="335"/>
                      </a:lnTo>
                      <a:lnTo>
                        <a:pt x="2939" y="342"/>
                      </a:lnTo>
                      <a:lnTo>
                        <a:pt x="2908" y="352"/>
                      </a:lnTo>
                      <a:lnTo>
                        <a:pt x="2870" y="366"/>
                      </a:lnTo>
                      <a:lnTo>
                        <a:pt x="2829" y="376"/>
                      </a:lnTo>
                      <a:lnTo>
                        <a:pt x="2788" y="394"/>
                      </a:lnTo>
                      <a:lnTo>
                        <a:pt x="2747" y="407"/>
                      </a:lnTo>
                      <a:lnTo>
                        <a:pt x="2703" y="424"/>
                      </a:lnTo>
                      <a:lnTo>
                        <a:pt x="2658" y="441"/>
                      </a:lnTo>
                      <a:lnTo>
                        <a:pt x="2617" y="458"/>
                      </a:lnTo>
                      <a:lnTo>
                        <a:pt x="2573" y="476"/>
                      </a:lnTo>
                      <a:lnTo>
                        <a:pt x="2535" y="489"/>
                      </a:lnTo>
                      <a:lnTo>
                        <a:pt x="2497" y="506"/>
                      </a:lnTo>
                      <a:lnTo>
                        <a:pt x="2463" y="520"/>
                      </a:lnTo>
                      <a:lnTo>
                        <a:pt x="2432" y="534"/>
                      </a:lnTo>
                      <a:lnTo>
                        <a:pt x="2408" y="544"/>
                      </a:lnTo>
                      <a:lnTo>
                        <a:pt x="2360" y="568"/>
                      </a:lnTo>
                      <a:lnTo>
                        <a:pt x="2309" y="602"/>
                      </a:lnTo>
                      <a:lnTo>
                        <a:pt x="2258" y="643"/>
                      </a:lnTo>
                      <a:lnTo>
                        <a:pt x="2210" y="688"/>
                      </a:lnTo>
                      <a:lnTo>
                        <a:pt x="2169" y="736"/>
                      </a:lnTo>
                      <a:lnTo>
                        <a:pt x="2138" y="783"/>
                      </a:lnTo>
                      <a:lnTo>
                        <a:pt x="2121" y="831"/>
                      </a:lnTo>
                      <a:lnTo>
                        <a:pt x="2121" y="872"/>
                      </a:lnTo>
                      <a:lnTo>
                        <a:pt x="2135" y="927"/>
                      </a:lnTo>
                      <a:lnTo>
                        <a:pt x="2155" y="1013"/>
                      </a:lnTo>
                      <a:lnTo>
                        <a:pt x="2179" y="1112"/>
                      </a:lnTo>
                      <a:lnTo>
                        <a:pt x="2203" y="1218"/>
                      </a:lnTo>
                      <a:lnTo>
                        <a:pt x="2230" y="1320"/>
                      </a:lnTo>
                      <a:lnTo>
                        <a:pt x="2254" y="1413"/>
                      </a:lnTo>
                      <a:lnTo>
                        <a:pt x="2278" y="1485"/>
                      </a:lnTo>
                      <a:lnTo>
                        <a:pt x="2302" y="1522"/>
                      </a:lnTo>
                      <a:lnTo>
                        <a:pt x="2306" y="1550"/>
                      </a:lnTo>
                      <a:lnTo>
                        <a:pt x="2282" y="1591"/>
                      </a:lnTo>
                      <a:lnTo>
                        <a:pt x="2234" y="1638"/>
                      </a:lnTo>
                      <a:lnTo>
                        <a:pt x="2179" y="1686"/>
                      </a:lnTo>
                      <a:lnTo>
                        <a:pt x="2114" y="1738"/>
                      </a:lnTo>
                      <a:lnTo>
                        <a:pt x="2056" y="1779"/>
                      </a:lnTo>
                      <a:lnTo>
                        <a:pt x="2008" y="1809"/>
                      </a:lnTo>
                      <a:lnTo>
                        <a:pt x="1981" y="1823"/>
                      </a:lnTo>
                      <a:lnTo>
                        <a:pt x="1905" y="1844"/>
                      </a:lnTo>
                      <a:lnTo>
                        <a:pt x="1827" y="1854"/>
                      </a:lnTo>
                      <a:lnTo>
                        <a:pt x="1748" y="1857"/>
                      </a:lnTo>
                      <a:lnTo>
                        <a:pt x="1673" y="1854"/>
                      </a:lnTo>
                      <a:lnTo>
                        <a:pt x="1597" y="1840"/>
                      </a:lnTo>
                      <a:lnTo>
                        <a:pt x="1522" y="1823"/>
                      </a:lnTo>
                      <a:lnTo>
                        <a:pt x="1454" y="1803"/>
                      </a:lnTo>
                      <a:lnTo>
                        <a:pt x="1385" y="1779"/>
                      </a:lnTo>
                      <a:lnTo>
                        <a:pt x="1324" y="1755"/>
                      </a:lnTo>
                      <a:lnTo>
                        <a:pt x="1269" y="1731"/>
                      </a:lnTo>
                      <a:lnTo>
                        <a:pt x="1218" y="1703"/>
                      </a:lnTo>
                      <a:lnTo>
                        <a:pt x="1177" y="1683"/>
                      </a:lnTo>
                      <a:lnTo>
                        <a:pt x="1142" y="1662"/>
                      </a:lnTo>
                      <a:lnTo>
                        <a:pt x="1115" y="1645"/>
                      </a:lnTo>
                      <a:lnTo>
                        <a:pt x="1101" y="1635"/>
                      </a:lnTo>
                      <a:lnTo>
                        <a:pt x="1095" y="1632"/>
                      </a:lnTo>
                      <a:lnTo>
                        <a:pt x="3" y="1898"/>
                      </a:lnTo>
                      <a:lnTo>
                        <a:pt x="3" y="1909"/>
                      </a:lnTo>
                      <a:lnTo>
                        <a:pt x="0" y="1933"/>
                      </a:lnTo>
                      <a:lnTo>
                        <a:pt x="0" y="1970"/>
                      </a:lnTo>
                      <a:lnTo>
                        <a:pt x="0" y="2018"/>
                      </a:lnTo>
                      <a:lnTo>
                        <a:pt x="7" y="2073"/>
                      </a:lnTo>
                      <a:lnTo>
                        <a:pt x="20" y="2128"/>
                      </a:lnTo>
                      <a:lnTo>
                        <a:pt x="44" y="2182"/>
                      </a:lnTo>
                      <a:lnTo>
                        <a:pt x="78" y="2230"/>
                      </a:lnTo>
                      <a:lnTo>
                        <a:pt x="102" y="2254"/>
                      </a:lnTo>
                      <a:lnTo>
                        <a:pt x="137" y="2278"/>
                      </a:lnTo>
                      <a:lnTo>
                        <a:pt x="178" y="2305"/>
                      </a:lnTo>
                      <a:lnTo>
                        <a:pt x="222" y="2333"/>
                      </a:lnTo>
                      <a:lnTo>
                        <a:pt x="277" y="2360"/>
                      </a:lnTo>
                      <a:lnTo>
                        <a:pt x="335" y="2387"/>
                      </a:lnTo>
                      <a:lnTo>
                        <a:pt x="393" y="2415"/>
                      </a:lnTo>
                      <a:lnTo>
                        <a:pt x="458" y="2442"/>
                      </a:lnTo>
                      <a:lnTo>
                        <a:pt x="523" y="2470"/>
                      </a:lnTo>
                      <a:lnTo>
                        <a:pt x="588" y="2494"/>
                      </a:lnTo>
                      <a:lnTo>
                        <a:pt x="653" y="2517"/>
                      </a:lnTo>
                      <a:lnTo>
                        <a:pt x="715" y="2538"/>
                      </a:lnTo>
                      <a:lnTo>
                        <a:pt x="776" y="2559"/>
                      </a:lnTo>
                      <a:lnTo>
                        <a:pt x="835" y="2572"/>
                      </a:lnTo>
                      <a:lnTo>
                        <a:pt x="886" y="2586"/>
                      </a:lnTo>
                      <a:lnTo>
                        <a:pt x="934" y="2593"/>
                      </a:lnTo>
                      <a:lnTo>
                        <a:pt x="982" y="2596"/>
                      </a:lnTo>
                      <a:lnTo>
                        <a:pt x="1040" y="2600"/>
                      </a:lnTo>
                      <a:lnTo>
                        <a:pt x="1105" y="2600"/>
                      </a:lnTo>
                      <a:lnTo>
                        <a:pt x="1173" y="2596"/>
                      </a:lnTo>
                      <a:lnTo>
                        <a:pt x="1249" y="2593"/>
                      </a:lnTo>
                      <a:lnTo>
                        <a:pt x="1327" y="2586"/>
                      </a:lnTo>
                      <a:lnTo>
                        <a:pt x="1409" y="2576"/>
                      </a:lnTo>
                      <a:lnTo>
                        <a:pt x="1495" y="2569"/>
                      </a:lnTo>
                      <a:lnTo>
                        <a:pt x="1577" y="2555"/>
                      </a:lnTo>
                      <a:lnTo>
                        <a:pt x="1659" y="2545"/>
                      </a:lnTo>
                      <a:lnTo>
                        <a:pt x="1741" y="2531"/>
                      </a:lnTo>
                      <a:lnTo>
                        <a:pt x="1820" y="2517"/>
                      </a:lnTo>
                      <a:lnTo>
                        <a:pt x="1892" y="2504"/>
                      </a:lnTo>
                      <a:lnTo>
                        <a:pt x="1960" y="2490"/>
                      </a:lnTo>
                      <a:lnTo>
                        <a:pt x="2022" y="2476"/>
                      </a:lnTo>
                      <a:lnTo>
                        <a:pt x="2077" y="2463"/>
                      </a:lnTo>
                      <a:lnTo>
                        <a:pt x="2128" y="2446"/>
                      </a:lnTo>
                      <a:lnTo>
                        <a:pt x="2186" y="2429"/>
                      </a:lnTo>
                      <a:lnTo>
                        <a:pt x="2244" y="2405"/>
                      </a:lnTo>
                      <a:lnTo>
                        <a:pt x="2306" y="2374"/>
                      </a:lnTo>
                      <a:lnTo>
                        <a:pt x="2367" y="2346"/>
                      </a:lnTo>
                      <a:lnTo>
                        <a:pt x="2432" y="2312"/>
                      </a:lnTo>
                      <a:lnTo>
                        <a:pt x="2494" y="2275"/>
                      </a:lnTo>
                      <a:lnTo>
                        <a:pt x="2556" y="2237"/>
                      </a:lnTo>
                      <a:lnTo>
                        <a:pt x="2610" y="2196"/>
                      </a:lnTo>
                      <a:lnTo>
                        <a:pt x="2665" y="2155"/>
                      </a:lnTo>
                      <a:lnTo>
                        <a:pt x="2716" y="2114"/>
                      </a:lnTo>
                      <a:lnTo>
                        <a:pt x="2764" y="2069"/>
                      </a:lnTo>
                      <a:lnTo>
                        <a:pt x="2802" y="2028"/>
                      </a:lnTo>
                      <a:lnTo>
                        <a:pt x="2836" y="1984"/>
                      </a:lnTo>
                      <a:lnTo>
                        <a:pt x="2860" y="1939"/>
                      </a:lnTo>
                      <a:lnTo>
                        <a:pt x="2877" y="1898"/>
                      </a:lnTo>
                      <a:lnTo>
                        <a:pt x="2881" y="1871"/>
                      </a:lnTo>
                      <a:lnTo>
                        <a:pt x="2884" y="1799"/>
                      </a:lnTo>
                      <a:lnTo>
                        <a:pt x="2877" y="1690"/>
                      </a:lnTo>
                      <a:lnTo>
                        <a:pt x="2843" y="1556"/>
                      </a:lnTo>
                      <a:lnTo>
                        <a:pt x="2816" y="1485"/>
                      </a:lnTo>
                      <a:lnTo>
                        <a:pt x="2781" y="1420"/>
                      </a:lnTo>
                      <a:lnTo>
                        <a:pt x="2740" y="1361"/>
                      </a:lnTo>
                      <a:lnTo>
                        <a:pt x="2703" y="1307"/>
                      </a:lnTo>
                      <a:lnTo>
                        <a:pt x="2665" y="1266"/>
                      </a:lnTo>
                      <a:lnTo>
                        <a:pt x="2634" y="1231"/>
                      </a:lnTo>
                      <a:lnTo>
                        <a:pt x="2610" y="1211"/>
                      </a:lnTo>
                      <a:lnTo>
                        <a:pt x="2603" y="1204"/>
                      </a:lnTo>
                      <a:close/>
                    </a:path>
                  </a:pathLst>
                </a:custGeom>
                <a:solidFill>
                  <a:srgbClr val="a8ea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364200" y="4195080"/>
                  <a:ext cx="194040" cy="210600"/>
                </a:xfrm>
                <a:custGeom>
                  <a:avLst/>
                  <a:gdLst/>
                  <a:ahLst/>
                  <a:rect l="l" t="t" r="r" b="b"/>
                  <a:pathLst>
                    <a:path w="708" h="1043">
                      <a:moveTo>
                        <a:pt x="674" y="1043"/>
                      </a:moveTo>
                      <a:lnTo>
                        <a:pt x="650" y="1029"/>
                      </a:lnTo>
                      <a:lnTo>
                        <a:pt x="616" y="1019"/>
                      </a:lnTo>
                      <a:lnTo>
                        <a:pt x="578" y="1012"/>
                      </a:lnTo>
                      <a:lnTo>
                        <a:pt x="537" y="1002"/>
                      </a:lnTo>
                      <a:lnTo>
                        <a:pt x="500" y="999"/>
                      </a:lnTo>
                      <a:lnTo>
                        <a:pt x="462" y="999"/>
                      </a:lnTo>
                      <a:lnTo>
                        <a:pt x="431" y="999"/>
                      </a:lnTo>
                      <a:lnTo>
                        <a:pt x="411" y="1005"/>
                      </a:lnTo>
                      <a:lnTo>
                        <a:pt x="383" y="1016"/>
                      </a:lnTo>
                      <a:lnTo>
                        <a:pt x="349" y="1023"/>
                      </a:lnTo>
                      <a:lnTo>
                        <a:pt x="311" y="1026"/>
                      </a:lnTo>
                      <a:lnTo>
                        <a:pt x="274" y="1029"/>
                      </a:lnTo>
                      <a:lnTo>
                        <a:pt x="240" y="1026"/>
                      </a:lnTo>
                      <a:lnTo>
                        <a:pt x="205" y="1026"/>
                      </a:lnTo>
                      <a:lnTo>
                        <a:pt x="181" y="1019"/>
                      </a:lnTo>
                      <a:lnTo>
                        <a:pt x="164" y="1016"/>
                      </a:lnTo>
                      <a:lnTo>
                        <a:pt x="151" y="1012"/>
                      </a:lnTo>
                      <a:lnTo>
                        <a:pt x="133" y="1005"/>
                      </a:lnTo>
                      <a:lnTo>
                        <a:pt x="116" y="1002"/>
                      </a:lnTo>
                      <a:lnTo>
                        <a:pt x="92" y="995"/>
                      </a:lnTo>
                      <a:lnTo>
                        <a:pt x="72" y="992"/>
                      </a:lnTo>
                      <a:lnTo>
                        <a:pt x="48" y="985"/>
                      </a:lnTo>
                      <a:lnTo>
                        <a:pt x="24" y="981"/>
                      </a:lnTo>
                      <a:lnTo>
                        <a:pt x="0" y="975"/>
                      </a:lnTo>
                      <a:lnTo>
                        <a:pt x="31" y="954"/>
                      </a:lnTo>
                      <a:lnTo>
                        <a:pt x="58" y="927"/>
                      </a:lnTo>
                      <a:lnTo>
                        <a:pt x="82" y="896"/>
                      </a:lnTo>
                      <a:lnTo>
                        <a:pt x="96" y="872"/>
                      </a:lnTo>
                      <a:lnTo>
                        <a:pt x="86" y="872"/>
                      </a:lnTo>
                      <a:lnTo>
                        <a:pt x="62" y="875"/>
                      </a:lnTo>
                      <a:lnTo>
                        <a:pt x="34" y="875"/>
                      </a:lnTo>
                      <a:lnTo>
                        <a:pt x="17" y="872"/>
                      </a:lnTo>
                      <a:lnTo>
                        <a:pt x="45" y="851"/>
                      </a:lnTo>
                      <a:lnTo>
                        <a:pt x="68" y="828"/>
                      </a:lnTo>
                      <a:lnTo>
                        <a:pt x="92" y="797"/>
                      </a:lnTo>
                      <a:lnTo>
                        <a:pt x="113" y="766"/>
                      </a:lnTo>
                      <a:lnTo>
                        <a:pt x="130" y="735"/>
                      </a:lnTo>
                      <a:lnTo>
                        <a:pt x="144" y="708"/>
                      </a:lnTo>
                      <a:lnTo>
                        <a:pt x="154" y="687"/>
                      </a:lnTo>
                      <a:lnTo>
                        <a:pt x="164" y="670"/>
                      </a:lnTo>
                      <a:lnTo>
                        <a:pt x="147" y="680"/>
                      </a:lnTo>
                      <a:lnTo>
                        <a:pt x="127" y="684"/>
                      </a:lnTo>
                      <a:lnTo>
                        <a:pt x="103" y="684"/>
                      </a:lnTo>
                      <a:lnTo>
                        <a:pt x="86" y="677"/>
                      </a:lnTo>
                      <a:lnTo>
                        <a:pt x="113" y="650"/>
                      </a:lnTo>
                      <a:lnTo>
                        <a:pt x="140" y="615"/>
                      </a:lnTo>
                      <a:lnTo>
                        <a:pt x="164" y="581"/>
                      </a:lnTo>
                      <a:lnTo>
                        <a:pt x="178" y="554"/>
                      </a:lnTo>
                      <a:lnTo>
                        <a:pt x="171" y="554"/>
                      </a:lnTo>
                      <a:lnTo>
                        <a:pt x="154" y="557"/>
                      </a:lnTo>
                      <a:lnTo>
                        <a:pt x="133" y="557"/>
                      </a:lnTo>
                      <a:lnTo>
                        <a:pt x="120" y="554"/>
                      </a:lnTo>
                      <a:lnTo>
                        <a:pt x="137" y="540"/>
                      </a:lnTo>
                      <a:lnTo>
                        <a:pt x="157" y="516"/>
                      </a:lnTo>
                      <a:lnTo>
                        <a:pt x="181" y="489"/>
                      </a:lnTo>
                      <a:lnTo>
                        <a:pt x="209" y="462"/>
                      </a:lnTo>
                      <a:lnTo>
                        <a:pt x="233" y="431"/>
                      </a:lnTo>
                      <a:lnTo>
                        <a:pt x="257" y="400"/>
                      </a:lnTo>
                      <a:lnTo>
                        <a:pt x="274" y="369"/>
                      </a:lnTo>
                      <a:lnTo>
                        <a:pt x="287" y="345"/>
                      </a:lnTo>
                      <a:lnTo>
                        <a:pt x="284" y="345"/>
                      </a:lnTo>
                      <a:lnTo>
                        <a:pt x="270" y="349"/>
                      </a:lnTo>
                      <a:lnTo>
                        <a:pt x="257" y="352"/>
                      </a:lnTo>
                      <a:lnTo>
                        <a:pt x="240" y="349"/>
                      </a:lnTo>
                      <a:lnTo>
                        <a:pt x="263" y="328"/>
                      </a:lnTo>
                      <a:lnTo>
                        <a:pt x="287" y="304"/>
                      </a:lnTo>
                      <a:lnTo>
                        <a:pt x="311" y="280"/>
                      </a:lnTo>
                      <a:lnTo>
                        <a:pt x="332" y="253"/>
                      </a:lnTo>
                      <a:lnTo>
                        <a:pt x="352" y="226"/>
                      </a:lnTo>
                      <a:lnTo>
                        <a:pt x="370" y="202"/>
                      </a:lnTo>
                      <a:lnTo>
                        <a:pt x="380" y="185"/>
                      </a:lnTo>
                      <a:lnTo>
                        <a:pt x="387" y="171"/>
                      </a:lnTo>
                      <a:lnTo>
                        <a:pt x="383" y="171"/>
                      </a:lnTo>
                      <a:lnTo>
                        <a:pt x="373" y="174"/>
                      </a:lnTo>
                      <a:lnTo>
                        <a:pt x="359" y="178"/>
                      </a:lnTo>
                      <a:lnTo>
                        <a:pt x="346" y="174"/>
                      </a:lnTo>
                      <a:lnTo>
                        <a:pt x="366" y="150"/>
                      </a:lnTo>
                      <a:lnTo>
                        <a:pt x="387" y="126"/>
                      </a:lnTo>
                      <a:lnTo>
                        <a:pt x="407" y="99"/>
                      </a:lnTo>
                      <a:lnTo>
                        <a:pt x="424" y="72"/>
                      </a:lnTo>
                      <a:lnTo>
                        <a:pt x="438" y="48"/>
                      </a:lnTo>
                      <a:lnTo>
                        <a:pt x="448" y="27"/>
                      </a:lnTo>
                      <a:lnTo>
                        <a:pt x="459" y="10"/>
                      </a:lnTo>
                      <a:lnTo>
                        <a:pt x="462" y="0"/>
                      </a:lnTo>
                      <a:lnTo>
                        <a:pt x="465" y="24"/>
                      </a:lnTo>
                      <a:lnTo>
                        <a:pt x="476" y="65"/>
                      </a:lnTo>
                      <a:lnTo>
                        <a:pt x="489" y="113"/>
                      </a:lnTo>
                      <a:lnTo>
                        <a:pt x="510" y="150"/>
                      </a:lnTo>
                      <a:lnTo>
                        <a:pt x="503" y="147"/>
                      </a:lnTo>
                      <a:lnTo>
                        <a:pt x="493" y="140"/>
                      </a:lnTo>
                      <a:lnTo>
                        <a:pt x="489" y="133"/>
                      </a:lnTo>
                      <a:lnTo>
                        <a:pt x="486" y="130"/>
                      </a:lnTo>
                      <a:lnTo>
                        <a:pt x="489" y="157"/>
                      </a:lnTo>
                      <a:lnTo>
                        <a:pt x="503" y="188"/>
                      </a:lnTo>
                      <a:lnTo>
                        <a:pt x="520" y="215"/>
                      </a:lnTo>
                      <a:lnTo>
                        <a:pt x="537" y="239"/>
                      </a:lnTo>
                      <a:lnTo>
                        <a:pt x="517" y="236"/>
                      </a:lnTo>
                      <a:lnTo>
                        <a:pt x="534" y="277"/>
                      </a:lnTo>
                      <a:lnTo>
                        <a:pt x="554" y="311"/>
                      </a:lnTo>
                      <a:lnTo>
                        <a:pt x="575" y="332"/>
                      </a:lnTo>
                      <a:lnTo>
                        <a:pt x="592" y="349"/>
                      </a:lnTo>
                      <a:lnTo>
                        <a:pt x="578" y="345"/>
                      </a:lnTo>
                      <a:lnTo>
                        <a:pt x="568" y="345"/>
                      </a:lnTo>
                      <a:lnTo>
                        <a:pt x="558" y="342"/>
                      </a:lnTo>
                      <a:lnTo>
                        <a:pt x="547" y="338"/>
                      </a:lnTo>
                      <a:lnTo>
                        <a:pt x="565" y="376"/>
                      </a:lnTo>
                      <a:lnTo>
                        <a:pt x="585" y="431"/>
                      </a:lnTo>
                      <a:lnTo>
                        <a:pt x="609" y="482"/>
                      </a:lnTo>
                      <a:lnTo>
                        <a:pt x="636" y="516"/>
                      </a:lnTo>
                      <a:lnTo>
                        <a:pt x="619" y="513"/>
                      </a:lnTo>
                      <a:lnTo>
                        <a:pt x="606" y="509"/>
                      </a:lnTo>
                      <a:lnTo>
                        <a:pt x="595" y="503"/>
                      </a:lnTo>
                      <a:lnTo>
                        <a:pt x="592" y="503"/>
                      </a:lnTo>
                      <a:lnTo>
                        <a:pt x="609" y="561"/>
                      </a:lnTo>
                      <a:lnTo>
                        <a:pt x="630" y="626"/>
                      </a:lnTo>
                      <a:lnTo>
                        <a:pt x="654" y="691"/>
                      </a:lnTo>
                      <a:lnTo>
                        <a:pt x="681" y="739"/>
                      </a:lnTo>
                      <a:lnTo>
                        <a:pt x="630" y="722"/>
                      </a:lnTo>
                      <a:lnTo>
                        <a:pt x="640" y="749"/>
                      </a:lnTo>
                      <a:lnTo>
                        <a:pt x="657" y="773"/>
                      </a:lnTo>
                      <a:lnTo>
                        <a:pt x="677" y="797"/>
                      </a:lnTo>
                      <a:lnTo>
                        <a:pt x="684" y="804"/>
                      </a:lnTo>
                      <a:lnTo>
                        <a:pt x="664" y="797"/>
                      </a:lnTo>
                      <a:lnTo>
                        <a:pt x="647" y="790"/>
                      </a:lnTo>
                      <a:lnTo>
                        <a:pt x="633" y="783"/>
                      </a:lnTo>
                      <a:lnTo>
                        <a:pt x="626" y="780"/>
                      </a:lnTo>
                      <a:lnTo>
                        <a:pt x="636" y="828"/>
                      </a:lnTo>
                      <a:lnTo>
                        <a:pt x="654" y="879"/>
                      </a:lnTo>
                      <a:lnTo>
                        <a:pt x="674" y="930"/>
                      </a:lnTo>
                      <a:lnTo>
                        <a:pt x="708" y="988"/>
                      </a:lnTo>
                      <a:lnTo>
                        <a:pt x="691" y="981"/>
                      </a:lnTo>
                      <a:lnTo>
                        <a:pt x="671" y="975"/>
                      </a:lnTo>
                      <a:lnTo>
                        <a:pt x="657" y="971"/>
                      </a:lnTo>
                      <a:lnTo>
                        <a:pt x="650" y="968"/>
                      </a:lnTo>
                      <a:lnTo>
                        <a:pt x="654" y="992"/>
                      </a:lnTo>
                      <a:lnTo>
                        <a:pt x="660" y="1009"/>
                      </a:lnTo>
                      <a:lnTo>
                        <a:pt x="667" y="1029"/>
                      </a:lnTo>
                      <a:lnTo>
                        <a:pt x="674" y="1043"/>
                      </a:lnTo>
                      <a:close/>
                    </a:path>
                  </a:pathLst>
                </a:custGeom>
                <a:solidFill>
                  <a:srgbClr val="7fe8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364200" y="4195080"/>
                  <a:ext cx="126360" cy="204840"/>
                </a:xfrm>
                <a:custGeom>
                  <a:avLst/>
                  <a:gdLst/>
                  <a:ahLst/>
                  <a:rect l="l" t="t" r="r" b="b"/>
                  <a:pathLst>
                    <a:path w="462" h="1016">
                      <a:moveTo>
                        <a:pt x="164" y="1016"/>
                      </a:moveTo>
                      <a:lnTo>
                        <a:pt x="151" y="1012"/>
                      </a:lnTo>
                      <a:lnTo>
                        <a:pt x="133" y="1005"/>
                      </a:lnTo>
                      <a:lnTo>
                        <a:pt x="116" y="1002"/>
                      </a:lnTo>
                      <a:lnTo>
                        <a:pt x="92" y="995"/>
                      </a:lnTo>
                      <a:lnTo>
                        <a:pt x="72" y="992"/>
                      </a:lnTo>
                      <a:lnTo>
                        <a:pt x="48" y="985"/>
                      </a:lnTo>
                      <a:lnTo>
                        <a:pt x="24" y="981"/>
                      </a:lnTo>
                      <a:lnTo>
                        <a:pt x="0" y="975"/>
                      </a:lnTo>
                      <a:lnTo>
                        <a:pt x="31" y="954"/>
                      </a:lnTo>
                      <a:lnTo>
                        <a:pt x="58" y="927"/>
                      </a:lnTo>
                      <a:lnTo>
                        <a:pt x="82" y="896"/>
                      </a:lnTo>
                      <a:lnTo>
                        <a:pt x="96" y="872"/>
                      </a:lnTo>
                      <a:lnTo>
                        <a:pt x="86" y="872"/>
                      </a:lnTo>
                      <a:lnTo>
                        <a:pt x="62" y="875"/>
                      </a:lnTo>
                      <a:lnTo>
                        <a:pt x="34" y="875"/>
                      </a:lnTo>
                      <a:lnTo>
                        <a:pt x="17" y="872"/>
                      </a:lnTo>
                      <a:lnTo>
                        <a:pt x="45" y="851"/>
                      </a:lnTo>
                      <a:lnTo>
                        <a:pt x="68" y="828"/>
                      </a:lnTo>
                      <a:lnTo>
                        <a:pt x="92" y="797"/>
                      </a:lnTo>
                      <a:lnTo>
                        <a:pt x="113" y="766"/>
                      </a:lnTo>
                      <a:lnTo>
                        <a:pt x="130" y="735"/>
                      </a:lnTo>
                      <a:lnTo>
                        <a:pt x="144" y="708"/>
                      </a:lnTo>
                      <a:lnTo>
                        <a:pt x="154" y="687"/>
                      </a:lnTo>
                      <a:lnTo>
                        <a:pt x="164" y="670"/>
                      </a:lnTo>
                      <a:lnTo>
                        <a:pt x="147" y="680"/>
                      </a:lnTo>
                      <a:lnTo>
                        <a:pt x="127" y="684"/>
                      </a:lnTo>
                      <a:lnTo>
                        <a:pt x="103" y="684"/>
                      </a:lnTo>
                      <a:lnTo>
                        <a:pt x="86" y="677"/>
                      </a:lnTo>
                      <a:lnTo>
                        <a:pt x="113" y="650"/>
                      </a:lnTo>
                      <a:lnTo>
                        <a:pt x="140" y="615"/>
                      </a:lnTo>
                      <a:lnTo>
                        <a:pt x="164" y="581"/>
                      </a:lnTo>
                      <a:lnTo>
                        <a:pt x="178" y="554"/>
                      </a:lnTo>
                      <a:lnTo>
                        <a:pt x="171" y="554"/>
                      </a:lnTo>
                      <a:lnTo>
                        <a:pt x="154" y="557"/>
                      </a:lnTo>
                      <a:lnTo>
                        <a:pt x="133" y="557"/>
                      </a:lnTo>
                      <a:lnTo>
                        <a:pt x="120" y="554"/>
                      </a:lnTo>
                      <a:lnTo>
                        <a:pt x="137" y="540"/>
                      </a:lnTo>
                      <a:lnTo>
                        <a:pt x="157" y="516"/>
                      </a:lnTo>
                      <a:lnTo>
                        <a:pt x="181" y="489"/>
                      </a:lnTo>
                      <a:lnTo>
                        <a:pt x="209" y="462"/>
                      </a:lnTo>
                      <a:lnTo>
                        <a:pt x="233" y="431"/>
                      </a:lnTo>
                      <a:lnTo>
                        <a:pt x="257" y="400"/>
                      </a:lnTo>
                      <a:lnTo>
                        <a:pt x="274" y="369"/>
                      </a:lnTo>
                      <a:lnTo>
                        <a:pt x="287" y="345"/>
                      </a:lnTo>
                      <a:lnTo>
                        <a:pt x="284" y="345"/>
                      </a:lnTo>
                      <a:lnTo>
                        <a:pt x="270" y="349"/>
                      </a:lnTo>
                      <a:lnTo>
                        <a:pt x="257" y="352"/>
                      </a:lnTo>
                      <a:lnTo>
                        <a:pt x="240" y="349"/>
                      </a:lnTo>
                      <a:lnTo>
                        <a:pt x="263" y="328"/>
                      </a:lnTo>
                      <a:lnTo>
                        <a:pt x="287" y="304"/>
                      </a:lnTo>
                      <a:lnTo>
                        <a:pt x="311" y="280"/>
                      </a:lnTo>
                      <a:lnTo>
                        <a:pt x="332" y="253"/>
                      </a:lnTo>
                      <a:lnTo>
                        <a:pt x="352" y="226"/>
                      </a:lnTo>
                      <a:lnTo>
                        <a:pt x="370" y="202"/>
                      </a:lnTo>
                      <a:lnTo>
                        <a:pt x="380" y="185"/>
                      </a:lnTo>
                      <a:lnTo>
                        <a:pt x="387" y="171"/>
                      </a:lnTo>
                      <a:lnTo>
                        <a:pt x="383" y="171"/>
                      </a:lnTo>
                      <a:lnTo>
                        <a:pt x="373" y="174"/>
                      </a:lnTo>
                      <a:lnTo>
                        <a:pt x="359" y="178"/>
                      </a:lnTo>
                      <a:lnTo>
                        <a:pt x="346" y="174"/>
                      </a:lnTo>
                      <a:lnTo>
                        <a:pt x="366" y="150"/>
                      </a:lnTo>
                      <a:lnTo>
                        <a:pt x="387" y="126"/>
                      </a:lnTo>
                      <a:lnTo>
                        <a:pt x="407" y="99"/>
                      </a:lnTo>
                      <a:lnTo>
                        <a:pt x="424" y="72"/>
                      </a:lnTo>
                      <a:lnTo>
                        <a:pt x="438" y="48"/>
                      </a:lnTo>
                      <a:lnTo>
                        <a:pt x="448" y="27"/>
                      </a:lnTo>
                      <a:lnTo>
                        <a:pt x="459" y="10"/>
                      </a:lnTo>
                      <a:lnTo>
                        <a:pt x="462" y="0"/>
                      </a:lnTo>
                      <a:lnTo>
                        <a:pt x="455" y="27"/>
                      </a:lnTo>
                      <a:lnTo>
                        <a:pt x="438" y="68"/>
                      </a:lnTo>
                      <a:lnTo>
                        <a:pt x="417" y="113"/>
                      </a:lnTo>
                      <a:lnTo>
                        <a:pt x="397" y="144"/>
                      </a:lnTo>
                      <a:lnTo>
                        <a:pt x="414" y="137"/>
                      </a:lnTo>
                      <a:lnTo>
                        <a:pt x="428" y="130"/>
                      </a:lnTo>
                      <a:lnTo>
                        <a:pt x="435" y="123"/>
                      </a:lnTo>
                      <a:lnTo>
                        <a:pt x="438" y="120"/>
                      </a:lnTo>
                      <a:lnTo>
                        <a:pt x="424" y="154"/>
                      </a:lnTo>
                      <a:lnTo>
                        <a:pt x="400" y="202"/>
                      </a:lnTo>
                      <a:lnTo>
                        <a:pt x="370" y="253"/>
                      </a:lnTo>
                      <a:lnTo>
                        <a:pt x="339" y="287"/>
                      </a:lnTo>
                      <a:lnTo>
                        <a:pt x="356" y="280"/>
                      </a:lnTo>
                      <a:lnTo>
                        <a:pt x="376" y="263"/>
                      </a:lnTo>
                      <a:lnTo>
                        <a:pt x="394" y="250"/>
                      </a:lnTo>
                      <a:lnTo>
                        <a:pt x="400" y="243"/>
                      </a:lnTo>
                      <a:lnTo>
                        <a:pt x="387" y="273"/>
                      </a:lnTo>
                      <a:lnTo>
                        <a:pt x="363" y="315"/>
                      </a:lnTo>
                      <a:lnTo>
                        <a:pt x="335" y="352"/>
                      </a:lnTo>
                      <a:lnTo>
                        <a:pt x="311" y="383"/>
                      </a:lnTo>
                      <a:lnTo>
                        <a:pt x="332" y="383"/>
                      </a:lnTo>
                      <a:lnTo>
                        <a:pt x="349" y="380"/>
                      </a:lnTo>
                      <a:lnTo>
                        <a:pt x="363" y="373"/>
                      </a:lnTo>
                      <a:lnTo>
                        <a:pt x="366" y="369"/>
                      </a:lnTo>
                      <a:lnTo>
                        <a:pt x="352" y="397"/>
                      </a:lnTo>
                      <a:lnTo>
                        <a:pt x="328" y="421"/>
                      </a:lnTo>
                      <a:lnTo>
                        <a:pt x="301" y="444"/>
                      </a:lnTo>
                      <a:lnTo>
                        <a:pt x="277" y="458"/>
                      </a:lnTo>
                      <a:lnTo>
                        <a:pt x="270" y="475"/>
                      </a:lnTo>
                      <a:lnTo>
                        <a:pt x="253" y="499"/>
                      </a:lnTo>
                      <a:lnTo>
                        <a:pt x="233" y="523"/>
                      </a:lnTo>
                      <a:lnTo>
                        <a:pt x="212" y="540"/>
                      </a:lnTo>
                      <a:lnTo>
                        <a:pt x="226" y="540"/>
                      </a:lnTo>
                      <a:lnTo>
                        <a:pt x="243" y="537"/>
                      </a:lnTo>
                      <a:lnTo>
                        <a:pt x="267" y="530"/>
                      </a:lnTo>
                      <a:lnTo>
                        <a:pt x="294" y="513"/>
                      </a:lnTo>
                      <a:lnTo>
                        <a:pt x="287" y="530"/>
                      </a:lnTo>
                      <a:lnTo>
                        <a:pt x="274" y="554"/>
                      </a:lnTo>
                      <a:lnTo>
                        <a:pt x="257" y="578"/>
                      </a:lnTo>
                      <a:lnTo>
                        <a:pt x="243" y="592"/>
                      </a:lnTo>
                      <a:lnTo>
                        <a:pt x="267" y="588"/>
                      </a:lnTo>
                      <a:lnTo>
                        <a:pt x="294" y="578"/>
                      </a:lnTo>
                      <a:lnTo>
                        <a:pt x="322" y="564"/>
                      </a:lnTo>
                      <a:lnTo>
                        <a:pt x="342" y="547"/>
                      </a:lnTo>
                      <a:lnTo>
                        <a:pt x="335" y="561"/>
                      </a:lnTo>
                      <a:lnTo>
                        <a:pt x="328" y="578"/>
                      </a:lnTo>
                      <a:lnTo>
                        <a:pt x="315" y="598"/>
                      </a:lnTo>
                      <a:lnTo>
                        <a:pt x="298" y="619"/>
                      </a:lnTo>
                      <a:lnTo>
                        <a:pt x="281" y="639"/>
                      </a:lnTo>
                      <a:lnTo>
                        <a:pt x="267" y="657"/>
                      </a:lnTo>
                      <a:lnTo>
                        <a:pt x="253" y="670"/>
                      </a:lnTo>
                      <a:lnTo>
                        <a:pt x="240" y="680"/>
                      </a:lnTo>
                      <a:lnTo>
                        <a:pt x="260" y="622"/>
                      </a:lnTo>
                      <a:lnTo>
                        <a:pt x="243" y="629"/>
                      </a:lnTo>
                      <a:lnTo>
                        <a:pt x="226" y="633"/>
                      </a:lnTo>
                      <a:lnTo>
                        <a:pt x="212" y="633"/>
                      </a:lnTo>
                      <a:lnTo>
                        <a:pt x="209" y="633"/>
                      </a:lnTo>
                      <a:lnTo>
                        <a:pt x="216" y="592"/>
                      </a:lnTo>
                      <a:lnTo>
                        <a:pt x="195" y="609"/>
                      </a:lnTo>
                      <a:lnTo>
                        <a:pt x="175" y="629"/>
                      </a:lnTo>
                      <a:lnTo>
                        <a:pt x="161" y="643"/>
                      </a:lnTo>
                      <a:lnTo>
                        <a:pt x="154" y="650"/>
                      </a:lnTo>
                      <a:lnTo>
                        <a:pt x="171" y="653"/>
                      </a:lnTo>
                      <a:lnTo>
                        <a:pt x="192" y="650"/>
                      </a:lnTo>
                      <a:lnTo>
                        <a:pt x="212" y="646"/>
                      </a:lnTo>
                      <a:lnTo>
                        <a:pt x="219" y="646"/>
                      </a:lnTo>
                      <a:lnTo>
                        <a:pt x="205" y="694"/>
                      </a:lnTo>
                      <a:lnTo>
                        <a:pt x="188" y="728"/>
                      </a:lnTo>
                      <a:lnTo>
                        <a:pt x="175" y="749"/>
                      </a:lnTo>
                      <a:lnTo>
                        <a:pt x="171" y="756"/>
                      </a:lnTo>
                      <a:lnTo>
                        <a:pt x="188" y="749"/>
                      </a:lnTo>
                      <a:lnTo>
                        <a:pt x="209" y="739"/>
                      </a:lnTo>
                      <a:lnTo>
                        <a:pt x="222" y="728"/>
                      </a:lnTo>
                      <a:lnTo>
                        <a:pt x="229" y="722"/>
                      </a:lnTo>
                      <a:lnTo>
                        <a:pt x="209" y="763"/>
                      </a:lnTo>
                      <a:lnTo>
                        <a:pt x="185" y="804"/>
                      </a:lnTo>
                      <a:lnTo>
                        <a:pt x="161" y="834"/>
                      </a:lnTo>
                      <a:lnTo>
                        <a:pt x="137" y="855"/>
                      </a:lnTo>
                      <a:lnTo>
                        <a:pt x="154" y="851"/>
                      </a:lnTo>
                      <a:lnTo>
                        <a:pt x="175" y="838"/>
                      </a:lnTo>
                      <a:lnTo>
                        <a:pt x="202" y="824"/>
                      </a:lnTo>
                      <a:lnTo>
                        <a:pt x="229" y="804"/>
                      </a:lnTo>
                      <a:lnTo>
                        <a:pt x="257" y="783"/>
                      </a:lnTo>
                      <a:lnTo>
                        <a:pt x="284" y="763"/>
                      </a:lnTo>
                      <a:lnTo>
                        <a:pt x="305" y="742"/>
                      </a:lnTo>
                      <a:lnTo>
                        <a:pt x="322" y="722"/>
                      </a:lnTo>
                      <a:lnTo>
                        <a:pt x="318" y="735"/>
                      </a:lnTo>
                      <a:lnTo>
                        <a:pt x="311" y="756"/>
                      </a:lnTo>
                      <a:lnTo>
                        <a:pt x="298" y="780"/>
                      </a:lnTo>
                      <a:lnTo>
                        <a:pt x="281" y="804"/>
                      </a:lnTo>
                      <a:lnTo>
                        <a:pt x="263" y="828"/>
                      </a:lnTo>
                      <a:lnTo>
                        <a:pt x="246" y="851"/>
                      </a:lnTo>
                      <a:lnTo>
                        <a:pt x="233" y="869"/>
                      </a:lnTo>
                      <a:lnTo>
                        <a:pt x="222" y="882"/>
                      </a:lnTo>
                      <a:lnTo>
                        <a:pt x="240" y="879"/>
                      </a:lnTo>
                      <a:lnTo>
                        <a:pt x="260" y="869"/>
                      </a:lnTo>
                      <a:lnTo>
                        <a:pt x="281" y="855"/>
                      </a:lnTo>
                      <a:lnTo>
                        <a:pt x="301" y="841"/>
                      </a:lnTo>
                      <a:lnTo>
                        <a:pt x="322" y="824"/>
                      </a:lnTo>
                      <a:lnTo>
                        <a:pt x="339" y="807"/>
                      </a:lnTo>
                      <a:lnTo>
                        <a:pt x="359" y="787"/>
                      </a:lnTo>
                      <a:lnTo>
                        <a:pt x="373" y="769"/>
                      </a:lnTo>
                      <a:lnTo>
                        <a:pt x="370" y="787"/>
                      </a:lnTo>
                      <a:lnTo>
                        <a:pt x="359" y="810"/>
                      </a:lnTo>
                      <a:lnTo>
                        <a:pt x="346" y="841"/>
                      </a:lnTo>
                      <a:lnTo>
                        <a:pt x="328" y="872"/>
                      </a:lnTo>
                      <a:lnTo>
                        <a:pt x="308" y="903"/>
                      </a:lnTo>
                      <a:lnTo>
                        <a:pt x="287" y="934"/>
                      </a:lnTo>
                      <a:lnTo>
                        <a:pt x="267" y="961"/>
                      </a:lnTo>
                      <a:lnTo>
                        <a:pt x="246" y="981"/>
                      </a:lnTo>
                      <a:lnTo>
                        <a:pt x="250" y="964"/>
                      </a:lnTo>
                      <a:lnTo>
                        <a:pt x="253" y="947"/>
                      </a:lnTo>
                      <a:lnTo>
                        <a:pt x="253" y="930"/>
                      </a:lnTo>
                      <a:lnTo>
                        <a:pt x="253" y="923"/>
                      </a:lnTo>
                      <a:lnTo>
                        <a:pt x="229" y="954"/>
                      </a:lnTo>
                      <a:lnTo>
                        <a:pt x="198" y="985"/>
                      </a:lnTo>
                      <a:lnTo>
                        <a:pt x="175" y="1005"/>
                      </a:lnTo>
                      <a:lnTo>
                        <a:pt x="164" y="1016"/>
                      </a:lnTo>
                      <a:close/>
                    </a:path>
                  </a:pathLst>
                </a:custGeom>
                <a:solidFill>
                  <a:srgbClr val="00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364200" y="4340520"/>
                  <a:ext cx="66600" cy="51480"/>
                </a:xfrm>
                <a:custGeom>
                  <a:avLst/>
                  <a:gdLst/>
                  <a:ahLst/>
                  <a:rect l="l" t="t" r="r" b="b"/>
                  <a:pathLst>
                    <a:path w="171" h="164">
                      <a:moveTo>
                        <a:pt x="10" y="0"/>
                      </a:moveTo>
                      <a:lnTo>
                        <a:pt x="7" y="21"/>
                      </a:lnTo>
                      <a:lnTo>
                        <a:pt x="3" y="51"/>
                      </a:lnTo>
                      <a:lnTo>
                        <a:pt x="0" y="82"/>
                      </a:lnTo>
                      <a:lnTo>
                        <a:pt x="7" y="113"/>
                      </a:lnTo>
                      <a:lnTo>
                        <a:pt x="21" y="82"/>
                      </a:lnTo>
                      <a:lnTo>
                        <a:pt x="27" y="106"/>
                      </a:lnTo>
                      <a:lnTo>
                        <a:pt x="48" y="127"/>
                      </a:lnTo>
                      <a:lnTo>
                        <a:pt x="75" y="147"/>
                      </a:lnTo>
                      <a:lnTo>
                        <a:pt x="106" y="164"/>
                      </a:lnTo>
                      <a:lnTo>
                        <a:pt x="106" y="147"/>
                      </a:lnTo>
                      <a:lnTo>
                        <a:pt x="106" y="127"/>
                      </a:lnTo>
                      <a:lnTo>
                        <a:pt x="106" y="106"/>
                      </a:lnTo>
                      <a:lnTo>
                        <a:pt x="106" y="99"/>
                      </a:lnTo>
                      <a:lnTo>
                        <a:pt x="123" y="120"/>
                      </a:lnTo>
                      <a:lnTo>
                        <a:pt x="144" y="133"/>
                      </a:lnTo>
                      <a:lnTo>
                        <a:pt x="164" y="147"/>
                      </a:lnTo>
                      <a:lnTo>
                        <a:pt x="171" y="151"/>
                      </a:lnTo>
                      <a:lnTo>
                        <a:pt x="154" y="116"/>
                      </a:lnTo>
                      <a:lnTo>
                        <a:pt x="130" y="75"/>
                      </a:lnTo>
                      <a:lnTo>
                        <a:pt x="116" y="38"/>
                      </a:lnTo>
                      <a:lnTo>
                        <a:pt x="110" y="3"/>
                      </a:lnTo>
                      <a:lnTo>
                        <a:pt x="92" y="31"/>
                      </a:lnTo>
                      <a:lnTo>
                        <a:pt x="82" y="62"/>
                      </a:lnTo>
                      <a:lnTo>
                        <a:pt x="75" y="89"/>
                      </a:lnTo>
                      <a:lnTo>
                        <a:pt x="75" y="110"/>
                      </a:lnTo>
                      <a:lnTo>
                        <a:pt x="58" y="92"/>
                      </a:lnTo>
                      <a:lnTo>
                        <a:pt x="38" y="58"/>
                      </a:lnTo>
                      <a:lnTo>
                        <a:pt x="17" y="24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21" name=""/>
          <p:cNvGrpSpPr/>
          <p:nvPr/>
        </p:nvGrpSpPr>
        <p:grpSpPr>
          <a:xfrm>
            <a:off x="6781680" y="3886200"/>
            <a:ext cx="1524240" cy="990720"/>
            <a:chOff x="6781680" y="3886200"/>
            <a:chExt cx="1524240" cy="990720"/>
          </a:xfrm>
        </p:grpSpPr>
        <p:sp>
          <p:nvSpPr>
            <p:cNvPr id="422" name=""/>
            <p:cNvSpPr/>
            <p:nvPr/>
          </p:nvSpPr>
          <p:spPr>
            <a:xfrm>
              <a:off x="6781680" y="3886200"/>
              <a:ext cx="1524240" cy="990720"/>
            </a:xfrm>
            <a:prstGeom prst="flowChartProcess">
              <a:avLst/>
            </a:prstGeom>
            <a:solidFill>
              <a:srgbClr val="ffffff"/>
            </a:solidFill>
            <a:ln w="76320">
              <a:solidFill>
                <a:srgbClr val="3333cc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99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68580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Comic Sans MS"/>
              </a:rPr>
              <a:t>Выбери задачу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2057400"/>
            <a:ext cx="5333760" cy="685800"/>
          </a:xfrm>
          <a:custGeom>
            <a:avLst/>
            <a:gdLst>
              <a:gd name="textAreaLeft" fmla="*/ 44280 w 5333760"/>
              <a:gd name="textAreaRight" fmla="*/ 5289480 w 5333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67916" h="21600">
                <a:moveTo>
                  <a:pt x="0" y="0"/>
                </a:moveTo>
                <a:lnTo>
                  <a:pt x="167916" y="0"/>
                </a:lnTo>
                <a:lnTo>
                  <a:pt x="167916" y="21600"/>
                </a:lnTo>
                <a:lnTo>
                  <a:pt x="0" y="21600"/>
                </a:lnTo>
                <a:close/>
              </a:path>
              <a:path fill="lightenLess" w="167916" h="21600">
                <a:moveTo>
                  <a:pt x="0" y="0"/>
                </a:moveTo>
                <a:lnTo>
                  <a:pt x="167916" y="0"/>
                </a:lnTo>
                <a:lnTo>
                  <a:pt x="166516" y="1400"/>
                </a:lnTo>
                <a:lnTo>
                  <a:pt x="1400" y="1400"/>
                </a:lnTo>
                <a:close/>
              </a:path>
              <a:path fill="darken" w="167916" h="21600">
                <a:moveTo>
                  <a:pt x="167916" y="0"/>
                </a:moveTo>
                <a:lnTo>
                  <a:pt x="167916" y="21600"/>
                </a:lnTo>
                <a:lnTo>
                  <a:pt x="166516" y="20200"/>
                </a:lnTo>
                <a:lnTo>
                  <a:pt x="166516" y="1400"/>
                </a:lnTo>
                <a:close/>
              </a:path>
              <a:path fill="darkenLess" w="167916" h="21600">
                <a:moveTo>
                  <a:pt x="167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6516" y="20200"/>
                </a:lnTo>
                <a:close/>
              </a:path>
              <a:path fill="lighten" w="167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ахождение значения фун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3124080"/>
            <a:ext cx="5333760" cy="685800"/>
          </a:xfrm>
          <a:custGeom>
            <a:avLst/>
            <a:gdLst>
              <a:gd name="textAreaLeft" fmla="*/ 44280 w 5333760"/>
              <a:gd name="textAreaRight" fmla="*/ 5289480 w 5333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67916" h="21600">
                <a:moveTo>
                  <a:pt x="0" y="0"/>
                </a:moveTo>
                <a:lnTo>
                  <a:pt x="167916" y="0"/>
                </a:lnTo>
                <a:lnTo>
                  <a:pt x="167916" y="21600"/>
                </a:lnTo>
                <a:lnTo>
                  <a:pt x="0" y="21600"/>
                </a:lnTo>
                <a:close/>
              </a:path>
              <a:path fill="lightenLess" w="167916" h="21600">
                <a:moveTo>
                  <a:pt x="0" y="0"/>
                </a:moveTo>
                <a:lnTo>
                  <a:pt x="167916" y="0"/>
                </a:lnTo>
                <a:lnTo>
                  <a:pt x="166516" y="1400"/>
                </a:lnTo>
                <a:lnTo>
                  <a:pt x="1400" y="1400"/>
                </a:lnTo>
                <a:close/>
              </a:path>
              <a:path fill="darken" w="167916" h="21600">
                <a:moveTo>
                  <a:pt x="167916" y="0"/>
                </a:moveTo>
                <a:lnTo>
                  <a:pt x="167916" y="21600"/>
                </a:lnTo>
                <a:lnTo>
                  <a:pt x="166516" y="20200"/>
                </a:lnTo>
                <a:lnTo>
                  <a:pt x="166516" y="1400"/>
                </a:lnTo>
                <a:close/>
              </a:path>
              <a:path fill="darkenLess" w="167916" h="21600">
                <a:moveTo>
                  <a:pt x="167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6516" y="20200"/>
                </a:lnTo>
                <a:close/>
              </a:path>
              <a:path fill="lighten" w="167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вадратное уравн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endshow"/>
          </p:cNvPr>
          <p:cNvSpPr/>
          <p:nvPr/>
        </p:nvSpPr>
        <p:spPr>
          <a:xfrm>
            <a:off x="7391520" y="6095880"/>
            <a:ext cx="1066680" cy="38124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0398" h="21600">
                <a:moveTo>
                  <a:pt x="0" y="0"/>
                </a:moveTo>
                <a:lnTo>
                  <a:pt x="60398" y="0"/>
                </a:lnTo>
                <a:lnTo>
                  <a:pt x="60398" y="21600"/>
                </a:lnTo>
                <a:lnTo>
                  <a:pt x="0" y="21600"/>
                </a:lnTo>
                <a:close/>
              </a:path>
              <a:path fill="lightenLess" w="60398" h="21600">
                <a:moveTo>
                  <a:pt x="0" y="0"/>
                </a:moveTo>
                <a:lnTo>
                  <a:pt x="60398" y="0"/>
                </a:lnTo>
                <a:lnTo>
                  <a:pt x="58999" y="1400"/>
                </a:lnTo>
                <a:lnTo>
                  <a:pt x="1400" y="1400"/>
                </a:lnTo>
                <a:close/>
              </a:path>
              <a:path fill="darken" w="60398" h="21600">
                <a:moveTo>
                  <a:pt x="60398" y="0"/>
                </a:moveTo>
                <a:lnTo>
                  <a:pt x="60398" y="21600"/>
                </a:lnTo>
                <a:lnTo>
                  <a:pt x="58999" y="20200"/>
                </a:lnTo>
                <a:lnTo>
                  <a:pt x="58999" y="1400"/>
                </a:lnTo>
                <a:close/>
              </a:path>
              <a:path fill="darkenLess" w="60398" h="21600">
                <a:moveTo>
                  <a:pt x="60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99" y="20200"/>
                </a:lnTo>
                <a:close/>
              </a:path>
              <a:path fill="lighten" w="60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ыхо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4191120"/>
            <a:ext cx="5333760" cy="685800"/>
          </a:xfrm>
          <a:custGeom>
            <a:avLst/>
            <a:gdLst>
              <a:gd name="textAreaLeft" fmla="*/ 44280 w 5333760"/>
              <a:gd name="textAreaRight" fmla="*/ 5289480 w 5333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67916" h="21600">
                <a:moveTo>
                  <a:pt x="0" y="0"/>
                </a:moveTo>
                <a:lnTo>
                  <a:pt x="167916" y="0"/>
                </a:lnTo>
                <a:lnTo>
                  <a:pt x="167916" y="21600"/>
                </a:lnTo>
                <a:lnTo>
                  <a:pt x="0" y="21600"/>
                </a:lnTo>
                <a:close/>
              </a:path>
              <a:path fill="lightenLess" w="167916" h="21600">
                <a:moveTo>
                  <a:pt x="0" y="0"/>
                </a:moveTo>
                <a:lnTo>
                  <a:pt x="167916" y="0"/>
                </a:lnTo>
                <a:lnTo>
                  <a:pt x="166516" y="1400"/>
                </a:lnTo>
                <a:lnTo>
                  <a:pt x="1400" y="1400"/>
                </a:lnTo>
                <a:close/>
              </a:path>
              <a:path fill="darken" w="167916" h="21600">
                <a:moveTo>
                  <a:pt x="167916" y="0"/>
                </a:moveTo>
                <a:lnTo>
                  <a:pt x="167916" y="21600"/>
                </a:lnTo>
                <a:lnTo>
                  <a:pt x="166516" y="20200"/>
                </a:lnTo>
                <a:lnTo>
                  <a:pt x="166516" y="1400"/>
                </a:lnTo>
                <a:close/>
              </a:path>
              <a:path fill="darkenLess" w="167916" h="21600">
                <a:moveTo>
                  <a:pt x="167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6516" y="20200"/>
                </a:lnTo>
                <a:close/>
              </a:path>
              <a:path fill="lighten" w="167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Разветвляющаяся песе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62120" y="1523880"/>
            <a:ext cx="72388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оставить блок-схему алгоритма нахождения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значения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функции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533520"/>
            <a:ext cx="65530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да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85960"/>
            <a:ext cx="182520" cy="1463760"/>
          </a:xfrm>
          <a:custGeom>
            <a:avLst/>
            <a:gdLst>
              <a:gd name="textAreaLeft" fmla="*/ 116640 w 182520"/>
              <a:gd name="textAreaRight" fmla="*/ 182880 w 182520"/>
              <a:gd name="textAreaTop" fmla="*/ 38160 h 1463760"/>
              <a:gd name="textAreaBottom" fmla="*/ 1425600 h 146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8058240" y="61498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9" h="21600">
                <a:moveTo>
                  <a:pt x="12413" y="3794"/>
                </a:moveTo>
                <a:lnTo>
                  <a:pt x="26426" y="10800"/>
                </a:lnTo>
                <a:lnTo>
                  <a:pt x="12413" y="17806"/>
                </a:lnTo>
                <a:close/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ff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419880" y="4148280"/>
            <a:ext cx="1569960" cy="107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539" y="2160"/>
                </a:moveTo>
                <a:lnTo>
                  <a:pt x="28193" y="2160"/>
                </a:lnTo>
                <a:lnTo>
                  <a:pt x="28193" y="-10710"/>
                </a:lnTo>
                <a:lnTo>
                  <a:pt x="2661" y="-23610"/>
                </a:lnTo>
              </a:path>
              <a:path w="21600" h="21600">
                <a:moveTo>
                  <a:pt x="22539" y="0"/>
                </a:moveTo>
                <a:lnTo>
                  <a:pt x="22539" y="21600"/>
                </a:lnTo>
              </a:path>
            </a:pathLst>
          </a:custGeom>
          <a:solidFill>
            <a:srgbClr val="ff0000"/>
          </a:solidFill>
          <a:ln w="3816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 на этом участк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 = X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Kids"/>
              </a:rPr>
              <a:t>Начинаем рассуждать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19520" y="28954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2819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3048120"/>
            <a:ext cx="457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57800" y="2819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2819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3048120"/>
            <a:ext cx="457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3048120"/>
            <a:ext cx="457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4191120"/>
            <a:ext cx="1698480" cy="1030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468" y="2251"/>
                </a:moveTo>
                <a:lnTo>
                  <a:pt x="26014" y="2251"/>
                </a:lnTo>
                <a:lnTo>
                  <a:pt x="26014" y="-6940"/>
                </a:lnTo>
                <a:lnTo>
                  <a:pt x="15739" y="-22006"/>
                </a:lnTo>
              </a:path>
              <a:path w="21600" h="21600">
                <a:moveTo>
                  <a:pt x="22468" y="0"/>
                </a:moveTo>
                <a:lnTo>
                  <a:pt x="22468" y="21600"/>
                </a:lnTo>
              </a:path>
            </a:pathLst>
          </a:custGeom>
          <a:solidFill>
            <a:srgbClr val="00cc99"/>
          </a:solidFill>
          <a:ln w="38160">
            <a:solidFill>
              <a:srgbClr val="00cc99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этом участке координатной прямой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 = 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75000" y="4199040"/>
            <a:ext cx="1735200" cy="1022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451" y="2267"/>
                </a:moveTo>
                <a:lnTo>
                  <a:pt x="24098" y="2267"/>
                </a:lnTo>
                <a:lnTo>
                  <a:pt x="24098" y="-11682"/>
                </a:lnTo>
                <a:lnTo>
                  <a:pt x="12262" y="-25693"/>
                </a:lnTo>
              </a:path>
            </a:pathLst>
          </a:custGeom>
          <a:solidFill>
            <a:srgbClr val="ffff00"/>
          </a:solidFill>
          <a:ln w="381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этой точк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*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19520" y="2895480"/>
            <a:ext cx="121896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21360" y="2879640"/>
            <a:ext cx="1433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nextslide"/>
            <a:hlinkClick r:id="rId1"/>
          </p:cNvPr>
          <p:cNvSpPr/>
          <p:nvPr/>
        </p:nvSpPr>
        <p:spPr>
          <a:xfrm>
            <a:off x="807732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ff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6019920"/>
            <a:ext cx="731520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Kids"/>
              </a:rPr>
              <a:t>Приступаем к построению блок -схемы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89400" y="2789280"/>
            <a:ext cx="174600" cy="16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4780080" y="3862440"/>
            <a:ext cx="3551040" cy="2358720"/>
            <a:chOff x="4780080" y="3862440"/>
            <a:chExt cx="3551040" cy="2358720"/>
          </a:xfrm>
        </p:grpSpPr>
        <p:sp>
          <p:nvSpPr>
            <p:cNvPr id="75" name=""/>
            <p:cNvSpPr/>
            <p:nvPr/>
          </p:nvSpPr>
          <p:spPr>
            <a:xfrm>
              <a:off x="8331120" y="3862440"/>
              <a:ext cx="0" cy="221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80080" y="5864040"/>
              <a:ext cx="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80080" y="6078600"/>
              <a:ext cx="355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5560" y="607860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414600" y="3146400"/>
            <a:ext cx="2732040" cy="2431800"/>
            <a:chOff x="3414600" y="3146400"/>
            <a:chExt cx="2732040" cy="2431800"/>
          </a:xfrm>
        </p:grpSpPr>
        <p:sp>
          <p:nvSpPr>
            <p:cNvPr id="80" name=""/>
            <p:cNvSpPr/>
            <p:nvPr/>
          </p:nvSpPr>
          <p:spPr>
            <a:xfrm>
              <a:off x="3414600" y="3146400"/>
              <a:ext cx="0" cy="214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414600" y="5292000"/>
              <a:ext cx="273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128280" y="5110200"/>
              <a:ext cx="0" cy="15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80800" y="4076280"/>
              <a:ext cx="0" cy="12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80800" y="5292000"/>
              <a:ext cx="0" cy="28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0" y="214200"/>
            <a:ext cx="2390760" cy="66438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7b5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9680" y="214200"/>
            <a:ext cx="225432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Первый блок – это всегда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НАЧАЛО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92680" y="214200"/>
            <a:ext cx="2133360" cy="30492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 algn="ctr"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11560" y="55260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9680" y="714240"/>
            <a:ext cx="19047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ff"/>
                </a:solidFill>
                <a:latin typeface="Comic Sans MS"/>
              </a:rPr>
              <a:t>Стрелки показывают направление перехода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97160" y="858960"/>
            <a:ext cx="1752840" cy="304560"/>
          </a:xfrm>
          <a:prstGeom prst="flowChartInputOutpu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792240" y="1163520"/>
            <a:ext cx="2438640" cy="1294920"/>
            <a:chOff x="3792240" y="1163520"/>
            <a:chExt cx="2438640" cy="1294920"/>
          </a:xfrm>
        </p:grpSpPr>
        <p:grpSp>
          <p:nvGrpSpPr>
            <p:cNvPr id="92" name=""/>
            <p:cNvGrpSpPr/>
            <p:nvPr/>
          </p:nvGrpSpPr>
          <p:grpSpPr>
            <a:xfrm>
              <a:off x="3792240" y="1619280"/>
              <a:ext cx="608760" cy="839160"/>
              <a:chOff x="3792240" y="1619280"/>
              <a:chExt cx="608760" cy="839160"/>
            </a:xfrm>
          </p:grpSpPr>
          <p:sp>
            <p:nvSpPr>
              <p:cNvPr id="93" name=""/>
              <p:cNvSpPr/>
              <p:nvPr/>
            </p:nvSpPr>
            <p:spPr>
              <a:xfrm flipH="1" flipV="1">
                <a:off x="3791880" y="1924200"/>
                <a:ext cx="533160" cy="533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6586" y="21600"/>
                    </a:lnTo>
                    <a:lnTo>
                      <a:pt x="16586" y="3801"/>
                    </a:lnTo>
                    <a:lnTo>
                      <a:pt x="11572" y="3801"/>
                    </a:lnTo>
                    <a:lnTo>
                      <a:pt x="16586" y="0"/>
                    </a:lnTo>
                    <a:lnTo>
                      <a:pt x="21600" y="3801"/>
                    </a:lnTo>
                    <a:lnTo>
                      <a:pt x="16586" y="3801"/>
                    </a:lnTo>
                    <a:lnTo>
                      <a:pt x="16586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867840" y="1619280"/>
                <a:ext cx="5331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Д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326120" y="1163520"/>
              <a:ext cx="1904760" cy="1294920"/>
              <a:chOff x="4326120" y="1163520"/>
              <a:chExt cx="1904760" cy="1294920"/>
            </a:xfrm>
          </p:grpSpPr>
          <p:sp>
            <p:nvSpPr>
              <p:cNvPr id="96" name=""/>
              <p:cNvSpPr/>
              <p:nvPr/>
            </p:nvSpPr>
            <p:spPr>
              <a:xfrm>
                <a:off x="5011560" y="1163520"/>
                <a:ext cx="0" cy="30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326120" y="1467720"/>
                <a:ext cx="1371240" cy="915120"/>
              </a:xfrm>
              <a:prstGeom prst="flowChartDecision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X &lt; 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" name=""/>
              <p:cNvGrpSpPr/>
              <p:nvPr/>
            </p:nvGrpSpPr>
            <p:grpSpPr>
              <a:xfrm>
                <a:off x="5697360" y="1619280"/>
                <a:ext cx="533520" cy="839160"/>
                <a:chOff x="5697360" y="1619280"/>
                <a:chExt cx="533520" cy="83916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5697360" y="1924200"/>
                  <a:ext cx="533520" cy="533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21600"/>
                      </a:moveTo>
                      <a:lnTo>
                        <a:pt x="16586" y="21600"/>
                      </a:lnTo>
                      <a:lnTo>
                        <a:pt x="16586" y="5007"/>
                      </a:lnTo>
                      <a:lnTo>
                        <a:pt x="11572" y="5007"/>
                      </a:lnTo>
                      <a:lnTo>
                        <a:pt x="16586" y="0"/>
                      </a:lnTo>
                      <a:lnTo>
                        <a:pt x="21600" y="5007"/>
                      </a:lnTo>
                      <a:lnTo>
                        <a:pt x="16586" y="5007"/>
                      </a:lnTo>
                      <a:lnTo>
                        <a:pt x="16586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697360" y="1619280"/>
                  <a:ext cx="53352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НЕ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1" name=""/>
          <p:cNvSpPr/>
          <p:nvPr/>
        </p:nvSpPr>
        <p:spPr>
          <a:xfrm>
            <a:off x="2971800" y="2481120"/>
            <a:ext cx="1600200" cy="68436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916520" y="2432160"/>
            <a:ext cx="2445840" cy="980280"/>
            <a:chOff x="4916520" y="2432160"/>
            <a:chExt cx="2445840" cy="980280"/>
          </a:xfrm>
        </p:grpSpPr>
        <p:sp>
          <p:nvSpPr>
            <p:cNvPr id="103" name=""/>
            <p:cNvSpPr/>
            <p:nvPr/>
          </p:nvSpPr>
          <p:spPr>
            <a:xfrm>
              <a:off x="5462640" y="2432160"/>
              <a:ext cx="1371600" cy="913680"/>
            </a:xfrm>
            <a:prstGeom prst="flowChartDecisi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 &gt;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4916520" y="2574720"/>
              <a:ext cx="669960" cy="817920"/>
              <a:chOff x="4916520" y="2574720"/>
              <a:chExt cx="669960" cy="817920"/>
            </a:xfrm>
          </p:grpSpPr>
          <p:sp>
            <p:nvSpPr>
              <p:cNvPr id="105" name=""/>
              <p:cNvSpPr/>
              <p:nvPr/>
            </p:nvSpPr>
            <p:spPr>
              <a:xfrm flipH="1" flipV="1">
                <a:off x="4916520" y="2859840"/>
                <a:ext cx="533520" cy="532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6586" y="21600"/>
                    </a:lnTo>
                    <a:lnTo>
                      <a:pt x="16586" y="5007"/>
                    </a:lnTo>
                    <a:lnTo>
                      <a:pt x="11572" y="5007"/>
                    </a:lnTo>
                    <a:lnTo>
                      <a:pt x="16586" y="0"/>
                    </a:lnTo>
                    <a:lnTo>
                      <a:pt x="21600" y="5007"/>
                    </a:lnTo>
                    <a:lnTo>
                      <a:pt x="16586" y="5007"/>
                    </a:lnTo>
                    <a:lnTo>
                      <a:pt x="16586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052960" y="2574720"/>
                <a:ext cx="5335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Д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829200" y="2574720"/>
              <a:ext cx="533160" cy="837720"/>
              <a:chOff x="6829200" y="2574720"/>
              <a:chExt cx="533160" cy="837720"/>
            </a:xfrm>
          </p:grpSpPr>
          <p:sp>
            <p:nvSpPr>
              <p:cNvPr id="108" name=""/>
              <p:cNvSpPr/>
              <p:nvPr/>
            </p:nvSpPr>
            <p:spPr>
              <a:xfrm flipV="1">
                <a:off x="6829200" y="2879640"/>
                <a:ext cx="533160" cy="532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7683" y="21600"/>
                    </a:lnTo>
                    <a:lnTo>
                      <a:pt x="17683" y="3740"/>
                    </a:lnTo>
                    <a:lnTo>
                      <a:pt x="13766" y="3740"/>
                    </a:lnTo>
                    <a:lnTo>
                      <a:pt x="17683" y="0"/>
                    </a:lnTo>
                    <a:lnTo>
                      <a:pt x="21600" y="3740"/>
                    </a:lnTo>
                    <a:lnTo>
                      <a:pt x="17683" y="3740"/>
                    </a:lnTo>
                    <a:lnTo>
                      <a:pt x="1768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829200" y="2574720"/>
                <a:ext cx="5331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НЕ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" name=""/>
          <p:cNvSpPr/>
          <p:nvPr/>
        </p:nvSpPr>
        <p:spPr>
          <a:xfrm>
            <a:off x="3986280" y="3403440"/>
            <a:ext cx="1600200" cy="68436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X -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26200" y="4460760"/>
            <a:ext cx="1600200" cy="6858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24280" y="5578560"/>
            <a:ext cx="1752480" cy="304560"/>
          </a:xfrm>
          <a:prstGeom prst="flowChartInputOutpu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21360" y="6221520"/>
            <a:ext cx="2135160" cy="30456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 algn="ctr"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010200" y="3432240"/>
            <a:ext cx="2320560" cy="1000800"/>
            <a:chOff x="6010200" y="3432240"/>
            <a:chExt cx="2320560" cy="1000800"/>
          </a:xfrm>
        </p:grpSpPr>
        <p:sp>
          <p:nvSpPr>
            <p:cNvPr id="115" name=""/>
            <p:cNvSpPr/>
            <p:nvPr/>
          </p:nvSpPr>
          <p:spPr>
            <a:xfrm>
              <a:off x="6555960" y="3432240"/>
              <a:ext cx="1370880" cy="915120"/>
            </a:xfrm>
            <a:prstGeom prst="flowChartDecisi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=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6010200" y="3503880"/>
              <a:ext cx="2320560" cy="929160"/>
              <a:chOff x="6010200" y="3503880"/>
              <a:chExt cx="2320560" cy="92916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6010200" y="3575160"/>
                <a:ext cx="669240" cy="857880"/>
                <a:chOff x="6010200" y="3575160"/>
                <a:chExt cx="669240" cy="857880"/>
              </a:xfrm>
            </p:grpSpPr>
            <p:sp>
              <p:nvSpPr>
                <p:cNvPr id="118" name=""/>
                <p:cNvSpPr/>
                <p:nvPr/>
              </p:nvSpPr>
              <p:spPr>
                <a:xfrm flipH="1" flipV="1">
                  <a:off x="6010200" y="3860640"/>
                  <a:ext cx="532800" cy="57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21600"/>
                      </a:moveTo>
                      <a:lnTo>
                        <a:pt x="16586" y="21600"/>
                      </a:lnTo>
                      <a:lnTo>
                        <a:pt x="16586" y="4404"/>
                      </a:lnTo>
                      <a:lnTo>
                        <a:pt x="11572" y="4404"/>
                      </a:lnTo>
                      <a:lnTo>
                        <a:pt x="16586" y="0"/>
                      </a:lnTo>
                      <a:lnTo>
                        <a:pt x="21600" y="4404"/>
                      </a:lnTo>
                      <a:lnTo>
                        <a:pt x="16586" y="4404"/>
                      </a:lnTo>
                      <a:lnTo>
                        <a:pt x="16586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146280" y="3575160"/>
                  <a:ext cx="5331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ДА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7921440" y="3861360"/>
                <a:ext cx="40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785000" y="3503880"/>
                <a:ext cx="5331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НЕ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409680" y="1216080"/>
            <a:ext cx="177624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Вводим значение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9680" y="1573200"/>
            <a:ext cx="177624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Проверяем - 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&lt; 0 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9680" y="1859040"/>
            <a:ext cx="19126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Comic Sans MS"/>
              </a:rPr>
              <a:t>Если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ДА, </a:t>
            </a:r>
            <a:r>
              <a:rPr b="0" lang="ru-RU" sz="1100" spc="-1" strike="noStrike">
                <a:solidFill>
                  <a:srgbClr val="ff0000"/>
                </a:solidFill>
                <a:latin typeface="Comic Sans MS"/>
              </a:rPr>
              <a:t>то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присваиваем значение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ru-RU" sz="11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1100" spc="-1" strike="noStrike">
                <a:solidFill>
                  <a:srgbClr val="ff0000"/>
                </a:solidFill>
                <a:latin typeface="Comic Sans MS"/>
              </a:rPr>
              <a:t>иначе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(стрелка НЕТ)…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9680" y="2575080"/>
            <a:ext cx="177624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i="1" lang="en-US" sz="1100" spc="-1" strike="noStrike">
                <a:solidFill>
                  <a:srgbClr val="ffffff"/>
                </a:solidFill>
                <a:latin typeface="Comic Sans MS"/>
              </a:rPr>
              <a:t>Оп! Опять проверка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9680" y="2860560"/>
            <a:ext cx="177624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Проверяем - 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&gt; 5 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9680" y="3146400"/>
            <a:ext cx="20494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Comic Sans MS"/>
              </a:rPr>
              <a:t>Если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ДА, </a:t>
            </a:r>
            <a:r>
              <a:rPr b="0" lang="ru-RU" sz="1100" spc="-1" strike="noStrike">
                <a:solidFill>
                  <a:srgbClr val="ff0000"/>
                </a:solidFill>
                <a:latin typeface="Comic Sans MS"/>
              </a:rPr>
              <a:t>то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присваиваем значение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X - 1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1100" spc="-1" strike="noStrike">
                <a:solidFill>
                  <a:srgbClr val="ff0000"/>
                </a:solidFill>
                <a:latin typeface="Comic Sans MS"/>
              </a:rPr>
              <a:t>иначе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(стрелка НЕТ)…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9680" y="3862440"/>
            <a:ext cx="177624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i="1" lang="en-US" sz="1100" spc="-1" strike="noStrike">
                <a:solidFill>
                  <a:srgbClr val="ffffff"/>
                </a:solidFill>
                <a:latin typeface="Comic Sans MS"/>
              </a:rPr>
              <a:t>И опять проверка!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9680" y="4148280"/>
            <a:ext cx="177624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Проверяем - 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 =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9680" y="4433760"/>
            <a:ext cx="20494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Comic Sans MS"/>
              </a:rPr>
              <a:t>Если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ДА, </a:t>
            </a:r>
            <a:r>
              <a:rPr b="0" lang="ru-RU" sz="1100" spc="-1" strike="noStrike">
                <a:solidFill>
                  <a:srgbClr val="ff0000"/>
                </a:solidFill>
                <a:latin typeface="Comic Sans MS"/>
              </a:rPr>
              <a:t>то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присваиваем значение 2*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1100" spc="-1" strike="noStrike">
                <a:solidFill>
                  <a:srgbClr val="ff0000"/>
                </a:solidFill>
                <a:latin typeface="Comic Sans MS"/>
              </a:rPr>
              <a:t>иначе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(стрелка НЕТ)…Ничего!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9680" y="5292720"/>
            <a:ext cx="17762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В любом случае нужно вывести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9680" y="5864400"/>
            <a:ext cx="17762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В любом случае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КОНЕЦ!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1280" y="714240"/>
            <a:ext cx="184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1280" y="1144440"/>
            <a:ext cx="184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1280" y="1501920"/>
            <a:ext cx="184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1280" y="2575080"/>
            <a:ext cx="184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1280" y="3790800"/>
            <a:ext cx="184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1280" y="5792760"/>
            <a:ext cx="184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1280" y="5221440"/>
            <a:ext cx="184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29560" y="571680"/>
            <a:ext cx="184284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Symbol"/>
                <a:ea typeface="Symbol"/>
              </a:rPr>
              <a:t></a:t>
            </a:r>
            <a:r>
              <a:rPr b="1" lang="en-US" sz="13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lang="ru-RU" sz="1300" spc="-1" strike="noStrike">
                <a:solidFill>
                  <a:srgbClr val="000000"/>
                </a:solidFill>
                <a:latin typeface="Symbol"/>
                <a:ea typeface="Symbol"/>
              </a:rPr>
              <a:t>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 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14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Y =    </a:t>
            </a:r>
            <a:r>
              <a:rPr b="1" lang="ru-RU" sz="1300" spc="-1" strike="noStrike">
                <a:solidFill>
                  <a:srgbClr val="000000"/>
                </a:solidFill>
                <a:latin typeface="Symbol"/>
                <a:ea typeface="Symbol"/>
              </a:rPr>
              <a:t>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1, если  Х &gt; 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14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lang="ru-RU" sz="1300" spc="-1" strike="noStrike">
                <a:solidFill>
                  <a:srgbClr val="000000"/>
                </a:solidFill>
                <a:latin typeface="Symbol"/>
                <a:ea typeface="Symbol"/>
              </a:rPr>
              <a:t>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, если </a:t>
            </a:r>
            <a:r>
              <a:rPr b="1" lang="ru-RU" sz="1300" spc="-1" strike="noStrike">
                <a:solidFill>
                  <a:srgbClr val="000000"/>
                </a:solidFill>
                <a:latin typeface="Symbol"/>
                <a:ea typeface="Symbol"/>
              </a:rPr>
              <a:t>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= 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14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84880" y="571680"/>
            <a:ext cx="68400" cy="930240"/>
          </a:xfrm>
          <a:custGeom>
            <a:avLst/>
            <a:gdLst>
              <a:gd name="textAreaLeft" fmla="*/ 43920 w 68400"/>
              <a:gd name="textAreaRight" fmla="*/ 68760 w 68400"/>
              <a:gd name="textAreaTop" fmla="*/ 24120 h 930240"/>
              <a:gd name="textAreaBottom" fmla="*/ 906120 h 93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467560" y="5864400"/>
            <a:ext cx="478080" cy="714240"/>
          </a:xfrm>
          <a:custGeom>
            <a:avLst/>
            <a:gdLst>
              <a:gd name="textAreaLeft" fmla="*/ 30960 w 478080"/>
              <a:gd name="textAreaRight" fmla="*/ 447120 w 478080"/>
              <a:gd name="textAreaTop" fmla="*/ 30960 h 714240"/>
              <a:gd name="textAreaBottom" fmla="*/ 683280 h 714240"/>
            </a:gdLst>
            <a:ahLst/>
            <a:rect l="textAreaLeft" t="textAreaTop" r="textAreaRight" b="textAreaBottom"/>
            <a:pathLst>
              <a:path w="21600" h="32262">
                <a:moveTo>
                  <a:pt x="0" y="0"/>
                </a:moveTo>
                <a:lnTo>
                  <a:pt x="21600" y="0"/>
                </a:lnTo>
                <a:lnTo>
                  <a:pt x="21600" y="32262"/>
                </a:lnTo>
                <a:lnTo>
                  <a:pt x="0" y="32262"/>
                </a:lnTo>
                <a:close/>
              </a:path>
              <a:path fill="lightenLess" w="21600" h="322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262">
                <a:moveTo>
                  <a:pt x="21600" y="0"/>
                </a:moveTo>
                <a:lnTo>
                  <a:pt x="21600" y="32262"/>
                </a:lnTo>
                <a:lnTo>
                  <a:pt x="20200" y="30862"/>
                </a:lnTo>
                <a:lnTo>
                  <a:pt x="20200" y="1400"/>
                </a:lnTo>
                <a:close/>
              </a:path>
              <a:path fill="darkenLess" w="21600" h="32262">
                <a:moveTo>
                  <a:pt x="21600" y="32262"/>
                </a:moveTo>
                <a:lnTo>
                  <a:pt x="0" y="32262"/>
                </a:lnTo>
                <a:lnTo>
                  <a:pt x="1400" y="30862"/>
                </a:lnTo>
                <a:lnTo>
                  <a:pt x="20200" y="30862"/>
                </a:lnTo>
                <a:close/>
              </a:path>
              <a:path fill="lighten" w="21600" h="32262">
                <a:moveTo>
                  <a:pt x="0" y="32262"/>
                </a:moveTo>
                <a:lnTo>
                  <a:pt x="0" y="0"/>
                </a:lnTo>
                <a:lnTo>
                  <a:pt x="1400" y="1400"/>
                </a:lnTo>
                <a:lnTo>
                  <a:pt x="1400" y="30862"/>
                </a:lnTo>
                <a:close/>
              </a:path>
              <a:path fill="darken" w="21600" h="32262">
                <a:moveTo>
                  <a:pt x="10800" y="9168"/>
                </a:moveTo>
                <a:lnTo>
                  <a:pt x="13376" y="11779"/>
                </a:lnTo>
                <a:lnTo>
                  <a:pt x="13376" y="10038"/>
                </a:lnTo>
                <a:lnTo>
                  <a:pt x="15152" y="10038"/>
                </a:lnTo>
                <a:lnTo>
                  <a:pt x="15152" y="13555"/>
                </a:lnTo>
                <a:lnTo>
                  <a:pt x="17763" y="16131"/>
                </a:lnTo>
                <a:lnTo>
                  <a:pt x="16109" y="16131"/>
                </a:lnTo>
                <a:lnTo>
                  <a:pt x="16109" y="23320"/>
                </a:lnTo>
                <a:lnTo>
                  <a:pt x="5491" y="23320"/>
                </a:lnTo>
                <a:lnTo>
                  <a:pt x="5491" y="16131"/>
                </a:lnTo>
                <a:lnTo>
                  <a:pt x="3837" y="16131"/>
                </a:lnTo>
                <a:close/>
              </a:path>
              <a:path fill="darkenLess" w="21600" h="32262">
                <a:moveTo>
                  <a:pt x="13376" y="11779"/>
                </a:moveTo>
                <a:lnTo>
                  <a:pt x="13376" y="10038"/>
                </a:lnTo>
                <a:lnTo>
                  <a:pt x="15152" y="10038"/>
                </a:lnTo>
                <a:lnTo>
                  <a:pt x="15152" y="13555"/>
                </a:lnTo>
                <a:close/>
              </a:path>
              <a:path fill="darkenLess" w="21600" h="32262">
                <a:moveTo>
                  <a:pt x="9877" y="19630"/>
                </a:moveTo>
                <a:lnTo>
                  <a:pt x="11723" y="19630"/>
                </a:lnTo>
                <a:lnTo>
                  <a:pt x="11723" y="23320"/>
                </a:lnTo>
                <a:lnTo>
                  <a:pt x="16109" y="23320"/>
                </a:lnTo>
                <a:lnTo>
                  <a:pt x="16109" y="16131"/>
                </a:lnTo>
                <a:lnTo>
                  <a:pt x="5491" y="16131"/>
                </a:lnTo>
                <a:lnTo>
                  <a:pt x="5491" y="23320"/>
                </a:lnTo>
                <a:lnTo>
                  <a:pt x="9877" y="23320"/>
                </a:lnTo>
                <a:close/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ff66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020600" y="568440"/>
            <a:ext cx="731232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3100" spc="-1" strike="noStrike">
                <a:solidFill>
                  <a:srgbClr val="66ff33"/>
                </a:solidFill>
                <a:latin typeface="Arial"/>
              </a:rPr>
              <a:t>Задание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1676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51040" y="1623960"/>
            <a:ext cx="807696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i="1" lang="ru-RU" sz="2600" spc="-1" strike="noStrike">
                <a:solidFill>
                  <a:srgbClr val="66ff33"/>
                </a:solidFill>
                <a:latin typeface="Times New Roman"/>
              </a:rPr>
              <a:t>Составить блок-схему алгоритма решения квадратного уравнен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i="1" lang="ru-RU" sz="26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1" i="1" lang="en-US" sz="2600" spc="-1" strike="noStrike">
                <a:solidFill>
                  <a:srgbClr val="66ff33"/>
                </a:solidFill>
                <a:latin typeface="Times New Roman"/>
              </a:rPr>
              <a:t>X</a:t>
            </a:r>
            <a:r>
              <a:rPr b="1" i="1" lang="en-US" sz="2600" spc="-1" strike="noStrike" baseline="30000">
                <a:solidFill>
                  <a:srgbClr val="66ff33"/>
                </a:solidFill>
                <a:latin typeface="Times New Roman"/>
              </a:rPr>
              <a:t>2</a:t>
            </a:r>
            <a:r>
              <a:rPr b="1" i="1" lang="en-US" sz="2600" spc="-1" strike="noStrike">
                <a:solidFill>
                  <a:srgbClr val="66ff33"/>
                </a:solidFill>
                <a:latin typeface="Times New Roman"/>
              </a:rPr>
              <a:t>+ </a:t>
            </a: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b</a:t>
            </a:r>
            <a:r>
              <a:rPr b="1" i="1" lang="en-US" sz="2600" spc="-1" strike="noStrike">
                <a:solidFill>
                  <a:srgbClr val="66ff33"/>
                </a:solidFill>
                <a:latin typeface="Times New Roman"/>
              </a:rPr>
              <a:t>X + </a:t>
            </a: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c</a:t>
            </a:r>
            <a:r>
              <a:rPr b="1" i="1" lang="en-US" sz="2600" spc="-1" strike="noStrike">
                <a:solidFill>
                  <a:srgbClr val="66ff33"/>
                </a:solidFill>
                <a:latin typeface="Times New Roman"/>
              </a:rPr>
              <a:t> = 0</a:t>
            </a:r>
            <a:r>
              <a:rPr b="1" i="1" lang="en-US" sz="2600" spc="-1" strike="noStrike" baseline="30000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nextslide"/>
            <a:hlinkClick r:id="rId1"/>
          </p:cNvPr>
          <p:cNvSpPr/>
          <p:nvPr/>
        </p:nvSpPr>
        <p:spPr>
          <a:xfrm>
            <a:off x="8001000" y="60199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ff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Kids"/>
              </a:rPr>
              <a:t>Начинаем рассуждать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nextslide"/>
            <a:hlinkClick r:id="rId1"/>
          </p:cNvPr>
          <p:cNvSpPr/>
          <p:nvPr/>
        </p:nvSpPr>
        <p:spPr>
          <a:xfrm>
            <a:off x="8001000" y="60199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ff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5943600"/>
            <a:ext cx="762012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Kids"/>
              </a:rPr>
              <a:t>Приступаем к построению блок-схемы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1981080"/>
            <a:ext cx="586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Book Antiqua"/>
              </a:rPr>
              <a:t>Все было бы просто, если бы не ДИСКРИМИНАНТ. Из него придется извлекать квадратный корень. Значит, он не может принимать отрицательные значения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14200"/>
            <a:ext cx="2390760" cy="66438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7b5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9680" y="214200"/>
            <a:ext cx="225432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ff00"/>
                </a:solidFill>
                <a:latin typeface="Comic Sans MS"/>
              </a:rPr>
              <a:t>Первый блок – это всегда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1100" spc="-1" strike="noStrike">
                <a:solidFill>
                  <a:srgbClr val="00ff00"/>
                </a:solidFill>
                <a:latin typeface="Comic Sans MS"/>
              </a:rPr>
              <a:t>НАЧАЛО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92680" y="214200"/>
            <a:ext cx="2133360" cy="30492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 algn="ctr"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11560" y="55260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9680" y="714240"/>
            <a:ext cx="19047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ff"/>
                </a:solidFill>
                <a:latin typeface="Comic Sans MS"/>
              </a:rPr>
              <a:t>Стрелки показывают направление перехода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97160" y="858960"/>
            <a:ext cx="1752840" cy="304560"/>
          </a:xfrm>
          <a:prstGeom prst="flowChartInputOutpu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809880" y="1981080"/>
            <a:ext cx="2438280" cy="1294920"/>
            <a:chOff x="3809880" y="1981080"/>
            <a:chExt cx="2438280" cy="1294920"/>
          </a:xfrm>
        </p:grpSpPr>
        <p:grpSp>
          <p:nvGrpSpPr>
            <p:cNvPr id="161" name=""/>
            <p:cNvGrpSpPr/>
            <p:nvPr/>
          </p:nvGrpSpPr>
          <p:grpSpPr>
            <a:xfrm>
              <a:off x="3809880" y="2436840"/>
              <a:ext cx="609480" cy="839160"/>
              <a:chOff x="3809880" y="2436840"/>
              <a:chExt cx="609480" cy="839160"/>
            </a:xfrm>
          </p:grpSpPr>
          <p:sp>
            <p:nvSpPr>
              <p:cNvPr id="162" name=""/>
              <p:cNvSpPr/>
              <p:nvPr/>
            </p:nvSpPr>
            <p:spPr>
              <a:xfrm flipH="1" flipV="1">
                <a:off x="3809880" y="2741760"/>
                <a:ext cx="532800" cy="533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6586" y="21600"/>
                    </a:lnTo>
                    <a:lnTo>
                      <a:pt x="16586" y="3801"/>
                    </a:lnTo>
                    <a:lnTo>
                      <a:pt x="11572" y="3801"/>
                    </a:lnTo>
                    <a:lnTo>
                      <a:pt x="16586" y="0"/>
                    </a:lnTo>
                    <a:lnTo>
                      <a:pt x="21600" y="3801"/>
                    </a:lnTo>
                    <a:lnTo>
                      <a:pt x="16586" y="3801"/>
                    </a:lnTo>
                    <a:lnTo>
                      <a:pt x="16586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886560" y="2436840"/>
                <a:ext cx="5328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Д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343400" y="1981080"/>
              <a:ext cx="1904760" cy="1294920"/>
              <a:chOff x="4343400" y="1981080"/>
              <a:chExt cx="1904760" cy="1294920"/>
            </a:xfrm>
          </p:grpSpPr>
          <p:sp>
            <p:nvSpPr>
              <p:cNvPr id="165" name=""/>
              <p:cNvSpPr/>
              <p:nvPr/>
            </p:nvSpPr>
            <p:spPr>
              <a:xfrm>
                <a:off x="5028840" y="1981080"/>
                <a:ext cx="0" cy="30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343400" y="2285280"/>
                <a:ext cx="1371240" cy="915120"/>
              </a:xfrm>
              <a:prstGeom prst="flowChartDecision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 &lt; 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5714640" y="2436840"/>
                <a:ext cx="533520" cy="839160"/>
                <a:chOff x="5714640" y="2436840"/>
                <a:chExt cx="533520" cy="839160"/>
              </a:xfrm>
            </p:grpSpPr>
            <p:sp>
              <p:nvSpPr>
                <p:cNvPr id="168" name=""/>
                <p:cNvSpPr/>
                <p:nvPr/>
              </p:nvSpPr>
              <p:spPr>
                <a:xfrm flipV="1">
                  <a:off x="5714640" y="2741760"/>
                  <a:ext cx="533520" cy="533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21600"/>
                      </a:moveTo>
                      <a:lnTo>
                        <a:pt x="16586" y="21600"/>
                      </a:lnTo>
                      <a:lnTo>
                        <a:pt x="16586" y="5007"/>
                      </a:lnTo>
                      <a:lnTo>
                        <a:pt x="11572" y="5007"/>
                      </a:lnTo>
                      <a:lnTo>
                        <a:pt x="16586" y="0"/>
                      </a:lnTo>
                      <a:lnTo>
                        <a:pt x="21600" y="5007"/>
                      </a:lnTo>
                      <a:lnTo>
                        <a:pt x="16586" y="5007"/>
                      </a:lnTo>
                      <a:lnTo>
                        <a:pt x="16586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714640" y="2436840"/>
                  <a:ext cx="53352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НЕ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"/>
          <p:cNvSpPr/>
          <p:nvPr/>
        </p:nvSpPr>
        <p:spPr>
          <a:xfrm>
            <a:off x="5257800" y="5181480"/>
            <a:ext cx="1752480" cy="393840"/>
          </a:xfrm>
          <a:prstGeom prst="flowChartInputOutpu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6095880"/>
            <a:ext cx="2135160" cy="30492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 algn="ctr"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9680" y="1216080"/>
            <a:ext cx="1776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ff00"/>
                </a:solidFill>
                <a:latin typeface="Comic Sans MS"/>
              </a:rPr>
              <a:t>Вводим значения </a:t>
            </a:r>
            <a:r>
              <a:rPr b="0" lang="en-US" sz="1100" spc="-1" strike="noStrike">
                <a:solidFill>
                  <a:srgbClr val="00ff00"/>
                </a:solidFill>
                <a:latin typeface="Comic Sans MS"/>
              </a:rPr>
              <a:t>a, b,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2362320"/>
            <a:ext cx="17766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ff00"/>
                </a:solidFill>
                <a:latin typeface="Comic Sans MS"/>
              </a:rPr>
              <a:t>Проверяем -  </a:t>
            </a:r>
            <a:r>
              <a:rPr b="0" lang="en-US" sz="1100" spc="-1" strike="noStrike">
                <a:solidFill>
                  <a:srgbClr val="00ff00"/>
                </a:solidFill>
                <a:latin typeface="Comic Sans MS"/>
              </a:rPr>
              <a:t>D</a:t>
            </a:r>
            <a:r>
              <a:rPr b="0" lang="ru-RU" sz="11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1100" spc="-1" strike="noStrike">
                <a:solidFill>
                  <a:srgbClr val="00ff00"/>
                </a:solidFill>
                <a:latin typeface="Comic Sans MS"/>
              </a:rPr>
              <a:t>&lt; 0 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2590920"/>
            <a:ext cx="191304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Comic Sans MS"/>
              </a:rPr>
              <a:t>Если</a:t>
            </a:r>
            <a:r>
              <a:rPr b="0" lang="en-US" sz="1100" spc="-1" strike="noStrike">
                <a:solidFill>
                  <a:srgbClr val="00ff00"/>
                </a:solidFill>
                <a:latin typeface="Comic Sans MS"/>
              </a:rPr>
              <a:t> ДА, </a:t>
            </a:r>
            <a:r>
              <a:rPr b="0" lang="en-US" sz="1100" spc="-1" strike="noStrike">
                <a:solidFill>
                  <a:srgbClr val="ff0000"/>
                </a:solidFill>
                <a:latin typeface="Comic Sans MS"/>
              </a:rPr>
              <a:t>то</a:t>
            </a:r>
            <a:r>
              <a:rPr b="0" lang="en-US" sz="1100" spc="-1" strike="noStrike">
                <a:solidFill>
                  <a:srgbClr val="00ff00"/>
                </a:solidFill>
                <a:latin typeface="Comic Sans MS"/>
              </a:rPr>
              <a:t> выводим «Решений нет», </a:t>
            </a:r>
            <a:r>
              <a:rPr b="0" lang="en-US" sz="1100" spc="-1" strike="noStrike">
                <a:solidFill>
                  <a:srgbClr val="ff0000"/>
                </a:solidFill>
                <a:latin typeface="Comic Sans MS"/>
              </a:rPr>
              <a:t>иначе</a:t>
            </a:r>
            <a:r>
              <a:rPr b="0" lang="en-US" sz="1100" spc="-1" strike="noStrike">
                <a:solidFill>
                  <a:srgbClr val="00ff00"/>
                </a:solidFill>
                <a:latin typeface="Comic Sans MS"/>
              </a:rPr>
              <a:t> (стрелка НЕТ)…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3276720"/>
            <a:ext cx="20494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ff00"/>
                </a:solidFill>
                <a:latin typeface="Comic Sans MS"/>
              </a:rPr>
              <a:t>Присваиваем </a:t>
            </a:r>
            <a:r>
              <a:rPr b="0" lang="en-US" sz="1100" spc="-1" strike="noStrike">
                <a:solidFill>
                  <a:srgbClr val="00ff00"/>
                </a:solidFill>
                <a:latin typeface="Comic Sans MS"/>
              </a:rPr>
              <a:t>X1</a:t>
            </a:r>
            <a:r>
              <a:rPr b="0" lang="ru-RU" sz="1100" spc="-1" strike="noStrike">
                <a:solidFill>
                  <a:srgbClr val="00ff00"/>
                </a:solidFill>
                <a:latin typeface="Comic Sans MS"/>
              </a:rPr>
              <a:t> значение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5486400"/>
            <a:ext cx="2057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ff00"/>
                </a:solidFill>
                <a:latin typeface="Comic Sans MS"/>
              </a:rPr>
              <a:t>Выводим значения </a:t>
            </a:r>
            <a:r>
              <a:rPr b="0" lang="en-US" sz="1100" spc="-1" strike="noStrike">
                <a:solidFill>
                  <a:srgbClr val="00ff00"/>
                </a:solidFill>
                <a:latin typeface="Comic Sans MS"/>
              </a:rPr>
              <a:t>x1, x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6019920"/>
            <a:ext cx="1776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ff00"/>
                </a:solidFill>
                <a:latin typeface="Comic Sans MS"/>
              </a:rPr>
              <a:t>В любом случае </a:t>
            </a:r>
            <a:r>
              <a:rPr b="0" lang="en-US" sz="1100" spc="-1" strike="noStrike">
                <a:solidFill>
                  <a:srgbClr val="00ff00"/>
                </a:solidFill>
                <a:latin typeface="Comic Sans MS"/>
              </a:rPr>
              <a:t>– </a:t>
            </a:r>
            <a:r>
              <a:rPr b="0" lang="ru-RU" sz="1100" spc="-1" strike="noStrike">
                <a:solidFill>
                  <a:srgbClr val="00ff00"/>
                </a:solidFill>
                <a:latin typeface="Comic Sans MS"/>
              </a:rPr>
              <a:t>КОНЕЦ!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6080" y="714240"/>
            <a:ext cx="184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6080" y="1144440"/>
            <a:ext cx="184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1447920"/>
            <a:ext cx="184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3200400"/>
            <a:ext cx="184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4191120"/>
            <a:ext cx="184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0520" y="5919840"/>
            <a:ext cx="184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5270400"/>
            <a:ext cx="184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24480" y="571680"/>
            <a:ext cx="234792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bX + c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467560" y="5864400"/>
            <a:ext cx="478080" cy="714240"/>
          </a:xfrm>
          <a:custGeom>
            <a:avLst/>
            <a:gdLst>
              <a:gd name="textAreaLeft" fmla="*/ 30960 w 478080"/>
              <a:gd name="textAreaRight" fmla="*/ 447120 w 478080"/>
              <a:gd name="textAreaTop" fmla="*/ 30960 h 714240"/>
              <a:gd name="textAreaBottom" fmla="*/ 683280 h 714240"/>
            </a:gdLst>
            <a:ahLst/>
            <a:rect l="textAreaLeft" t="textAreaTop" r="textAreaRight" b="textAreaBottom"/>
            <a:pathLst>
              <a:path w="21600" h="32262">
                <a:moveTo>
                  <a:pt x="0" y="0"/>
                </a:moveTo>
                <a:lnTo>
                  <a:pt x="21600" y="0"/>
                </a:lnTo>
                <a:lnTo>
                  <a:pt x="21600" y="32262"/>
                </a:lnTo>
                <a:lnTo>
                  <a:pt x="0" y="32262"/>
                </a:lnTo>
                <a:close/>
              </a:path>
              <a:path fill="lightenLess" w="21600" h="322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262">
                <a:moveTo>
                  <a:pt x="21600" y="0"/>
                </a:moveTo>
                <a:lnTo>
                  <a:pt x="21600" y="32262"/>
                </a:lnTo>
                <a:lnTo>
                  <a:pt x="20200" y="30862"/>
                </a:lnTo>
                <a:lnTo>
                  <a:pt x="20200" y="1400"/>
                </a:lnTo>
                <a:close/>
              </a:path>
              <a:path fill="darkenLess" w="21600" h="32262">
                <a:moveTo>
                  <a:pt x="21600" y="32262"/>
                </a:moveTo>
                <a:lnTo>
                  <a:pt x="0" y="32262"/>
                </a:lnTo>
                <a:lnTo>
                  <a:pt x="1400" y="30862"/>
                </a:lnTo>
                <a:lnTo>
                  <a:pt x="20200" y="30862"/>
                </a:lnTo>
                <a:close/>
              </a:path>
              <a:path fill="lighten" w="21600" h="32262">
                <a:moveTo>
                  <a:pt x="0" y="32262"/>
                </a:moveTo>
                <a:lnTo>
                  <a:pt x="0" y="0"/>
                </a:lnTo>
                <a:lnTo>
                  <a:pt x="1400" y="1400"/>
                </a:lnTo>
                <a:lnTo>
                  <a:pt x="1400" y="30862"/>
                </a:lnTo>
                <a:close/>
              </a:path>
              <a:path fill="darken" w="21600" h="32262">
                <a:moveTo>
                  <a:pt x="10800" y="9168"/>
                </a:moveTo>
                <a:lnTo>
                  <a:pt x="13376" y="11779"/>
                </a:lnTo>
                <a:lnTo>
                  <a:pt x="13376" y="10038"/>
                </a:lnTo>
                <a:lnTo>
                  <a:pt x="15152" y="10038"/>
                </a:lnTo>
                <a:lnTo>
                  <a:pt x="15152" y="13555"/>
                </a:lnTo>
                <a:lnTo>
                  <a:pt x="17763" y="16131"/>
                </a:lnTo>
                <a:lnTo>
                  <a:pt x="16109" y="16131"/>
                </a:lnTo>
                <a:lnTo>
                  <a:pt x="16109" y="23320"/>
                </a:lnTo>
                <a:lnTo>
                  <a:pt x="5491" y="23320"/>
                </a:lnTo>
                <a:lnTo>
                  <a:pt x="5491" y="16131"/>
                </a:lnTo>
                <a:lnTo>
                  <a:pt x="3837" y="16131"/>
                </a:lnTo>
                <a:close/>
              </a:path>
              <a:path fill="darkenLess" w="21600" h="32262">
                <a:moveTo>
                  <a:pt x="13376" y="11779"/>
                </a:moveTo>
                <a:lnTo>
                  <a:pt x="13376" y="10038"/>
                </a:lnTo>
                <a:lnTo>
                  <a:pt x="15152" y="10038"/>
                </a:lnTo>
                <a:lnTo>
                  <a:pt x="15152" y="13555"/>
                </a:lnTo>
                <a:close/>
              </a:path>
              <a:path fill="darkenLess" w="21600" h="32262">
                <a:moveTo>
                  <a:pt x="9877" y="19630"/>
                </a:moveTo>
                <a:lnTo>
                  <a:pt x="11723" y="19630"/>
                </a:lnTo>
                <a:lnTo>
                  <a:pt x="11723" y="23320"/>
                </a:lnTo>
                <a:lnTo>
                  <a:pt x="16109" y="23320"/>
                </a:lnTo>
                <a:lnTo>
                  <a:pt x="16109" y="16131"/>
                </a:lnTo>
                <a:lnTo>
                  <a:pt x="5491" y="16131"/>
                </a:lnTo>
                <a:lnTo>
                  <a:pt x="5491" y="23320"/>
                </a:lnTo>
                <a:lnTo>
                  <a:pt x="9877" y="23320"/>
                </a:lnTo>
                <a:close/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ff66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114800" y="1168560"/>
            <a:ext cx="1752480" cy="812520"/>
            <a:chOff x="4114800" y="1168560"/>
            <a:chExt cx="1752480" cy="812520"/>
          </a:xfrm>
        </p:grpSpPr>
        <p:sp>
          <p:nvSpPr>
            <p:cNvPr id="188" name=""/>
            <p:cNvSpPr/>
            <p:nvPr/>
          </p:nvSpPr>
          <p:spPr>
            <a:xfrm>
              <a:off x="5016600" y="116856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14800" y="1473120"/>
              <a:ext cx="1752480" cy="507960"/>
            </a:xfrm>
            <a:prstGeom prst="flowChartProcess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 = b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4ac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895480" y="3276720"/>
            <a:ext cx="1905120" cy="393480"/>
          </a:xfrm>
          <a:prstGeom prst="flowChartInputOutpu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ешений н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410080" y="3276720"/>
            <a:ext cx="1600200" cy="914400"/>
            <a:chOff x="5410080" y="3276720"/>
            <a:chExt cx="1600200" cy="914400"/>
          </a:xfrm>
        </p:grpSpPr>
        <p:grpSp>
          <p:nvGrpSpPr>
            <p:cNvPr id="192" name=""/>
            <p:cNvGrpSpPr/>
            <p:nvPr/>
          </p:nvGrpSpPr>
          <p:grpSpPr>
            <a:xfrm>
              <a:off x="5410080" y="3276720"/>
              <a:ext cx="1600200" cy="687960"/>
              <a:chOff x="5410080" y="3276720"/>
              <a:chExt cx="1600200" cy="687960"/>
            </a:xfrm>
          </p:grpSpPr>
          <p:sp>
            <p:nvSpPr>
              <p:cNvPr id="193" name=""/>
              <p:cNvSpPr/>
              <p:nvPr/>
            </p:nvSpPr>
            <p:spPr>
              <a:xfrm>
                <a:off x="5410080" y="3276720"/>
                <a:ext cx="1600200" cy="684000"/>
              </a:xfrm>
              <a:prstGeom prst="flowChartProcess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4" name=""/>
              <p:cNvGrpSpPr/>
              <p:nvPr/>
            </p:nvGrpSpPr>
            <p:grpSpPr>
              <a:xfrm>
                <a:off x="5486040" y="3352680"/>
                <a:ext cx="1219320" cy="612000"/>
                <a:chOff x="5486040" y="3352680"/>
                <a:chExt cx="1219320" cy="6120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6019560" y="3352680"/>
                  <a:ext cx="685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-b+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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486040" y="3505320"/>
                  <a:ext cx="68580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6019560" y="3657600"/>
                  <a:ext cx="685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2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6019560" y="365760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9" name=""/>
            <p:cNvSpPr/>
            <p:nvPr/>
          </p:nvSpPr>
          <p:spPr>
            <a:xfrm>
              <a:off x="617220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410080" y="4191120"/>
            <a:ext cx="1600200" cy="990360"/>
            <a:chOff x="5410080" y="4191120"/>
            <a:chExt cx="1600200" cy="990360"/>
          </a:xfrm>
        </p:grpSpPr>
        <p:grpSp>
          <p:nvGrpSpPr>
            <p:cNvPr id="201" name=""/>
            <p:cNvGrpSpPr/>
            <p:nvPr/>
          </p:nvGrpSpPr>
          <p:grpSpPr>
            <a:xfrm>
              <a:off x="5410080" y="4191120"/>
              <a:ext cx="1600200" cy="687600"/>
              <a:chOff x="5410080" y="4191120"/>
              <a:chExt cx="1600200" cy="687600"/>
            </a:xfrm>
          </p:grpSpPr>
          <p:sp>
            <p:nvSpPr>
              <p:cNvPr id="202" name=""/>
              <p:cNvSpPr/>
              <p:nvPr/>
            </p:nvSpPr>
            <p:spPr>
              <a:xfrm>
                <a:off x="5410080" y="4191120"/>
                <a:ext cx="1600200" cy="684000"/>
              </a:xfrm>
              <a:prstGeom prst="flowChartProcess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3" name=""/>
              <p:cNvGrpSpPr/>
              <p:nvPr/>
            </p:nvGrpSpPr>
            <p:grpSpPr>
              <a:xfrm>
                <a:off x="5486400" y="4267080"/>
                <a:ext cx="1218960" cy="611640"/>
                <a:chOff x="5486400" y="4267080"/>
                <a:chExt cx="1218960" cy="61164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6019560" y="4267080"/>
                  <a:ext cx="685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-b -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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486400" y="4419360"/>
                  <a:ext cx="68580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019560" y="4571640"/>
                  <a:ext cx="685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2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019560" y="457164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8" name=""/>
            <p:cNvSpPr/>
            <p:nvPr/>
          </p:nvSpPr>
          <p:spPr>
            <a:xfrm>
              <a:off x="6172200" y="4876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3695760" y="3657600"/>
            <a:ext cx="2552760" cy="2438280"/>
            <a:chOff x="3695760" y="3657600"/>
            <a:chExt cx="2552760" cy="2438280"/>
          </a:xfrm>
        </p:grpSpPr>
        <p:sp>
          <p:nvSpPr>
            <p:cNvPr id="210" name=""/>
            <p:cNvSpPr/>
            <p:nvPr/>
          </p:nvSpPr>
          <p:spPr>
            <a:xfrm rot="16200000">
              <a:off x="4819680" y="4438440"/>
              <a:ext cx="304560" cy="2552760"/>
            </a:xfrm>
            <a:custGeom>
              <a:avLst/>
              <a:gdLst>
                <a:gd name="textAreaLeft" fmla="*/ 89640 w 304560"/>
                <a:gd name="textAreaRight" fmla="*/ 304920 w 304560"/>
                <a:gd name="textAreaTop" fmla="*/ 0 h 2552760"/>
                <a:gd name="textAreaBottom" fmla="*/ 2552760 h 255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0"/>
                    <a:pt x="0" y="0"/>
                  </a:cubicBezTo>
                  <a:lnTo>
                    <a:pt x="0" y="21600"/>
                  </a:lnTo>
                  <a:cubicBezTo>
                    <a:pt x="0" y="216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3695760" y="36576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52880" y="5867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914400" y="3809880"/>
            <a:ext cx="4572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ff00"/>
                </a:solidFill>
                <a:latin typeface="Comic Sans MS"/>
              </a:rPr>
              <a:t>2</a:t>
            </a:r>
            <a:r>
              <a:rPr b="0" lang="en-US" sz="1100" spc="-1" strike="noStrike">
                <a:solidFill>
                  <a:srgbClr val="00ff00"/>
                </a:solidFill>
                <a:latin typeface="Comic Sans MS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838080" y="3581280"/>
            <a:ext cx="685800" cy="259200"/>
            <a:chOff x="838080" y="3581280"/>
            <a:chExt cx="685800" cy="259200"/>
          </a:xfrm>
        </p:grpSpPr>
        <p:sp>
          <p:nvSpPr>
            <p:cNvPr id="215" name=""/>
            <p:cNvSpPr/>
            <p:nvPr/>
          </p:nvSpPr>
          <p:spPr>
            <a:xfrm>
              <a:off x="838080" y="3581280"/>
              <a:ext cx="68580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Comic Sans MS"/>
                </a:rPr>
                <a:t>-b+</a:t>
              </a:r>
              <a:r>
                <a:rPr b="0" lang="en-US" sz="11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</a:t>
              </a:r>
              <a:r>
                <a:rPr b="0" lang="en-US" sz="1100" spc="-1" strike="noStrike">
                  <a:solidFill>
                    <a:srgbClr val="00ff00"/>
                  </a:solidFill>
                  <a:latin typeface="Comic Sans MS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14040" y="3809880"/>
              <a:ext cx="4572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380880" y="4267080"/>
            <a:ext cx="20494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ff00"/>
                </a:solidFill>
                <a:latin typeface="Comic Sans MS"/>
              </a:rPr>
              <a:t>Присваиваем </a:t>
            </a:r>
            <a:r>
              <a:rPr b="0" lang="en-US" sz="1100" spc="-1" strike="noStrike">
                <a:solidFill>
                  <a:srgbClr val="00ff00"/>
                </a:solidFill>
                <a:latin typeface="Comic Sans MS"/>
              </a:rPr>
              <a:t>X2</a:t>
            </a:r>
            <a:r>
              <a:rPr b="0" lang="ru-RU" sz="1100" spc="-1" strike="noStrike">
                <a:solidFill>
                  <a:srgbClr val="00ff00"/>
                </a:solidFill>
                <a:latin typeface="Comic Sans MS"/>
              </a:rPr>
              <a:t> значение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838080" y="4495680"/>
            <a:ext cx="685800" cy="259200"/>
            <a:chOff x="838080" y="4495680"/>
            <a:chExt cx="685800" cy="259200"/>
          </a:xfrm>
        </p:grpSpPr>
        <p:sp>
          <p:nvSpPr>
            <p:cNvPr id="219" name=""/>
            <p:cNvSpPr/>
            <p:nvPr/>
          </p:nvSpPr>
          <p:spPr>
            <a:xfrm>
              <a:off x="838080" y="4495680"/>
              <a:ext cx="68580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Comic Sans MS"/>
                </a:rPr>
                <a:t>-b -</a:t>
              </a:r>
              <a:r>
                <a:rPr b="0" lang="en-US" sz="11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</a:t>
              </a:r>
              <a:r>
                <a:rPr b="0" lang="en-US" sz="1100" spc="-1" strike="noStrike">
                  <a:solidFill>
                    <a:srgbClr val="00ff00"/>
                  </a:solidFill>
                  <a:latin typeface="Comic Sans MS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14040" y="4724280"/>
              <a:ext cx="4572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990720" y="4876920"/>
            <a:ext cx="4572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ff00"/>
                </a:solidFill>
                <a:latin typeface="Comic Sans MS"/>
              </a:rPr>
              <a:t>2</a:t>
            </a:r>
            <a:r>
              <a:rPr b="0" lang="en-US" sz="1100" spc="-1" strike="noStrike">
                <a:solidFill>
                  <a:srgbClr val="00ff00"/>
                </a:solidFill>
                <a:latin typeface="Comic Sans MS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8080" y="3809880"/>
            <a:ext cx="533520" cy="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4800600"/>
            <a:ext cx="533520" cy="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1523880"/>
            <a:ext cx="204948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ff00"/>
                </a:solidFill>
                <a:latin typeface="Comic Sans MS"/>
              </a:rPr>
              <a:t>Присваиваем </a:t>
            </a:r>
            <a:r>
              <a:rPr b="0" lang="en-US" sz="1100" spc="-1" strike="noStrike">
                <a:solidFill>
                  <a:srgbClr val="00ff00"/>
                </a:solidFill>
                <a:latin typeface="Comic Sans MS"/>
              </a:rPr>
              <a:t>D</a:t>
            </a:r>
            <a:r>
              <a:rPr b="0" lang="ru-RU" sz="1100" spc="-1" strike="noStrike">
                <a:solidFill>
                  <a:srgbClr val="00ff00"/>
                </a:solidFill>
                <a:latin typeface="Comic Sans MS"/>
              </a:rPr>
              <a:t> значение </a:t>
            </a:r>
            <a:r>
              <a:rPr b="0" lang="en-US" sz="1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12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ff00"/>
                </a:solidFill>
                <a:latin typeface="Times New Roman"/>
              </a:rPr>
              <a:t> – 4a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4920" y="2209680"/>
            <a:ext cx="184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666880" y="152280"/>
            <a:ext cx="2819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Кабы не было зи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В городах и селах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Никогда б не знали 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Этих дней веселых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1"/>
          </p:cNvPr>
          <p:cNvSpPr/>
          <p:nvPr/>
        </p:nvSpPr>
        <p:spPr>
          <a:xfrm>
            <a:off x="5943600" y="533520"/>
            <a:ext cx="28195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Не кружила б малышн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Возле снежной бабы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Не петляла бы лыжня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Кабы, кабы, кабы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1600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5867280"/>
            <a:ext cx="8534520" cy="581400"/>
          </a:xfrm>
          <a:prstGeom prst="rect">
            <a:avLst/>
          </a:prstGeom>
          <a:noFill/>
          <a:ln w="0">
            <a:noFill/>
          </a:ln>
          <a:effectLst>
            <a:outerShdw dist="89808" dir="49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Составьте блок-схему к этой песенке</a:t>
            </a: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nextslide"/>
          </p:cNvPr>
          <p:cNvSpPr/>
          <p:nvPr/>
        </p:nvSpPr>
        <p:spPr>
          <a:xfrm>
            <a:off x="8305920" y="60199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ff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17:40:26Z</dcterms:created>
  <dc:creator>Илья</dc:creator>
  <dc:description/>
  <dc:language>en-US</dc:language>
  <cp:lastModifiedBy>Илья</cp:lastModifiedBy>
  <cp:lastPrinted>2002-10-31T16:21:27Z</cp:lastPrinted>
  <dcterms:modified xsi:type="dcterms:W3CDTF">2002-12-02T15:22:13Z</dcterms:modified>
  <cp:revision>12</cp:revision>
  <dc:subject/>
  <dc:title>Презентация PowerPoint</dc:title>
</cp:coreProperties>
</file>